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3C8-2002-49FE-B406-FB42D0F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052-0385-4776-9A7C-F14F943B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5BE-2C8C-4E3F-BCD5-69294E9F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EE0-A81E-40F1-930D-BEA98945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57E-9C28-4E1F-843C-B186CC1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D02-26C1-4BBD-A7D4-7A8D3B9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747-1B02-4179-BDB6-9E88105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F99-BFF3-4693-8C51-C5504E5E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ED9-2741-4A11-B02E-D4144F2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D2B-BD0A-472A-966C-4E3AAB7C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3AC-65D9-4134-9ED5-8FC12C3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6DA-07C2-40AF-ADD1-DFCC0BA0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38C-D9E1-4F05-AF28-40AF3BE1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78160" y="1066680"/>
            <a:ext cx="4486320" cy="5562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2362320" cy="176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2320" y="1522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«Огор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7760" y="152280"/>
            <a:ext cx="528624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3476520"/>
            <a:ext cx="2362320" cy="176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1371600" cy="128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14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52480" y="685800"/>
            <a:ext cx="60012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 flipH="1" rot="20510400">
            <a:off x="1544760" y="4403880"/>
            <a:ext cx="1042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37567E-006 L -3.33333E-006 0.2142 C -3.33333E-006 0.30997 0.17674 0.4284 0.32084 0.4284 L 0.64167 0.4284 E">
                                      <p:cBhvr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8189 C 0.01406 0.10965 0.0375 0.14643 0.08159 0.12399 C 0.14531 0.09253 0.11059 -0.05158 0.18611 -0.08929 C 0.25468 -0.12306 0.25225 0.01897 0.31823 -0.01388 C 0.38698 -0.04765 0.32517 -0.11959 0.39861 -0.15568 C 0.46423 -0.18783 0.44461 -0.10941 0.50295 -0.13787 C 0.55989 -0.16586 0.51753 -0.19778 0.56875 -0.22299 C 0.59826 -0.23734 0.60416 -0.22577 0.6092 -0.21744 E">
                                      <p:cBhvr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0749E-006 L 0.45833 0.36641 E">
                                      <p:cBhvr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3 0.08882 L 0.47726 -0.16656 E">
                                      <p:cBhvr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енко Сергей</cp:lastModifiedBy>
  <dcterms:modified xsi:type="dcterms:W3CDTF">2013-09-23T08:33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