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0088-0ACA-4112-86F8-BB92DB5007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EA7E-E302-4233-8F4D-F997F0AE1D5C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A5AF-31DD-4A02-A66F-F80F6140C0ED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1D7C-FBAA-479F-A442-5B98413E1DDD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7AE3-C166-4C16-A535-664ED0005D64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991B-E9E1-452B-A806-3038E2D854E8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BE0A-D2F3-4BF7-97AC-3D7F54E26FA9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9819-96C1-42B4-884D-D71A85FB19E5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951C-097E-4AC2-8214-F07DB0F39358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9580-7D8D-4DC7-9C76-A433237C7212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3220-25F4-464B-9E81-1FE0C9C0900F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4F86-6611-4CDC-8334-13A37C10F74D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A49D-4B13-4B8A-A908-F5203C8AF5C5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8D52-67D6-4A88-AC58-DA66676E6BAD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54BD-6BB7-4BB8-8CE4-F397C413F075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1FC-6E3C-4446-9E57-BBB7DA0E1E4F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DE5D-4BD3-4DBD-8DA4-EB84F5E202AF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AAB5-A57E-4D06-9471-4B1E3E17D871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878B-A62E-49D1-81AF-2805537DF6AF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1FA7-D2E2-42A1-B554-297C77629922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F197-2B83-4155-BDDF-069A947BB847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C99-E9CF-42E2-A90A-D17F9B48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B4C-B0F2-480D-957D-6EFAFF71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196-3409-4E02-A73C-37C870C1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FA5-C2DE-4EF4-84B0-76AECF81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6089-9BC1-4CC1-BC55-4EFABCD8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3A38-FE57-42D1-BF5D-3A6FEF74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33F9-4586-4928-B16D-4A41459E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7C5A-5C33-4264-8065-A3DA75A4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99A6-B2D2-4A17-A3A5-1FF2AA0B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1572-C5DF-4A51-BEE5-8D7DD96D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35E6-0226-4464-8008-6AA656C5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B04-7312-4F21-857F-D57A656B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2BC3-E7F4-45D8-B5DA-237AF37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EA23-A111-4E01-8D4A-825BCE03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7B5F-D1D0-4356-820A-0FC5B98D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4BF1-97B1-4850-8A4F-6508FB3C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5A24-B013-4662-ABA7-EA1094C3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125-DAF0-407F-A8D6-21306747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D8A-1C9A-40FD-A785-9BF80640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DBB-AC08-4831-973E-109769CC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938-BB78-487A-847D-439F4911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201-420E-421B-A3B9-6C211CA5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C1E-6C3E-4BA6-90F1-6C54D3EC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72F-EFCB-443C-986B-D2B4D04B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9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bf997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fbf9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fbf9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fbf9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fbf9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f9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f9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fbf9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bf997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fbf99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bf997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fbf99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B014-913D-4D30-B7FA-D69B50AA49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9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bf997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fbf9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fbf9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fbf9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fbf9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f9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f9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fbf9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bf997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fbf99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bf997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fbf99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0ABB-6D95-4C1A-B0C1-7AF22B1CC5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47640" y="1844640"/>
            <a:ext cx="5832720" cy="216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22306"/>
                </a:solidFill>
                <a:latin typeface="Informal Roman"/>
              </a:rPr>
              <a:t>Математика стран Древнего Востока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9" name="Подзаголовок 2"/>
          <p:cNvSpPr/>
          <p:nvPr/>
        </p:nvSpPr>
        <p:spPr>
          <a:xfrm>
            <a:off x="2786040" y="214200"/>
            <a:ext cx="60008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22306"/>
                </a:solidFill>
                <a:latin typeface="Arial"/>
              </a:rPr>
              <a:t>Муниципальное образовательное учреждение «Средняя общеобразовательная школа № 32 с углублённым изучением предметов эстетического цикла»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Подзаголовок 2"/>
          <p:cNvSpPr/>
          <p:nvPr/>
        </p:nvSpPr>
        <p:spPr>
          <a:xfrm>
            <a:off x="4929120" y="5357880"/>
            <a:ext cx="3857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2306"/>
                </a:solidFill>
                <a:latin typeface="Monotype Corsiva"/>
              </a:rPr>
              <a:t>Руководитель: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22306"/>
                </a:solidFill>
                <a:latin typeface="Arial"/>
              </a:rPr>
              <a:t>Дюндик Вера Петровна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22306"/>
                </a:solidFill>
                <a:latin typeface="Monotype Corsiva"/>
              </a:rPr>
              <a:t>учитель математики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755721"/>
                </a:solidFill>
                <a:uFillTx/>
                <a:latin typeface="Arial"/>
              </a:rPr>
              <a:t>                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56760" y="4357440"/>
            <a:ext cx="57452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22306"/>
                </a:solidFill>
                <a:latin typeface="Monotype Corsiva"/>
              </a:rPr>
              <a:t>Автор</a:t>
            </a:r>
            <a:r>
              <a:rPr b="1" i="1" lang="ru-RU" sz="2000" spc="-1" strike="noStrike">
                <a:solidFill>
                  <a:srgbClr val="522306"/>
                </a:solidFill>
                <a:latin typeface="Arial"/>
              </a:rPr>
              <a:t>: </a:t>
            </a:r>
            <a:r>
              <a:rPr b="1" i="1" lang="ru-RU" sz="2000" spc="-1" strike="noStrike">
                <a:solidFill>
                  <a:srgbClr val="522306"/>
                </a:solidFill>
                <a:latin typeface="Monotype Corsiva"/>
              </a:rPr>
              <a:t>ученица 9 «Б»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22306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522306"/>
                </a:solidFill>
                <a:latin typeface="Arial"/>
              </a:rPr>
              <a:t>Трапезникова Екат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1187280" y="1844640"/>
            <a:ext cx="669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22306"/>
                </a:solidFill>
                <a:latin typeface="Informal Roman"/>
              </a:rPr>
              <a:t>Геометрия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22306"/>
                </a:solidFill>
                <a:latin typeface="Informal Roman"/>
              </a:rPr>
              <a:t>страны пирамид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2627280" y="260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522306"/>
                </a:solidFill>
                <a:latin typeface="Informal Roman"/>
              </a:rPr>
              <a:t>Число </a:t>
            </a:r>
            <a:r>
              <a:rPr b="0" i="1" lang="el-GR" sz="7200" spc="-1" strike="noStrike">
                <a:solidFill>
                  <a:srgbClr val="522306"/>
                </a:solidFill>
                <a:latin typeface="Informal Roman"/>
                <a:ea typeface="Arial"/>
              </a:rPr>
              <a:t>π</a:t>
            </a:r>
            <a:r>
              <a:rPr b="0" i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476360" y="1773360"/>
            <a:ext cx="604836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Важным достижением геометрической науки египтян было очень хорошее приближение числа </a:t>
            </a:r>
            <a:r>
              <a:rPr b="1" i="1" lang="el-GR" sz="2400" spc="-1" strike="noStrike">
                <a:solidFill>
                  <a:srgbClr val="ffcc00"/>
                </a:solidFill>
                <a:latin typeface="Script MT Bold"/>
              </a:rPr>
              <a:t>π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, которое получается из формулы площади круга диаметра 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d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S=(d - 1/9d)</a:t>
            </a:r>
            <a:r>
              <a:rPr b="1" i="1" lang="en-US" sz="2400" spc="-1" strike="noStrike" baseline="30000">
                <a:solidFill>
                  <a:srgbClr val="ffcc00"/>
                </a:solidFill>
                <a:latin typeface="Script MT Bold"/>
              </a:rPr>
              <a:t>2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=(1-1/9)</a:t>
            </a:r>
            <a:r>
              <a:rPr b="1" i="1" lang="en-US" sz="2400" spc="-1" strike="noStrike" baseline="30000">
                <a:solidFill>
                  <a:srgbClr val="ffcc00"/>
                </a:solidFill>
                <a:latin typeface="Script MT Bold"/>
              </a:rPr>
              <a:t>2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d</a:t>
            </a:r>
            <a:r>
              <a:rPr b="1" i="1" lang="en-US" sz="2400" spc="-1" strike="noStrike" baseline="30000">
                <a:solidFill>
                  <a:srgbClr val="ffcc00"/>
                </a:solidFill>
                <a:latin typeface="Script MT Bold"/>
              </a:rPr>
              <a:t>2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Этому правилу из 50-й задачи папируса Райнда соответствует значение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cc00"/>
                </a:solidFill>
                <a:latin typeface="Script MT Bold"/>
              </a:rPr>
              <a:t>π</a:t>
            </a: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 = 4(8/9)</a:t>
            </a:r>
            <a:r>
              <a:rPr b="1" i="1" lang="ru-RU" sz="18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cc00"/>
                </a:solidFill>
                <a:latin typeface="Arial"/>
                <a:ea typeface="Arial"/>
              </a:rPr>
              <a:t>≈ 3,160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826920" y="333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22306"/>
                </a:solidFill>
                <a:latin typeface="Informal Roman"/>
              </a:rPr>
              <a:t>Объё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522306"/>
                </a:solidFill>
                <a:latin typeface="Informal Roman"/>
              </a:rPr>
              <a:t>усечённой пирамиды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116000" y="1484280"/>
            <a:ext cx="633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Кроме объёмов куба, параллелепипеда, призмы и цилиндра, египтяне умели вычислять объём усечённой пирамиды , в основаниях которой лежат квадраты со сторонами 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a 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и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 b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, а высота равна 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h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. Они применяли формулу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8" name="Picture 6" descr="1182867107_28062007_pic3"/>
          <p:cNvPicPr/>
          <p:nvPr/>
        </p:nvPicPr>
        <p:blipFill>
          <a:blip r:embed="rId1"/>
          <a:stretch/>
        </p:blipFill>
        <p:spPr>
          <a:xfrm>
            <a:off x="5796000" y="4457880"/>
            <a:ext cx="3205080" cy="2400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yc"/>
          <p:cNvPicPr/>
          <p:nvPr/>
        </p:nvPicPr>
        <p:blipFill>
          <a:blip r:embed="rId2"/>
          <a:stretch/>
        </p:blipFill>
        <p:spPr>
          <a:xfrm>
            <a:off x="0" y="4292640"/>
            <a:ext cx="2063880" cy="256536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12"/>
          <p:cNvGrpSpPr/>
          <p:nvPr/>
        </p:nvGrpSpPr>
        <p:grpSpPr>
          <a:xfrm>
            <a:off x="2340000" y="4581360"/>
            <a:ext cx="2879640" cy="1818000"/>
            <a:chOff x="2340000" y="4581360"/>
            <a:chExt cx="2879640" cy="1818000"/>
          </a:xfrm>
        </p:grpSpPr>
        <p:sp>
          <p:nvSpPr>
            <p:cNvPr id="251" name="Text Box 8"/>
            <p:cNvSpPr/>
            <p:nvPr/>
          </p:nvSpPr>
          <p:spPr>
            <a:xfrm>
              <a:off x="3059280" y="4581360"/>
              <a:ext cx="216036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cc00"/>
                  </a:solidFill>
                  <a:latin typeface="Script MT Bold"/>
                </a:rPr>
                <a:t>(</a:t>
              </a:r>
              <a:r>
                <a:rPr b="1" i="1" lang="en-US" sz="2800" spc="-1" strike="noStrike">
                  <a:solidFill>
                    <a:srgbClr val="ffcc00"/>
                  </a:solidFill>
                  <a:latin typeface="Script MT Bold"/>
                </a:rPr>
                <a:t>a</a:t>
              </a:r>
              <a:r>
                <a:rPr b="1" i="1" lang="en-US" sz="2800" spc="-1" strike="noStrike" baseline="30000">
                  <a:solidFill>
                    <a:srgbClr val="ffcc00"/>
                  </a:solidFill>
                  <a:latin typeface="Script MT Bold"/>
                </a:rPr>
                <a:t>2</a:t>
              </a:r>
              <a:r>
                <a:rPr b="1" i="1" lang="en-US" sz="2800" spc="-1" strike="noStrike">
                  <a:solidFill>
                    <a:srgbClr val="ffcc00"/>
                  </a:solidFill>
                  <a:latin typeface="Script MT Bold"/>
                </a:rPr>
                <a:t>+ab+b</a:t>
              </a:r>
              <a:r>
                <a:rPr b="1" i="1" lang="en-US" sz="2800" spc="-1" strike="noStrike" baseline="30000">
                  <a:solidFill>
                    <a:srgbClr val="ffcc00"/>
                  </a:solidFill>
                  <a:latin typeface="Script MT Bold"/>
                </a:rPr>
                <a:t>2</a:t>
              </a:r>
              <a:r>
                <a:rPr b="1" i="1" lang="en-US" sz="2800" spc="-1" strike="noStrike">
                  <a:solidFill>
                    <a:srgbClr val="ffcc00"/>
                  </a:solidFill>
                  <a:latin typeface="Script MT Bold"/>
                </a:rPr>
                <a:t>)h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cc00"/>
                  </a:solidFill>
                  <a:latin typeface="Script MT Bold"/>
                </a:rPr>
                <a:t>3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2" name="Line 10"/>
            <p:cNvSpPr/>
            <p:nvPr/>
          </p:nvSpPr>
          <p:spPr>
            <a:xfrm>
              <a:off x="3276720" y="515772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>
              <a:off x="2340000" y="48690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cc00"/>
                  </a:solidFill>
                  <a:latin typeface="Script MT Bold"/>
                </a:rPr>
                <a:t>V=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3132000" y="260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522306"/>
                </a:solidFill>
                <a:latin typeface="Informal Roman"/>
              </a:rPr>
              <a:t>Вывод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826920" y="1916280"/>
            <a:ext cx="73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Математика в Древнем Египте представляла собой совокупность знаний, между которыми ещё не существовало чётких границ. Это были правила для решения конкретных задач, имеющих практическое значение. И лишь постепенно ,очень и очень медленно они начали обобщаться и принимать более абстрактные черты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020000" y="616572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2306"/>
                </a:solidFill>
                <a:latin typeface="Informal Roman"/>
              </a:rPr>
              <a:t>В начало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Rectangle 7">
            <a:hlinkClick r:id="rId1" action="ppaction://hlinksldjump"/>
          </p:cNvPr>
          <p:cNvSpPr/>
          <p:nvPr/>
        </p:nvSpPr>
        <p:spPr>
          <a:xfrm>
            <a:off x="6732720" y="5950080"/>
            <a:ext cx="172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2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661px-Hammurabi's_Babyloni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3419640" y="2602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22306"/>
                </a:solidFill>
                <a:latin typeface="Informal Roman"/>
              </a:rPr>
              <a:t>Введение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155736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Характерная особенность вавилонской математики – широкое применение различный таблиц. Кроме таблиц умножения, были ещё таблицы квадратов натуральных чисел, кубов, квадратных корней (в шестидесятеричных дробях) и даже таблицы чисел вида 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n3+n2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1" name="Picture 6" descr="pp_1"/>
          <p:cNvPicPr/>
          <p:nvPr/>
        </p:nvPicPr>
        <p:blipFill>
          <a:blip r:embed="rId1"/>
          <a:stretch/>
        </p:blipFill>
        <p:spPr>
          <a:xfrm>
            <a:off x="1979640" y="3789360"/>
            <a:ext cx="4762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1042920" y="1413000"/>
            <a:ext cx="66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Большинство вавилонских задач сводится  решению квадратных уравнений. Искусство их решения достигло высокого уровня в</a:t>
            </a:r>
            <a:r>
              <a:rPr b="1" i="1" lang="el-GR" sz="2400" spc="-1" strike="noStrike">
                <a:solidFill>
                  <a:srgbClr val="ffcc00"/>
                </a:solidFill>
                <a:latin typeface="Script MT Bold"/>
                <a:ea typeface="Arial"/>
              </a:rPr>
              <a:t>Χ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  <a:ea typeface="Arial"/>
              </a:rPr>
              <a:t>Vııı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  <a:ea typeface="Arial"/>
              </a:rPr>
              <a:t> в. до н. э., в эпоху царя Хаммурапи. Обычно в задачах требовалось найти «длину» и «ширину» или «множимое» и «множитель»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0" y="1125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  <a:ea typeface="Arial"/>
              </a:rPr>
              <a:t>Среди вычислительных задач встречаются задачи на арифметические и геометрические прогрессии. Методы решения в основном опирались на идеи пропорциональной зависимости и среднего арифметического. Вавилонские писцы знали правило суммирования членов арифметической прогрессии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3203640" y="3429000"/>
            <a:ext cx="2158920" cy="1066320"/>
            <a:chOff x="3203640" y="3429000"/>
            <a:chExt cx="2158920" cy="1066320"/>
          </a:xfrm>
        </p:grpSpPr>
        <p:sp>
          <p:nvSpPr>
            <p:cNvPr id="265" name="Text Box 7"/>
            <p:cNvSpPr/>
            <p:nvPr/>
          </p:nvSpPr>
          <p:spPr>
            <a:xfrm>
              <a:off x="3851280" y="3429000"/>
              <a:ext cx="15112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00"/>
                  </a:solidFill>
                  <a:latin typeface="Script MT Bold"/>
                  <a:ea typeface="Arial"/>
                </a:rPr>
                <a:t>n(a</a:t>
              </a:r>
              <a:r>
                <a:rPr b="1" i="1" lang="en-US" sz="2400" spc="-1" strike="noStrike" baseline="-25000">
                  <a:solidFill>
                    <a:srgbClr val="ffcc00"/>
                  </a:solidFill>
                  <a:latin typeface="Script MT Bold"/>
                  <a:ea typeface="Arial"/>
                </a:rPr>
                <a:t>1</a:t>
              </a:r>
              <a:r>
                <a:rPr b="1" i="1" lang="en-US" sz="2400" spc="-1" strike="noStrike">
                  <a:solidFill>
                    <a:srgbClr val="ffcc00"/>
                  </a:solidFill>
                  <a:latin typeface="Script MT Bold"/>
                  <a:ea typeface="Arial"/>
                </a:rPr>
                <a:t>+a</a:t>
              </a:r>
              <a:r>
                <a:rPr b="1" i="1" lang="en-US" sz="2400" spc="-1" strike="noStrike" baseline="-25000">
                  <a:solidFill>
                    <a:srgbClr val="ffcc00"/>
                  </a:solidFill>
                  <a:latin typeface="Script MT Bold"/>
                  <a:ea typeface="Arial"/>
                </a:rPr>
                <a:t>n</a:t>
              </a:r>
              <a:r>
                <a:rPr b="1" i="1" lang="en-US" sz="2400" spc="-1" strike="noStrike">
                  <a:solidFill>
                    <a:srgbClr val="ffcc00"/>
                  </a:solidFill>
                  <a:latin typeface="Script MT Bold"/>
                  <a:ea typeface="Arial"/>
                </a:rPr>
                <a:t>)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00"/>
                  </a:solidFill>
                  <a:latin typeface="Script MT Bold"/>
                  <a:ea typeface="Arial"/>
                </a:rPr>
                <a:t>2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6" name="Line 5"/>
            <p:cNvSpPr/>
            <p:nvPr/>
          </p:nvSpPr>
          <p:spPr>
            <a:xfrm>
              <a:off x="4067280" y="4005360"/>
              <a:ext cx="10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3203640" y="3716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00"/>
                  </a:solidFill>
                  <a:latin typeface="Script MT Bold"/>
                  <a:ea typeface="Arial"/>
                </a:rPr>
                <a:t>Sn=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611280" y="1844640"/>
            <a:ext cx="7704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Существовал и другой тип задач, также требовавший развития алгебраических методов, - неопределённые уравнения ( уравнения, в которых две или более неизвестные величины).Например: 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x</a:t>
            </a:r>
            <a:r>
              <a:rPr b="1" i="1" lang="en-US" sz="2400" spc="-1" strike="noStrike" baseline="30000">
                <a:solidFill>
                  <a:srgbClr val="ffcc00"/>
                </a:solidFill>
                <a:latin typeface="Script MT Bold"/>
              </a:rPr>
              <a:t>2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+y</a:t>
            </a:r>
            <a:r>
              <a:rPr b="1" i="1" lang="en-US" sz="2400" spc="-1" strike="noStrike" baseline="30000">
                <a:solidFill>
                  <a:srgbClr val="ffcc00"/>
                </a:solidFill>
                <a:latin typeface="Script MT Bold"/>
              </a:rPr>
              <a:t>2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=z</a:t>
            </a:r>
            <a:r>
              <a:rPr b="1" i="1" lang="en-US" sz="2400" spc="-1" strike="noStrike" baseline="30000">
                <a:solidFill>
                  <a:srgbClr val="ffcc00"/>
                </a:solidFill>
                <a:latin typeface="Script MT Bold"/>
              </a:rPr>
              <a:t>2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Позднее числа 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x, y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 и </a:t>
            </a:r>
            <a:r>
              <a:rPr b="1" i="1" lang="en-US" sz="2400" spc="-1" strike="noStrike">
                <a:solidFill>
                  <a:srgbClr val="ffcc00"/>
                </a:solidFill>
                <a:latin typeface="Script MT Bold"/>
              </a:rPr>
              <a:t>z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 стали называться «пифагоровыми тройками». Например: (3,4,5);(5,12,13);(8,15,17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124000" y="404640"/>
            <a:ext cx="46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22306"/>
                </a:solidFill>
                <a:latin typeface="Script MT Bold"/>
              </a:rPr>
              <a:t>«</a:t>
            </a:r>
            <a:r>
              <a:rPr b="0" i="1" lang="ru-RU" sz="3600" spc="-1" strike="noStrike">
                <a:solidFill>
                  <a:srgbClr val="522306"/>
                </a:solidFill>
                <a:latin typeface="Informal Roman"/>
              </a:rPr>
              <a:t>Пифагоро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522306"/>
                </a:solidFill>
                <a:latin typeface="Informal Roman"/>
              </a:rPr>
              <a:t>тройки</a:t>
            </a:r>
            <a:r>
              <a:rPr b="0" i="1" lang="ru-RU" sz="3600" spc="-1" strike="noStrike">
                <a:solidFill>
                  <a:srgbClr val="522306"/>
                </a:solidFill>
                <a:latin typeface="Script MT Bold"/>
              </a:rPr>
              <a:t>»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835280" y="40464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22306"/>
                </a:solidFill>
                <a:latin typeface="Informal Roman"/>
              </a:rPr>
              <a:t>Вавилонская</a:t>
            </a:r>
            <a:r>
              <a:rPr b="0" i="1" lang="ru-RU" sz="3600" spc="-1" strike="noStrike">
                <a:solidFill>
                  <a:srgbClr val="522306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522306"/>
                </a:solidFill>
                <a:latin typeface="Informal Roman"/>
              </a:rPr>
              <a:t>геометрия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332000" y="184464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Одним из самых замечательных геометрических открытий было появление теоремы ,которую впоследствии стали называть теоремой Пифагора. Впервые она встречается в клинописных текстах царя Хаммурапи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22306"/>
                </a:solidFill>
                <a:latin typeface="Informal Roman"/>
              </a:rPr>
              <a:t>Математика в древности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619280" y="1557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Script MT Bold"/>
              </a:rPr>
              <a:t>Древний Египе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1332000" y="2924280"/>
            <a:ext cx="424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Script MT Bold"/>
              </a:rPr>
              <a:t>Междуреч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cc00"/>
                </a:solidFill>
                <a:latin typeface="Script MT Bold"/>
              </a:rPr>
              <a:t>( Вавилон)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" name="Rectangle 12">
            <a:hlinkClick r:id="rId1" action="ppaction://hlinksldjump"/>
          </p:cNvPr>
          <p:cNvSpPr/>
          <p:nvPr/>
        </p:nvSpPr>
        <p:spPr>
          <a:xfrm>
            <a:off x="1547640" y="1341360"/>
            <a:ext cx="30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6" name="Rectangle 13">
            <a:hlinkClick r:id="rId2" action="ppaction://hlinksldjump"/>
          </p:cNvPr>
          <p:cNvSpPr/>
          <p:nvPr/>
        </p:nvSpPr>
        <p:spPr>
          <a:xfrm>
            <a:off x="1258920" y="2781360"/>
            <a:ext cx="4249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3708360" y="1890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22306"/>
                </a:solidFill>
                <a:latin typeface="Informal Roman"/>
              </a:rPr>
              <a:t>Вывод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468360" y="1341360"/>
            <a:ext cx="81374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Как мы видим, в Вавилоне, как и в некоторых других странах, математические тексты излагались догматически. Все правила были своего рода рецептами, которые не обсуждались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Но, тем не менее, открытия, сделанные математиками Междуречья, поражают своим размахом. Именно здесь появилась первая позиционная система счисления, разработана алгебра линейных и квадратных уравнений, а также рассмотрены первые неопределённые уравнения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map_ancient_egy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971640" y="2781360"/>
            <a:ext cx="172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9257"/>
                </a:solidFill>
                <a:latin typeface="Informal Roman"/>
              </a:rPr>
              <a:t>Ancient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9257"/>
                </a:solidFill>
                <a:latin typeface="Informal Roman"/>
              </a:rPr>
              <a:t>Egyp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755640" y="162864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Script MT Bold"/>
              </a:rPr>
              <a:t>Несколько тысячелетий культура Египта развивалась без каких бы то ни было внешних влияний. Уровень древнеегипетской математики было довольно высок. Древние греки,</a:t>
            </a:r>
            <a:r>
              <a:rPr b="1" i="1" lang="en-US" sz="2800" spc="-1" strike="noStrike">
                <a:solidFill>
                  <a:srgbClr val="ffcc00"/>
                </a:solidFill>
                <a:latin typeface="Script MT Bold"/>
              </a:rPr>
              <a:t> </a:t>
            </a:r>
            <a:r>
              <a:rPr b="1" i="1" lang="ru-RU" sz="2800" spc="-1" strike="noStrike">
                <a:solidFill>
                  <a:srgbClr val="ffcc00"/>
                </a:solidFill>
                <a:latin typeface="Script MT Bold"/>
              </a:rPr>
              <a:t>достижения которых лежат в основе современной науки ,считали себя учениками египтян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916360" y="260280"/>
            <a:ext cx="29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22306"/>
                </a:solidFill>
                <a:latin typeface="Informal Roman"/>
              </a:rPr>
              <a:t>Введение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1835280" y="1700280"/>
            <a:ext cx="489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522306"/>
                </a:solidFill>
                <a:latin typeface="Informal Roman"/>
              </a:rPr>
              <a:t>Первые учебники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627280" y="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22306"/>
                </a:solidFill>
                <a:latin typeface="Informal Roman"/>
              </a:rPr>
              <a:t>Папирус Райнда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3" name="Picture 7" descr="Egyptian"/>
          <p:cNvPicPr/>
          <p:nvPr/>
        </p:nvPicPr>
        <p:blipFill>
          <a:blip r:embed="rId1"/>
          <a:stretch/>
        </p:blipFill>
        <p:spPr>
          <a:xfrm>
            <a:off x="0" y="907920"/>
            <a:ext cx="6588000" cy="5950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8"/>
          <p:cNvSpPr/>
          <p:nvPr/>
        </p:nvSpPr>
        <p:spPr>
          <a:xfrm>
            <a:off x="6588000" y="1628640"/>
            <a:ext cx="2556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Был найден в 1858 году, расшифрован и издан в 1870 году. Рукопись представляла собой узкую (33 см) и длинную (5 ,25 м) полосу папируса, содержащую 84 задачи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547640" y="260280"/>
            <a:ext cx="67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22306"/>
                </a:solidFill>
                <a:latin typeface="Copperplate Gothic Light"/>
              </a:rPr>
              <a:t>33</a:t>
            </a:r>
            <a:r>
              <a:rPr b="0" i="1" lang="ru-RU" sz="4000" spc="-1" strike="noStrike">
                <a:solidFill>
                  <a:srgbClr val="522306"/>
                </a:solidFill>
                <a:latin typeface="Informal Roman"/>
              </a:rPr>
              <a:t>-я задача из папируса Райнда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468360" y="206064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Script MT Bold"/>
              </a:rPr>
              <a:t>«Некоторое количество, его 2/3, его ½ и его 1/7 ,сложенные вместе, дают 37. Каково это количество?»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39640" y="52293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2306"/>
                </a:solidFill>
                <a:latin typeface="Informal Roman"/>
              </a:rPr>
              <a:t>Ответ: 16  2/9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763640" y="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22306"/>
                </a:solidFill>
                <a:latin typeface="Informal Roman"/>
              </a:rPr>
              <a:t>Московский папирус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0" y="3933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Script MT Bold"/>
              </a:rPr>
              <a:t>	</a:t>
            </a:r>
            <a:r>
              <a:rPr b="1" i="1" lang="ru-RU" sz="2800" spc="-1" strike="noStrike">
                <a:solidFill>
                  <a:srgbClr val="ffcc00"/>
                </a:solidFill>
                <a:latin typeface="Script MT Bold"/>
              </a:rPr>
              <a:t>Один из древнейших известных современности математических текстов. Он был составлен около 1850 до н. э., на 200 лет старше папируса Райнда.</a:t>
            </a:r>
            <a:r>
              <a:rPr b="1" i="1" lang="ru-RU" sz="2800" spc="-1" strike="noStrike">
                <a:solidFill>
                  <a:srgbClr val="ffcc00"/>
                </a:solidFill>
                <a:latin typeface="Script MT Bold"/>
              </a:rPr>
              <a:t>	</a:t>
            </a:r>
            <a:r>
              <a:rPr b="1" i="1" lang="ru-RU" sz="2800" spc="-1" strike="noStrike">
                <a:solidFill>
                  <a:srgbClr val="ffcc00"/>
                </a:solidFill>
                <a:latin typeface="Script MT Bold"/>
              </a:rPr>
              <a:t>Представляет собой свиток длиной 5,44 м и шириной 8 см и включает в себя 25 задач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0" name="Picture 7" descr="Moskou-papyrus"/>
          <p:cNvPicPr/>
          <p:nvPr/>
        </p:nvPicPr>
        <p:blipFill>
          <a:blip r:embed="rId1"/>
          <a:stretch/>
        </p:blipFill>
        <p:spPr>
          <a:xfrm>
            <a:off x="1835280" y="981000"/>
            <a:ext cx="50403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8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22306"/>
                </a:solidFill>
                <a:latin typeface="Informal Roman"/>
              </a:rPr>
              <a:t>Задача №</a:t>
            </a:r>
            <a:r>
              <a:rPr b="0" i="1" lang="ru-RU" sz="4000" spc="-1" strike="noStrike">
                <a:solidFill>
                  <a:srgbClr val="522306"/>
                </a:solidFill>
                <a:latin typeface="Copperplate Gothic Light"/>
              </a:rPr>
              <a:t>14</a:t>
            </a:r>
            <a:r>
              <a:rPr b="0" i="1" lang="ru-RU" sz="4000" spc="-1" strike="noStrike">
                <a:solidFill>
                  <a:srgbClr val="522306"/>
                </a:solidFill>
                <a:latin typeface="Informal Roman"/>
              </a:rPr>
              <a:t> Московского математического папируса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250920" y="1484280"/>
            <a:ext cx="871380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22306"/>
                </a:solidFill>
                <a:latin typeface="Informal Roman"/>
              </a:rPr>
              <a:t>Вычисление</a:t>
            </a:r>
            <a:r>
              <a:rPr b="1" i="1" lang="ru-RU" sz="32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i="1" lang="ru-RU" sz="3200" spc="-1" strike="noStrike">
                <a:solidFill>
                  <a:srgbClr val="522306"/>
                </a:solidFill>
                <a:latin typeface="Informal Roman"/>
              </a:rPr>
              <a:t>усеченной пирамиды</a:t>
            </a:r>
            <a:r>
              <a:rPr b="1" i="1" lang="ru-RU" sz="2000" spc="-1" strike="noStrike">
                <a:solidFill>
                  <a:srgbClr val="000000"/>
                </a:solidFill>
                <a:latin typeface="Script MT Bold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 </a:t>
            </a:r>
            <a:r>
              <a:rPr b="1" i="1" lang="ru-RU" sz="2400" spc="-1" strike="noStrike">
                <a:solidFill>
                  <a:srgbClr val="ffcc00"/>
                </a:solidFill>
                <a:latin typeface="Script MT Bold"/>
              </a:rPr>
              <a:t>Вам скажут: пирамида имеет в высоту 6, её основание - 4, а вершина - 2. Для решения вычислите квадрат 4-х. Получите 16. Сложите 4 и 4. Получите 8. Найдите квадрат от 2-х. Получите 4. Теперь сложите 16, 8 и 4. Это будет 28. Умножьте 1/3 на 6. Это будет 2. Умножьте 2 на 28. Это будет 56. 56 - вот это и есть ответ. Вы решили все правильно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6:10:13Z</dcterms:created>
  <dc:creator>Admin</dc:creator>
  <dc:description/>
  <dc:language>en-US</dc:language>
  <cp:lastModifiedBy>Dimitri</cp:lastModifiedBy>
  <dcterms:modified xsi:type="dcterms:W3CDTF">2010-01-28T10:47:21Z</dcterms:modified>
  <cp:revision>14</cp:revision>
  <dc:subject/>
  <dc:title>Слайд 1</dc:title>
</cp:coreProperties>
</file>