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%D0%B7%D0%BD%D0%B0%D1%87%D0%B5%D0%BD%D0%B8%D0%B5%20%D0%BA%D0%BE%D0%BC%D0%BF%D0%B0%D1%81%D0%B0.wav" ContentType="audio/x-wav"/>
  <Override PartName="/ppt/media/image5.jpeg" ContentType="image/jpeg"/>
  <Override PartName="/ppt/media/%D0%BF%D1%80%D0%B5%D0%B7%D0%B5%D0%BD%D1%82%D0%B0%D1%86%D0%B8%D1%8E%20%D0%BE%D0%B7%D0%B2%D1%83%D1%87%D0%B8%D0%B2%D0%B0%D0%BB%D0%B0.wav" ContentType="audio/x-wav"/>
  <Override PartName="/ppt/media/image3.jpeg" ContentType="image/jpeg"/>
  <Override PartName="/ppt/media/image4.png" ContentType="image/png"/>
  <Override PartName="/ppt/media/%D0%BA%D0%B8%D1%82%D0%B0%D0%B9%D1%81%D0%BA%D0%B8%D0%B9%20%D0%BA%D0%BE%D0%BC%D0%BF%D0%B0%D1%81%20%D0%B8%D0%BC%D0%B5%D0%B5%D1%82%20%D1%81%D1%82%D1%80%D0%BE%D0%B5%D0%BD%D0%B8%D0%B5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C15-0C7C-4655-8833-1D60CEA9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A53-A8B4-47C1-A22E-8565F1A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1B8-2EDD-4CDC-AB50-25ECF1E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62C-01CF-49D5-ADDA-7F9F7E46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76A-C273-4D30-98B0-6695967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B41-57C6-485D-BEE0-16860C8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33C-B5D1-4F4B-BB23-F5251F0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866-9144-4552-B2B4-7B004ED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E20-1B92-4EA9-9D37-0B299DF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DAF-6929-4894-BAF0-963C9A6F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E0E-7A32-4969-8B79-2F9E4C5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9CB-E10A-4375-95CA-06FD9B4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B95-DCF8-424D-BAAF-7E054F052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1079;&#1085;&#1072;&#1095;&#1077;&#1085;&#1080;&#1077;%20&#1082;&#1086;&#1084;&#1087;&#1072;&#1089;&#1072;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&#1082;&#1080;&#1090;&#1072;&#1081;&#1089;&#1082;&#1080;&#1081;%20&#1082;&#1086;&#1084;&#1087;&#1072;&#1089;%20&#1080;&#1084;&#1077;&#1077;&#1090;%20&#1089;&#1090;&#1088;&#1086;&#1077;&#1085;&#1080;&#1077;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&#1087;&#1088;&#1077;&#1079;&#1077;&#1085;&#1090;&#1072;&#1094;&#1080;&#1102;%20&#1086;&#1079;&#1074;&#1091;&#1095;&#1080;&#1074;&#1072;&#1083;&#1072;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Verdana"/>
              </a:rPr>
              <a:t>Кто изобрел</a:t>
            </a:r>
            <a:r>
              <a:rPr b="1" lang="ru-RU" sz="5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Verdana"/>
              </a:rPr>
              <a:t>компас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653000"/>
            <a:ext cx="7521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обучающаяся 2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МБОУ СОШ №4 г.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Хрипунова Маргар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мпас 8"/>
          <p:cNvPicPr/>
          <p:nvPr/>
        </p:nvPicPr>
        <p:blipFill>
          <a:blip r:embed="rId1"/>
          <a:stretch/>
        </p:blipFill>
        <p:spPr>
          <a:xfrm>
            <a:off x="395280" y="333360"/>
            <a:ext cx="1908360" cy="19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000099"/>
                </a:solidFill>
                <a:latin typeface="Verdana"/>
              </a:rPr>
              <a:t>Что  такое  ком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омпас 8"/>
          <p:cNvPicPr/>
          <p:nvPr/>
        </p:nvPicPr>
        <p:blipFill>
          <a:blip r:embed="rId1"/>
          <a:stretch/>
        </p:blipFill>
        <p:spPr>
          <a:xfrm rot="20911800">
            <a:off x="539280" y="1773000"/>
            <a:ext cx="4438800" cy="4438440"/>
          </a:xfrm>
          <a:prstGeom prst="rect">
            <a:avLst/>
          </a:prstGeom>
          <a:ln w="0">
            <a:noFill/>
          </a:ln>
        </p:spPr>
      </p:pic>
      <p:sp>
        <p:nvSpPr>
          <p:cNvPr id="46" name="Line 8"/>
          <p:cNvSpPr/>
          <p:nvPr/>
        </p:nvSpPr>
        <p:spPr>
          <a:xfrm flipH="1">
            <a:off x="2700000" y="2205000"/>
            <a:ext cx="2376360" cy="216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148360" y="1700280"/>
            <a:ext cx="381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иняя стрелка компаса указывает направление на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С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H="1" flipV="1">
            <a:off x="2700360" y="5445000"/>
            <a:ext cx="244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364000" y="4941720"/>
            <a:ext cx="33116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расная стрелка ука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равление на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Ю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D%D0%B0%D1%87%D0%B5%D0%BD%D0%B8%D0%B5%20%D0%BA%D0%BE%D0%BC%D0%BF%D0%B0%D1%81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Кто изобрел ком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памятник первому компасу"/>
          <p:cNvPicPr/>
          <p:nvPr/>
        </p:nvPicPr>
        <p:blipFill>
          <a:blip r:embed="rId1"/>
          <a:stretch/>
        </p:blipFill>
        <p:spPr>
          <a:xfrm>
            <a:off x="395280" y="1773360"/>
            <a:ext cx="489744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6021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амятник компасу в 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580000" y="1557360"/>
            <a:ext cx="316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митивный компас использовали  китай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Arial"/>
              </a:rPr>
              <a:t>I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 веке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Первый китайский комп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первый компас"/>
          <p:cNvPicPr/>
          <p:nvPr/>
        </p:nvPicPr>
        <p:blipFill>
          <a:blip r:embed="rId1"/>
          <a:stretch/>
        </p:blipFill>
        <p:spPr>
          <a:xfrm>
            <a:off x="1547640" y="1341360"/>
            <a:ext cx="6120000" cy="4597560"/>
          </a:xfrm>
          <a:prstGeom prst="rect">
            <a:avLst/>
          </a:prstGeom>
          <a:ln w="0">
            <a:noFill/>
          </a:ln>
        </p:spPr>
      </p:pic>
      <p:sp>
        <p:nvSpPr>
          <p:cNvPr id="56" name="Line 8"/>
          <p:cNvSpPr/>
          <p:nvPr/>
        </p:nvSpPr>
        <p:spPr>
          <a:xfrm>
            <a:off x="3059280" y="2205000"/>
            <a:ext cx="151416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411280" y="3429000"/>
            <a:ext cx="93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4716000" y="3357720"/>
            <a:ext cx="23036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093080" y="3068640"/>
            <a:ext cx="18000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дная или деревянная плас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1268280"/>
            <a:ext cx="453708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«Разливательная лож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из магне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79280" y="2781360"/>
            <a:ext cx="208908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«Чере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указывает направлени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на 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A%D0%B8%D1%82%D0%B0%D0%B9%D1%81%D0%BA%D0%B8%D0%B9%20%D0%BA%D0%BE%D0%BC%D0%BF%D0%B0%D1%81%20%D0%B8%D0%BC%D0%B5%D0%B5%D1%82%20%D1%81%D1%82%D1%80%D0%BE%D0%B5%D0%BD%D0%B8%D0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42920" y="184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Arial"/>
              </a:rPr>
              <a:t>XI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-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Arial"/>
              </a:rPr>
              <a:t>XII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 веках компас из Китая добрался до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VipTalisman18"/>
          <p:cNvPicPr/>
          <p:nvPr/>
        </p:nvPicPr>
        <p:blipFill>
          <a:blip r:embed="rId1"/>
          <a:stretch/>
        </p:blipFill>
        <p:spPr>
          <a:xfrm>
            <a:off x="539640" y="981000"/>
            <a:ext cx="3765600" cy="5427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4572000" y="2060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резентацию озвучила Хрипунова Марга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F%D1%80%D0%B5%D0%B7%D0%B5%D0%BD%D1%82%D0%B0%D1%86%D0%B8%D1%8E%20%D0%BE%D0%B7%D0%B2%D1%83%D1%87%D0%B8%D0%B2%D0%B0%D0%BB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7:04:47Z</dcterms:created>
  <dc:creator>xxxx</dc:creator>
  <dc:description/>
  <dc:language>en-US</dc:language>
  <cp:lastModifiedBy>Админ</cp:lastModifiedBy>
  <dcterms:modified xsi:type="dcterms:W3CDTF">2014-10-30T19:01:02Z</dcterms:modified>
  <cp:revision>33</cp:revision>
  <dc:subject/>
  <dc:title>Слайд 1</dc:title>
</cp:coreProperties>
</file>