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7AA-AFF4-4642-B788-2AFB5C76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9AC-604B-44EF-998F-60DF0DE4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1F4-CB24-430D-AB19-FBA1DD7D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39C-7B54-4DF8-AE75-DF115FEE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05B2-A614-4435-9712-274CC22E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3054-EA47-4295-A92C-7784EA2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9FB4-FC3A-4452-B33B-FC9F8757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A5D6-1240-494F-B8E6-1B4B2C2B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5D12-86BA-4053-BE2F-1433B98A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2BA7-41E6-4A26-949C-EFD52303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3781-8A8E-4312-B33B-2AB99021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BA4-A942-4713-9FB3-00CFD701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C398-5CC4-4076-A368-67E05B9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5A6F-C26D-4078-8BF8-76AF7AFA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6381-4ABB-4909-964B-7140EE78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4031-DE9A-416A-9200-1BE6CD0D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4C92-159B-48C4-BE2F-AA68FEF9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B22-5201-425B-B3E7-88E62B81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823-C5EF-470C-AB5C-E35178F2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8F8-3F3F-4D48-825C-05804AC8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D22-DF8F-47CC-85FC-846E6B5E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A73-132F-4D91-9340-D9DA6254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83A-0AE8-4136-8944-844ECED3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216-496D-4137-A144-5DF0BFB6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5DF3-730B-49DB-9CA6-658E22B3E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49B6-C57E-498C-8362-C776820B3E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28560" y="596880"/>
            <a:ext cx="8077320" cy="3200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07196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Изготовила пособие воспитатель МБДОУ д/с № 4»А» «Колосок» Елфимова Наталья Валентиновна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1080" cy="1170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– закрепление способов застегивания и расстегивания пуговиц, развитие мелкой моторики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07" name="Picture 5" descr="C:\Users\123\Documents\Bluetooth\inbox\IMG_20141008_104017.jpg"/>
          <p:cNvPicPr/>
          <p:nvPr/>
        </p:nvPicPr>
        <p:blipFill>
          <a:blip r:embed="rId2"/>
          <a:stretch/>
        </p:blipFill>
        <p:spPr>
          <a:xfrm>
            <a:off x="3714840" y="1000080"/>
            <a:ext cx="49719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1080" cy="1170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– развитие мелкой моторики; закрепление умений завинчивать и отвинчивать крышки; развитие умений подбирать нужный цвет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10" name="Picture 5" descr="C:\Users\123\Documents\Bluetooth\inbox\IMG_20141008_103446.jpg"/>
          <p:cNvPicPr/>
          <p:nvPr/>
        </p:nvPicPr>
        <p:blipFill>
          <a:blip r:embed="rId2"/>
          <a:stretch/>
        </p:blipFill>
        <p:spPr>
          <a:xfrm>
            <a:off x="3714840" y="1071720"/>
            <a:ext cx="49719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689040" y="2408400"/>
            <a:ext cx="7808760" cy="3363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2160" y="92880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Игры, развивающие сенсорное восприятие, очень нужны малышу раннего возраста. Они приносят в жизнь ребёнка радость, интерес, уверенность в себе и своих возможностях.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5816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ктуальность данного пособия в том, что подушка имеет развивающее, обучающее и воспитывающие значение. Его можно использовать практически в любых видах учебных занятий, игровой деятельности детей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3186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шка-сенсомоторика обладает рядом уникальных свойств: </a:t>
            </a:r>
            <a:endParaRPr b="0" lang="en-US" sz="16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ет карманы, с помощью содержимого (карточки, фигуры и др.) в них,  можно проводить различные упражнения;</a:t>
            </a:r>
            <a:endParaRPr b="0" lang="en-US" sz="16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ягкая, лёгкая может служить подушечкой (при переворачивании);</a:t>
            </a:r>
            <a:endParaRPr b="0" lang="en-US" sz="16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ушка компактна, с ней удобно играть в любом месте;</a:t>
            </a:r>
            <a:endParaRPr b="0" lang="en-US" sz="16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помощью этой игрушки рука ребенка научится: </a:t>
            </a:r>
            <a:endParaRPr b="0" lang="en-US" sz="16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шнуровать;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- затягивать молнию и 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застегивать пуговицы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- завинчивать и отвинчивать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крышки от бутылок. </a:t>
            </a:r>
            <a:endParaRPr b="0" lang="en-US" sz="16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87" name="Рисунок 4" descr="C:\Users\123\Documents\Bluetooth\inbox\IMG_20140813_144854.jpg"/>
          <p:cNvPicPr/>
          <p:nvPr/>
        </p:nvPicPr>
        <p:blipFill>
          <a:blip r:embed="rId1"/>
          <a:stretch/>
        </p:blipFill>
        <p:spPr>
          <a:xfrm>
            <a:off x="3511440" y="938160"/>
            <a:ext cx="49197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3090600" cy="8114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IMG_20141008_105822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571920" y="928800"/>
            <a:ext cx="5111640" cy="4146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нию положительных эмоций;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спитанию эстетического восприятия, фантазии; 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нию первичных понятий об окружающем мире; 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тию речи ребенка;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тию сенсорных способностей (мелкой моторики руки, тактильных ощущений, восприятие цвета, формы, величины)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6546960" cy="95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5840" y="999720"/>
            <a:ext cx="7500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олифункциональность (возможность широкого использования в соответствии с замыслом игры, способствующая развитию творческих способностей);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бладает дидактическими  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войствами (возможность  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бучения  ребенка);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озможность  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применения  группой   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детей   (пригодность игрушки   к   использованию  ее несколькими детьми, в том числе с участием взрослого как играющего партнера)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378000" y="420840"/>
            <a:ext cx="309060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42680"/>
            <a:ext cx="30081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ашнуруй шнурок.»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– закрепление цвета, различных способов шнуровки, развитие мелкой моторики. Закрепление понятий сверху вниз, снизу вверх.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5" name="Picture 5" descr="C:\Users\123\Documents\Bluetooth\inbox\IMG_20141008_104639.jpg"/>
          <p:cNvPicPr/>
          <p:nvPr/>
        </p:nvPicPr>
        <p:blipFill>
          <a:blip r:embed="rId2"/>
          <a:stretch/>
        </p:blipFill>
        <p:spPr>
          <a:xfrm>
            <a:off x="3575160" y="928800"/>
            <a:ext cx="4611600" cy="371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3138480" cy="1170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Разместите в карманчиках по одной части от трех четырех предметных картинок (картинки вы можете нарисовать и разрезать на две четыре равные части или взять разрезные картинки из настольно-печатных </a:t>
            </a:r>
            <a:endParaRPr b="0" lang="en-US" sz="1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игр). Побудите ребенка достать части и составить предметные картинки. Если ребёнок успешно справляется с заданием, усложните его: разрежьте картинки на 2- 4 части другими способами, например, по диагонали.</a:t>
            </a:r>
            <a:endParaRPr b="0" lang="en-US" sz="1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8" name="Picture 5" descr="C:\Users\123\Documents\Bluetooth\inbox\IMG_20141008_103911.jpg"/>
          <p:cNvPicPr/>
          <p:nvPr/>
        </p:nvPicPr>
        <p:blipFill>
          <a:blip r:embed="rId2"/>
          <a:stretch/>
        </p:blipFill>
        <p:spPr>
          <a:xfrm>
            <a:off x="3575160" y="1000080"/>
            <a:ext cx="51116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3181320" cy="1170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8760" y="142884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– закрепление различных способов плетения, развитие мелкой моторики.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01" name="Picture 5" descr="C:\Users\123\Documents\Bluetooth\inbox\IMG_20141008_105145.jpg"/>
          <p:cNvPicPr/>
          <p:nvPr/>
        </p:nvPicPr>
        <p:blipFill>
          <a:blip r:embed="rId2"/>
          <a:stretch/>
        </p:blipFill>
        <p:spPr>
          <a:xfrm>
            <a:off x="3857760" y="857160"/>
            <a:ext cx="48290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ешочки с секретом)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– закрепление умения узнавать, что спрятано в мешочке, развитие тактильных ощущений и сенсорных навыков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04" name="Picture 5" descr="C:\Users\123\Documents\Bluetooth\inbox\IMG_20141008_105617.jpg"/>
          <p:cNvPicPr/>
          <p:nvPr/>
        </p:nvPicPr>
        <p:blipFill>
          <a:blip r:embed="rId2"/>
          <a:stretch/>
        </p:blipFill>
        <p:spPr>
          <a:xfrm>
            <a:off x="3786120" y="1000080"/>
            <a:ext cx="49006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Master</cp:lastModifiedBy>
  <dcterms:modified xsi:type="dcterms:W3CDTF">2014-10-30T18:13:56Z</dcterms:modified>
  <cp:revision>17</cp:revision>
  <dc:subject/>
  <dc:title>Слайд 1</dc:title>
</cp:coreProperties>
</file>