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5F32-27AC-492E-9207-0957F1E8A7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C451-7314-49DE-83BC-88A2DC3C6F8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A309-9183-4C55-8508-A7651289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3C6D-BFD5-4A92-9B92-8E990167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D557-0AD7-4BAE-8572-C03DE458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6A5B-3255-464F-9AB6-B9405A9B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1AA6-9CAA-4860-AC96-AE020048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36C6-12DB-4B4A-8869-4EB3C602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91F1-76A2-4AA0-A3F5-F7CED507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2046-A04B-4321-8424-8AE3A547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219B-0F43-451B-AB9F-2EE3F05F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6DC4-C11B-4B65-BA74-CE23311A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3D19-189D-45E3-9E68-702C1F09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7613-9386-49E0-9192-D9983B17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883E-D88A-4E06-8DA5-C8DFE964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B613-65DB-432C-83B4-2FC528B4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7ECC-E699-453B-AE67-6CB57894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BF5A-165A-4005-8A75-0FD6E232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AE42-C7F0-41CE-950C-C02BBC65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9025-93D0-49C8-833F-6FA76B46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62D3-51BF-405F-BE60-A7EE1632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18D1-B961-4009-B784-A3111971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29A7-58EC-444F-8455-FD2DED61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5A5A-31FE-4B35-8B31-22B136D4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9EAD-EB21-4EEF-A0F5-DE1D3C6F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00E4-9C23-416F-B9AA-EAF4A181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A6AA-31F4-4A14-ADCB-458F103D95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DC09-2A6F-4AA9-AF76-11FC1155238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1" name="Picture 2" descr="http://uralpress.ru/sites/default/files/imagecache/slide/photo/umv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356000" y="277560"/>
            <a:ext cx="46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bbd71"/>
                </a:solidFill>
                <a:latin typeface="Arial"/>
              </a:rPr>
              <a:t>Суд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321300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мотрение гражданских, административных, уголовных де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несение решений и пригово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становление нарушенных прав граждан и организац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5" descr="http://im2-tub-ru.yandex.net/i?id=111930388-51-72"/>
          <p:cNvPicPr/>
          <p:nvPr/>
        </p:nvPicPr>
        <p:blipFill>
          <a:blip r:embed="rId1"/>
          <a:stretch/>
        </p:blipFill>
        <p:spPr>
          <a:xfrm>
            <a:off x="0" y="0"/>
            <a:ext cx="48718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987280" y="277560"/>
            <a:ext cx="61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bbd71"/>
                </a:solidFill>
                <a:latin typeface="Arial"/>
              </a:rPr>
              <a:t>Прокуратура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36446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уществление надзора за точным и единообразным исполнением законов всеми государственными  органами и граждан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держка обвинения в су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5" descr="http://im6-tub-ru.yandex.net/i?id=479808152-05-72"/>
          <p:cNvPicPr/>
          <p:nvPr/>
        </p:nvPicPr>
        <p:blipFill>
          <a:blip r:embed="rId1"/>
          <a:stretch/>
        </p:blipFill>
        <p:spPr>
          <a:xfrm>
            <a:off x="0" y="0"/>
            <a:ext cx="363528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4720" y="277560"/>
            <a:ext cx="485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bbd71"/>
                </a:solidFill>
                <a:latin typeface="Arial"/>
              </a:rPr>
              <a:t>Адвокатура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33573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казание юридической помощи гражданам и организация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ление интересов граждан в су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щита на предварительном следствии и в суде в уголовном процесс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7" descr="http://im8-tub-ru.yandex.net/i?id=432729755-29-72"/>
          <p:cNvPicPr/>
          <p:nvPr/>
        </p:nvPicPr>
        <p:blipFill>
          <a:blip r:embed="rId1"/>
          <a:stretch/>
        </p:blipFill>
        <p:spPr>
          <a:xfrm>
            <a:off x="0" y="0"/>
            <a:ext cx="4284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5" name="Picture 8" descr="http://img-fotki.yandex.ru/get/15/school-oblivka.0/0_86e8_5f53b213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35880" cy="581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1504"/>
                </a:solidFill>
                <a:latin typeface="Arial"/>
              </a:rPr>
              <a:t>Правоохранительные органы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 –это государственные органы, основной функцией которых является охрана законности и правопорядка, защита прав и свобод человека, борьба с преступностью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8" name="Picture 10" descr="http://www.media-kuban.ru/images/thumbs/7/4/5/18547_original.jpg"/>
          <p:cNvPicPr/>
          <p:nvPr/>
        </p:nvPicPr>
        <p:blipFill>
          <a:blip r:embed="rId1"/>
          <a:stretch/>
        </p:blipFill>
        <p:spPr>
          <a:xfrm>
            <a:off x="0" y="0"/>
            <a:ext cx="9277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WordArt 4" descr=""/>
          <p:cNvPicPr/>
          <p:nvPr/>
        </p:nvPicPr>
        <p:blipFill>
          <a:blip r:embed="rId1"/>
          <a:stretch/>
        </p:blipFill>
        <p:spPr>
          <a:xfrm>
            <a:off x="530280" y="262080"/>
            <a:ext cx="8364600" cy="60465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3780000" y="400536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.М.Карамз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bbd71"/>
                </a:solidFill>
                <a:latin typeface="Arial"/>
              </a:rPr>
              <a:t>Нотариат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достоверение всевозможных сделок и догово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формление наследственных пра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нятие документов на хране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достоверение факта нахождения человека в жив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Диаграмма 3" descr=""/>
          <p:cNvPicPr/>
          <p:nvPr/>
        </p:nvPicPr>
        <p:blipFill>
          <a:blip r:embed="rId1"/>
          <a:stretch/>
        </p:blipFill>
        <p:spPr>
          <a:xfrm>
            <a:off x="-50760" y="-100080"/>
            <a:ext cx="9245520" cy="69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Диаграмма 1" descr=""/>
          <p:cNvPicPr/>
          <p:nvPr/>
        </p:nvPicPr>
        <p:blipFill>
          <a:blip r:embed="rId1"/>
          <a:stretch/>
        </p:blipFill>
        <p:spPr>
          <a:xfrm>
            <a:off x="-50760" y="-50760"/>
            <a:ext cx="9245520" cy="69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Диаграмма 1" descr=""/>
          <p:cNvPicPr/>
          <p:nvPr/>
        </p:nvPicPr>
        <p:blipFill>
          <a:blip r:embed="rId1"/>
          <a:stretch/>
        </p:blipFill>
        <p:spPr>
          <a:xfrm>
            <a:off x="-50760" y="-50760"/>
            <a:ext cx="9245520" cy="69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dbbd71"/>
                </a:solidFill>
                <a:latin typeface="Arial"/>
              </a:rPr>
              <a:t>Правоохранительные </a:t>
            </a:r>
            <a:br>
              <a:rPr sz="6600"/>
            </a:br>
            <a:r>
              <a:rPr b="0" lang="ru-RU" sz="6600" spc="-1" strike="noStrike">
                <a:solidFill>
                  <a:srgbClr val="dbbd71"/>
                </a:solidFill>
                <a:latin typeface="Arial"/>
              </a:rPr>
              <a:t>органы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иды правоохранительных органов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у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ли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двокату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курату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отариа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592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Правоохранительные органы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0" y="285264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зучить полномочия различных правоохранительных органов, цели их дея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ыявить требования, предъявляемые к сотрудникам правоохранительных орган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ункции правоохранительных органов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85800" y="1981080"/>
          <a:ext cx="7772400" cy="4648320"/>
        </p:xfrm>
        <a:graphic>
          <a:graphicData uri="http://schemas.openxmlformats.org/drawingml/2006/table">
            <a:tbl>
              <a:tblPr/>
              <a:tblGrid>
                <a:gridCol w="2733840"/>
                <a:gridCol w="2447640"/>
                <a:gridCol w="2590920"/>
              </a:tblGrid>
              <a:tr h="82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авоохранительный орга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унк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еб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Поли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Су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Прокурату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Адвокатур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 Нотари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95280" y="277560"/>
            <a:ext cx="51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bbd71"/>
                </a:solidFill>
                <a:latin typeface="Arial"/>
              </a:rPr>
              <a:t>Полиция  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31413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еспечение безопас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упреждение преступлений и административных правонаруш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явление и раскрытие преступл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храна общественного поряд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5" descr="http://kovrov.informvladimir.ru/files/2011/02/forma.jpg"/>
          <p:cNvPicPr/>
          <p:nvPr/>
        </p:nvPicPr>
        <p:blipFill>
          <a:blip r:embed="rId1"/>
          <a:stretch/>
        </p:blipFill>
        <p:spPr>
          <a:xfrm>
            <a:off x="0" y="0"/>
            <a:ext cx="47023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04:39:35Z</dcterms:created>
  <dc:creator>Ирина</dc:creator>
  <dc:description/>
  <dc:language>en-US</dc:language>
  <cp:lastModifiedBy>Я</cp:lastModifiedBy>
  <dcterms:modified xsi:type="dcterms:W3CDTF">2014-01-13T16:15:17Z</dcterms:modified>
  <cp:revision>24</cp:revision>
  <dc:subject/>
  <dc:title>Правоохранительные органы</dc:title>
</cp:coreProperties>
</file>