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AD5-76DB-49EB-928E-3AC85BA2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77C-D032-4E68-A806-529A09A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D5D-FE53-48B2-89D1-B3E7F1F9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ED3-5DE5-4AAD-A25A-4ED579BC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330-7D8E-46C2-823C-EE7C7776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EE3-C78B-451E-AFAC-3D520407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D17B-3D73-4CBE-9BF4-6819B40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DA8F-17BF-4B34-B544-BFF0D2DF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595-A6B8-4A60-B667-0570DB2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05A1-F5DB-4E04-82B2-17EF0E9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C3A9-7F53-40A3-8028-FB35DE0A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A74-E56E-4310-BA43-D62BA23F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D8B8-C127-4443-8887-CCA40AA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9429-2930-44B9-A2ED-5AC0E01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78AB-AFCD-48AB-AD3E-BD1BE28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9B8-DD05-4C59-BC68-13C38594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494-805B-4BFB-8D50-B0A6697C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66A-1534-4290-AB79-E77D8ADA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B1C-348D-4A29-BDD8-B632D08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06A-5D26-4378-AA8E-4927FDD1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DBF-7415-4EB3-9D7E-378A217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FF8-D19A-44AE-BDD5-EB688DE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A54-A5C6-4949-B756-AD17ADB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B16-BFBE-4AB4-B7B2-F156E6F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CBA-6594-4EB2-B299-26E909212E5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849-9CB8-4977-9731-AE12196DB2B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КС(К)ОУ «Специальная(коррекционная) общеобразовательная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кола- интернат №10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VIII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ида» села Александровского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ександровского района Ставропольского края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844280"/>
            <a:ext cx="7386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Фотопутешествие- встреча с интересными людьми «Александровцы- маленькая капелька Росси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0920" y="4437000"/>
            <a:ext cx="738648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одготовила учитель начальны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классов, учитель высшей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квалификационной категории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Колтунова Татьяна Виктор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В  МИРЕ  ПРЕКРАСНОГО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3933720"/>
            <a:ext cx="316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deec2e"/>
                </a:solidFill>
                <a:latin typeface="Arial"/>
              </a:rPr>
              <a:t>«Скала Лягушк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836640"/>
            <a:ext cx="4608720" cy="482436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312b"/>
                </a:solidFill>
                <a:latin typeface="Arial"/>
              </a:rPr>
              <a:t>Владимир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312b"/>
                </a:solidFill>
                <a:latin typeface="Arial"/>
              </a:rPr>
              <a:t>Филиппович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312b"/>
                </a:solidFill>
                <a:latin typeface="Arial"/>
              </a:rPr>
              <a:t>Бравков-</a:t>
            </a:r>
            <a:r>
              <a:rPr b="0" lang="ru-RU" sz="1800" spc="-1" strike="noStrike">
                <a:solidFill>
                  <a:srgbClr val="993e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учитель физическ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культуры наш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школы. Он - талантливы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местный художник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который не устаё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воспева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красоту родн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312b"/>
                </a:solidFill>
                <a:latin typeface="Arial"/>
              </a:rPr>
              <a:t>природы</a:t>
            </a:r>
            <a:r>
              <a:rPr b="1" lang="ru-RU" sz="1800" spc="-1" strike="noStrike">
                <a:solidFill>
                  <a:srgbClr val="79312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23385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3671640" cy="255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8083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Работы мастер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620280"/>
            <a:ext cx="3371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deec2e"/>
                </a:solidFill>
                <a:latin typeface="Arial"/>
              </a:rPr>
              <a:t>«Весна.Томузловк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620280"/>
            <a:ext cx="379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deec2e"/>
                </a:solidFill>
                <a:latin typeface="Arial"/>
              </a:rPr>
              <a:t>«Гора Голубиная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3357720"/>
            <a:ext cx="345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eec2e"/>
                </a:solidFill>
                <a:latin typeface="Arial"/>
              </a:rPr>
              <a:t>«На Волчьих воротах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4360" y="3357720"/>
            <a:ext cx="3311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deec2e"/>
                </a:solidFill>
                <a:latin typeface="Arial"/>
              </a:rPr>
              <a:t>«Солнечный день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468360" y="907920"/>
            <a:ext cx="3456000" cy="2094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4284720" y="907920"/>
            <a:ext cx="3382920" cy="2082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076720" y="5013360"/>
            <a:ext cx="25196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468360" y="3716280"/>
            <a:ext cx="3382920" cy="208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284720" y="3716280"/>
            <a:ext cx="33829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В МИРЕ МУЗЫК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381920" y="1367280"/>
            <a:ext cx="3187800" cy="397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312b"/>
                </a:solidFill>
                <a:latin typeface="Arial"/>
              </a:rPr>
              <a:t>Алексе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312b"/>
                </a:solidFill>
                <a:latin typeface="Arial"/>
              </a:rPr>
              <a:t>Анатольевич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312b"/>
                </a:solidFill>
                <a:latin typeface="Arial"/>
              </a:rPr>
              <a:t>Якименко-</a:t>
            </a:r>
            <a:r>
              <a:rPr b="1" lang="en-US" sz="2000" spc="-1" strike="noStrike">
                <a:solidFill>
                  <a:srgbClr val="79312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учитель музык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и пения нашей школ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Он - замечательны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местный музыкант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и педагог, которы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воспитал многих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312b"/>
                </a:solidFill>
                <a:latin typeface="Arial"/>
              </a:rPr>
              <a:t>талантливых ребя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932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В МИРЕ ТЕХНИЧЕСКОГО ТВОРЧЕСТВ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94320" y="1326960"/>
            <a:ext cx="3375720" cy="4563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9312b"/>
                </a:solidFill>
                <a:latin typeface="Arial"/>
              </a:rPr>
              <a:t>Алексей Фёдорови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9312b"/>
                </a:solidFill>
                <a:latin typeface="Arial"/>
              </a:rPr>
              <a:t>Качан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9312b"/>
                </a:solidFill>
                <a:latin typeface="Arial"/>
              </a:rPr>
              <a:t>Юрий Владимирови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9312b"/>
                </a:solidFill>
                <a:latin typeface="Arial"/>
              </a:rPr>
              <a:t>Ярошенко-</a:t>
            </a:r>
            <a:r>
              <a:rPr b="1" lang="en-US" sz="1400" spc="-1" strike="noStrike">
                <a:solidFill>
                  <a:srgbClr val="79312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учител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трудового обучени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(столярного дела)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нашей школы. Они –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профессионалы своего дела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творческие педагог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Работы, выполненные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учениками школы под их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руководством радуют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глаз в кабинетах, игровых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занимают достойные места на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выставках детского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312b"/>
                </a:solidFill>
                <a:latin typeface="Arial"/>
              </a:rPr>
              <a:t>творчест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3163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СТОЛЯРНЫЕ РАБОТЫ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1630440" cy="217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796000" y="836640"/>
            <a:ext cx="165564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84320" y="3789360"/>
            <a:ext cx="1780920" cy="2128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1915920" cy="244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2590920" cy="1791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2195640" y="3429000"/>
            <a:ext cx="360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560" y="-41400"/>
            <a:ext cx="68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160" y="6021000"/>
            <a:ext cx="1716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03280" y="836640"/>
            <a:ext cx="49690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149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6fb1f"/>
                </a:solidFill>
                <a:latin typeface="Arial"/>
              </a:rPr>
              <a:t>ЖЕЛАЮ УСП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6fb1f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640" y="2708280"/>
            <a:ext cx="64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deec2e"/>
                    </a:gs>
                    <a:gs pos="100000">
                      <a:srgbClr val="666c1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ПУТИ ТВОРЧ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deec2e"/>
                  </a:gs>
                  <a:gs pos="100000">
                    <a:srgbClr val="666c1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19280" y="4437000"/>
            <a:ext cx="460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ec2e"/>
                </a:solidFill>
                <a:latin typeface="Times New Roman"/>
              </a:rPr>
              <a:t>И ПОБЕ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ec2e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fb1f"/>
                </a:solidFill>
                <a:latin typeface="Arial"/>
              </a:rPr>
              <a:t>ФОТОПУТЕШЕСТВ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 rot="20157600">
            <a:off x="441000" y="1522440"/>
            <a:ext cx="3336840" cy="247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Наталья\Мои документы\Мои рисунки\Рисунок6.JPG"/>
          <p:cNvPicPr/>
          <p:nvPr/>
        </p:nvPicPr>
        <p:blipFill>
          <a:blip r:embed="rId2"/>
          <a:stretch/>
        </p:blipFill>
        <p:spPr>
          <a:xfrm rot="1276200">
            <a:off x="4788000" y="1557360"/>
            <a:ext cx="3564000" cy="234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395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Президент России Владимир Владимирович Путин подписал указ в соответствии с которым 2014 год в нашей стране объявлен Годом культуры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3" descr="C:\Documents and Settings\Наталья\Мои документы\Мои рисунки\37987014.jpg"/>
          <p:cNvPicPr/>
          <p:nvPr/>
        </p:nvPicPr>
        <p:blipFill>
          <a:blip r:embed="rId1"/>
          <a:stretch/>
        </p:blipFill>
        <p:spPr>
          <a:xfrm>
            <a:off x="5435640" y="1341360"/>
            <a:ext cx="3297240" cy="504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Наталья\Мои документы\Мои рисунки\932131255.jpg"/>
          <p:cNvPicPr/>
          <p:nvPr/>
        </p:nvPicPr>
        <p:blipFill>
          <a:blip r:embed="rId2"/>
          <a:stretch/>
        </p:blipFill>
        <p:spPr>
          <a:xfrm>
            <a:off x="1403280" y="3933720"/>
            <a:ext cx="3733920" cy="257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313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-129240"/>
            <a:ext cx="715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260280"/>
            <a:ext cx="7386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Что есть Культура?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вигатель прогресса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Основа жизни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интез Красоты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отивовес агрессии и стресса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Зерно Прекрасного на Ниве Доброты.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Культ Ура - поклоненье Свету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ияющему в звездной высоте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Борьба за эволюцию Планеты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тремленье жить в Любви и Чистоте!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уть Созидания Гармонии и Духа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Таланта, закаленного в Огне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лужения Искусству и Науке,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олезность людям, обществу, стране...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Культура нам дана для осознания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о - Творчества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оцессов Мирозд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втор неизвесте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то такое культура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63520" y="4508280"/>
            <a:ext cx="73864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ультура - это сумма знаний и умений, накопленных человечеством во всех областях деятельности люде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2" descr="2014-&amp;Gcy;&amp;ocy;&amp;dcy; &amp;Kcy;&amp;ucy;&amp;lcy;&amp;softcy;&amp;tcy;&amp;ucy;&amp;rcy;&amp;ycy; / &amp;Mcy;&amp;Bcy;&amp;Ocy;&amp;Ucy; &quot;&amp;Scy;&amp;rcy;&amp;iecy;&amp;dcy;&amp;ncy;&amp;iecy;&amp;kcy;&amp;icy;&amp;bcy;&amp;iecy;&amp;chcy;&amp;scy;&amp;kcy;&amp;acy;&amp;yacy; &amp;Scy;&amp;Ocy;&amp;SHcy;&quot; &amp;Kcy;&amp;acy;&amp;ncy;&amp;acy;&amp;shcy;&amp;scy;&amp;kcy;&amp;ocy;&amp;gcy;&amp;ocy; &amp;rcy;&amp;acy;&amp;jcy;&amp;ocy;&amp;ncy;&amp;acy; / &amp;Pcy;&amp;ocy;&amp;rcy;&amp;tcy;&amp;acy;&amp;lcy; &amp;ocy;&amp;bcy;&amp;rcy;&amp;acy;&amp;zcy;&amp;ocy;&amp;vcy;&amp;acy;&amp;ncy;&amp;icy;&amp;yacy; &amp;CHcy;&amp;Rcy;"/>
          <p:cNvPicPr/>
          <p:nvPr/>
        </p:nvPicPr>
        <p:blipFill>
          <a:blip r:embed="rId1"/>
          <a:stretch/>
        </p:blipFill>
        <p:spPr>
          <a:xfrm>
            <a:off x="1403280" y="1268280"/>
            <a:ext cx="504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Что такое национальная культура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3520" y="4941720"/>
            <a:ext cx="7386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ациональная культура - это то, что вместе с общностью языка, территории, традициями и обычаями составляет суть народа, выделяет его среди других народо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2" descr="&amp;Bcy;&amp;acy;&amp;lcy;&amp;acy;&amp;lcy;&amp;acy;&amp;jcy;&amp;kcy;&amp;icy; &amp;Rcy;&amp;ocy;&amp;yacy;&amp;lcy;&amp;softcy; &amp;Mcy;&amp;softcy;&amp;yucy;&amp;zcy;&amp;icy;&amp;kcy;"/>
          <p:cNvPicPr/>
          <p:nvPr/>
        </p:nvPicPr>
        <p:blipFill>
          <a:blip r:embed="rId1"/>
          <a:stretch/>
        </p:blipFill>
        <p:spPr>
          <a:xfrm>
            <a:off x="1332000" y="2781360"/>
            <a:ext cx="1514520" cy="1565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&amp;Ncy;&amp;acy;&amp;scy;&amp;tcy;&amp;ocy;&amp;yacy;&amp;shchcy;&amp;iecy;&amp;jcy; &amp;scy;&amp;acy;&amp;mcy;&amp;ocy;&amp;vcy;&amp;acy;&amp;rcy;&amp;ncy;&amp;ocy;&amp;jcy; &amp;scy;&amp;tcy;&amp;ocy;&amp;lcy;&amp;icy;&amp;tscy;&amp;iecy;&amp;jcy; &amp;yacy;&amp;vcy;&amp;lcy;&amp;yacy;&amp;iecy;&amp;tcy;&amp;scy;&amp;yacy; &amp;Tcy;&amp;ucy;&amp;lcy;&amp;acy;. &amp;Pcy;&amp;iecy;&amp;rcy;&amp;vcy;&amp;acy;&amp;yacy; &amp;scy;&amp;acy;&amp;mcy;&amp;ocy;&amp;vcy;&amp;acy;&amp;rcy;&amp;ncy;&amp;acy;&amp;yacy; &amp;fcy;&amp;acy;&amp;bcy;&amp;rcy;&amp;icy;&amp;kcy;&amp;acy; &amp;tcy;&amp;acy;&amp;mcy; &amp;bcy;&amp;ycy;&amp;lcy;&amp;acy; &amp;ocy;&amp;scy;&amp;ncy;&amp;ocy;&amp;vcy;&amp;acy;&amp;ncy;&amp;acy; &amp;vcy; 1778 &amp;gcy;&amp;ocy;&amp;dcy;&amp;ucy;, &amp;acy; &amp;kcy; 1890 &amp;gcy;&amp;ocy;&amp;dcy;&amp;ucy; &amp;icy;&amp;khcy; &amp;bcy;&amp;ycy;&amp;lcy;&amp;ocy; &amp;ucy;&amp;zhcy;&amp;iecy;"/>
          <p:cNvPicPr/>
          <p:nvPr/>
        </p:nvPicPr>
        <p:blipFill>
          <a:blip r:embed="rId2"/>
          <a:stretch/>
        </p:blipFill>
        <p:spPr>
          <a:xfrm>
            <a:off x="3419640" y="3429000"/>
            <a:ext cx="1079280" cy="129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&amp;Icy;&amp;gcy;&amp;rcy;&amp;acy; &amp;vcy; &amp;icy;&amp;dcy;&amp;iecy;&amp;icy;"/>
          <p:cNvPicPr/>
          <p:nvPr/>
        </p:nvPicPr>
        <p:blipFill>
          <a:blip r:embed="rId3"/>
          <a:stretch/>
        </p:blipFill>
        <p:spPr>
          <a:xfrm>
            <a:off x="5148360" y="2708280"/>
            <a:ext cx="1871640" cy="1525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132000" y="907920"/>
            <a:ext cx="1657440" cy="2071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2087640" cy="14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24000" y="981000"/>
            <a:ext cx="20476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Эмблема Года культуры в Российской Федерац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3284640"/>
            <a:ext cx="734544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f1311"/>
                </a:solidFill>
                <a:uFillTx/>
                <a:latin typeface="Arial"/>
              </a:rPr>
              <a:t>ВСЕ РОССИЯНЕ НАДЕЮТСЯ, ЧТО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-возродятся сельские клубы и библиотек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- получит новый стимул для развития народное творчество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-дети будут знать истоки родной культуры и любить все то, что определяет национальный характер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-явятся миру новые меценаты, которые путем финансовых вливаний смогут поднять культуру на высокий уровень-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1700" spc="-1" strike="noStrike">
                <a:solidFill>
                  <a:srgbClr val="2f1311"/>
                </a:solidFill>
                <a:latin typeface="Arial"/>
              </a:rPr>
              <a:t>-молодежь будет воспитываться в духе миролюбия и оптимизма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e40212"/>
                </a:solidFill>
                <a:latin typeface="Arial"/>
              </a:rPr>
              <a:t>А главное…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0212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e4021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e40212"/>
                </a:solidFill>
                <a:latin typeface="Arial"/>
              </a:rPr>
              <a:t>повысится личная культура </a:t>
            </a:r>
            <a:r>
              <a:rPr b="1" lang="en-US" sz="2400" spc="-1" strike="noStrike" u="sng">
                <a:solidFill>
                  <a:srgbClr val="e40212"/>
                </a:solidFill>
                <a:uFillTx/>
                <a:latin typeface="Arial"/>
              </a:rPr>
              <a:t>каждого россиянина</a:t>
            </a:r>
            <a:r>
              <a:rPr b="1" lang="en-US" sz="2400" spc="-1" strike="noStrike">
                <a:solidFill>
                  <a:srgbClr val="e40212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2" descr="C:\Documents and Settings\Наталья\Мои документы\Мои рисунки\s92327751.jpg"/>
          <p:cNvPicPr/>
          <p:nvPr/>
        </p:nvPicPr>
        <p:blipFill>
          <a:blip r:embed="rId2"/>
          <a:stretch/>
        </p:blipFill>
        <p:spPr>
          <a:xfrm>
            <a:off x="539640" y="981000"/>
            <a:ext cx="3024360" cy="2027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80000" y="1052280"/>
            <a:ext cx="37447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Цель: привлечение внимания общества к вопросам развития культуры, сохранения культурно-исторического наследия и роли Российской культуры во всём мир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5280" y="227160"/>
            <a:ext cx="532908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9068c"/>
                </a:solidFill>
                <a:latin typeface="Arial"/>
              </a:rPr>
              <a:t>Ставропольская земля несет в себе богатейшее культурно-историческое наследие. Но самое главное богатство любого края и всей нашей страны в целом – это люди. </a:t>
            </a:r>
            <a:br>
              <a:rPr sz="1600"/>
            </a:b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3284280"/>
            <a:ext cx="75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068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2017cf"/>
                </a:solidFill>
                <a:latin typeface="Arial"/>
              </a:rPr>
              <a:t>Край мой, Ставрополье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ec2e"/>
                </a:solidFill>
                <a:latin typeface="Arial"/>
              </a:rPr>
              <a:t>Я люблю тебя, родное Ставрополь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ec2e"/>
                </a:solidFill>
                <a:latin typeface="Arial"/>
              </a:rPr>
              <a:t>Я люблю тебя, родной мой кр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ec2e"/>
                </a:solidFill>
                <a:latin typeface="Arial"/>
              </a:rPr>
              <a:t>За твои лазоревые зор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ec2e"/>
                </a:solidFill>
                <a:latin typeface="Arial"/>
              </a:rPr>
              <a:t>За пшеничный и арбузный р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017cf"/>
                </a:solidFill>
                <a:latin typeface="Arial"/>
              </a:rPr>
              <a:t>                                          </a:t>
            </a:r>
            <a:r>
              <a:rPr b="1" i="1" lang="en-US" sz="2800" spc="-1" strike="noStrike">
                <a:solidFill>
                  <a:srgbClr val="2017cf"/>
                </a:solidFill>
                <a:latin typeface="Arial"/>
              </a:rPr>
              <a:t>Диденко Дар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24000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6621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95280" y="227160"/>
            <a:ext cx="532908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9068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763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068c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29068c"/>
                </a:solidFill>
                <a:latin typeface="Arial"/>
              </a:rPr>
              <a:t>Наше село Александровское является малой частичкой огромной страны России. В нашем селе  живёт множество выдающихся людей, вписавших яркие страницы в славную летопись краевой, районной истории и культур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26636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880000" cy="196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492360" y="404640"/>
            <a:ext cx="2668680" cy="2001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516720" y="189000"/>
            <a:ext cx="245268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7667640" y="2421000"/>
            <a:ext cx="1225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11:15:03Z</dcterms:created>
  <dc:creator>Admin</dc:creator>
  <dc:description/>
  <dc:language>en-US</dc:language>
  <cp:lastModifiedBy>Admin</cp:lastModifiedBy>
  <dcterms:modified xsi:type="dcterms:W3CDTF">2014-10-30T16:14:25Z</dcterms:modified>
  <cp:revision>18</cp:revision>
  <dc:subject/>
  <dc:title>Слайд 1</dc:title>
</cp:coreProperties>
</file>