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0EB-BA54-4B4A-AE35-1891DEA5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9329-2B94-4258-B11E-6168976B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8B0-1D83-4BCD-B26D-3A331909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0D0-581E-404E-A20A-EBAD44A6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D366C-85E7-4378-A9B8-E968066C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29A5D-59EC-4EEF-93A0-5A7BA021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0A481-651B-4DCE-B559-F14B9CB4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6E887-4A86-484D-BBE5-A5825E42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EE17E-0B45-4E12-BA99-CDB5F5EF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34795-5DD3-467A-9EB4-1FE8D07E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E1245-9DA5-4010-A262-CBB4AEA9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A34-8AD1-4986-A8AF-4172D1AA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E9CB5-38BB-4B23-9634-2861AE45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1F6ED-951A-479B-945D-2C52A1DE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61D62-C88C-4EDA-9DC6-2487B3DB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BA8B0-7AD2-4D19-B28A-2D3EE28B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DDAD5-A8F7-4E7B-ABD2-3BE7A41B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E226-C8D0-46D7-A300-0C677626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119-CE41-4532-949B-853F0AEB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5CC-DCAE-472E-89BD-1205698B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5175-6522-49E4-B5B2-D31B0633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8D7F-E8B2-4F67-84FC-C3108B3A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4A7-DD60-4E9D-8DDC-377C375A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712F-67CC-4852-9D6D-9E288FCE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28C3-FE26-4201-981E-0409D822B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19D9-8273-453D-A47A-574E002237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ru.wikipedia.org/wiki/&#1043;&#1086;&#1089;&#1091;&#1076;&#1072;&#1088;&#1089;&#1090;&#1074;&#1077;&#1085;&#1085;&#1099;&#1081;_&#1092;&#1083;&#1072;&#1075;" TargetMode="External"/><Relationship Id="rId3" Type="http://schemas.openxmlformats.org/officeDocument/2006/relationships/hyperlink" Target="https://ru.wikipedia.org/wiki/&#1056;&#1086;&#1089;&#1089;&#1080;&#1103;" TargetMode="External"/><Relationship Id="rId4" Type="http://schemas.openxmlformats.org/officeDocument/2006/relationships/hyperlink" Target="https://ru.wikipedia.org/wiki/&#1043;&#1086;&#1089;&#1091;&#1076;&#1072;&#1088;&#1089;&#1090;&#1074;&#1077;&#1085;&#1085;&#1099;&#1077;_&#1089;&#1080;&#1084;&#1074;&#1086;&#1083;&#1099;" TargetMode="External"/><Relationship Id="rId5" Type="http://schemas.openxmlformats.org/officeDocument/2006/relationships/hyperlink" Target="https://ru.wikipedia.org/wiki/&#1043;&#1077;&#1088;&#1073;_&#1056;&#1086;&#1089;&#1089;&#1080;&#1080;" TargetMode="External"/><Relationship Id="rId6" Type="http://schemas.openxmlformats.org/officeDocument/2006/relationships/hyperlink" Target="https://ru.wikipedia.org/wiki/&#1043;&#1080;&#1084;&#1085;_&#1056;&#1086;&#1089;&#1089;&#1080;&#1080;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hyperlink" Target="https://ru.wikipedia.org/wiki/&#1057;&#1057;&#1057;&#1056;" TargetMode="External"/><Relationship Id="rId4" Type="http://schemas.openxmlformats.org/officeDocument/2006/relationships/hyperlink" Target="https://ru.wikipedia.org/wiki/&#1040;&#1083;&#1077;&#1082;&#1089;&#1072;&#1085;&#1076;&#1088;&#1086;&#1074;,_&#1040;&#1083;&#1077;&#1082;&#1089;&#1072;&#1085;&#1076;&#1088;_&#1042;&#1072;&#1089;&#1080;&#1083;&#1100;&#1077;&#1074;&#1080;&#1095;_%28&#1082;&#1086;&#1084;&#1087;&#1086;&#1079;&#1080;&#1090;&#1086;&#1088;%29" TargetMode="External"/><Relationship Id="rId5" Type="http://schemas.openxmlformats.org/officeDocument/2006/relationships/hyperlink" Target="https://ru.wikipedia.org/wiki/&#1052;&#1080;&#1093;&#1072;&#1083;&#1082;&#1086;&#1074;,_&#1057;&#1077;&#1088;&#1075;&#1077;&#1081;_&#1042;&#1083;&#1072;&#1076;&#1080;&#1084;&#1080;&#1088;&#1086;&#1074;&#1080;&#1095;" TargetMode="External"/><Relationship Id="rId6" Type="http://schemas.openxmlformats.org/officeDocument/2006/relationships/hyperlink" Target="https://ru.wikipedia.org/wiki/&#1069;&#1083;&#1100;-&#1056;&#1077;&#1075;&#1080;&#1089;&#1090;&#1072;&#1085;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22_&#1072;&#1074;&#1075;&#1091;&#1089;&#1090;&#1072;" TargetMode="External"/><Relationship Id="rId2" Type="http://schemas.openxmlformats.org/officeDocument/2006/relationships/hyperlink" Target="https://ru.wikipedia.org/wiki/1994_&#1075;&#1086;&#1076;" TargetMode="External"/><Relationship Id="rId3" Type="http://schemas.openxmlformats.org/officeDocument/2006/relationships/hyperlink" Target="http://www.rusflag.ru/docm/ukazdgf.htm" TargetMode="External"/><Relationship Id="rId4" Type="http://schemas.openxmlformats.org/officeDocument/2006/relationships/hyperlink" Target="https://ru.wikipedia.org/wiki/&#1055;&#1088;&#1077;&#1079;&#1080;&#1076;&#1077;&#1085;&#1090;_&#1056;&#1086;&#1089;&#1089;&#1080;&#1081;&#1089;&#1082;&#1086;&#1081;_&#1060;&#1077;&#1076;&#1077;&#1088;&#1072;&#1094;&#1080;&#1080;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s://ru.wikipedia.org/wiki/&#1054;&#1089;&#1090;&#1072;&#1085;&#1082;&#1080;&#1085;&#1089;&#1082;&#1072;&#1103;_&#1090;&#1077;&#1083;&#1077;&#1073;&#1072;&#1096;&#1085;&#1103;" TargetMode="External"/><Relationship Id="rId7" Type="http://schemas.openxmlformats.org/officeDocument/2006/relationships/hyperlink" Target="https://ru.wikipedia.org/wiki/&#1044;&#1077;&#1085;&#1100;_&#1056;&#1086;&#1089;&#1089;&#1080;&#1080;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2;&#1083;&#1072;&#1076;&#1080;&#1074;&#1086;&#1089;&#1090;&#1086;&#1082;" TargetMode="External"/><Relationship Id="rId2" Type="http://schemas.openxmlformats.org/officeDocument/2006/relationships/hyperlink" Target="https://ru.wikipedia.org/wiki/7_&#1080;&#1102;&#1083;&#1103;" TargetMode="External"/><Relationship Id="rId3" Type="http://schemas.openxmlformats.org/officeDocument/2006/relationships/hyperlink" Target="https://ru.wikipedia.org/wiki/2013_&#1075;&#1086;&#1076;" TargetMode="External"/><Relationship Id="rId4" Type="http://schemas.openxmlformats.org/officeDocument/2006/relationships/hyperlink" Target="https://ru.wikipedia.org/wiki/&#1047;&#1086;&#1083;&#1086;&#1090;&#1086;&#1081;_&#1084;&#1086;&#1089;&#1090;" TargetMode="External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http://gazeta.tver.ru/sites/default/files/cck/1-osnovnoy_flag.jpeg?13771957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1219320" y="1043640"/>
            <a:ext cx="693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Государственный флаг</a:t>
            </a: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Рос</a:t>
            </a:r>
            <a:r>
              <a:rPr b="1" lang="ru-RU" sz="6000" spc="-1" strike="noStrike">
                <a:solidFill>
                  <a:srgbClr val="6699ff"/>
                </a:solidFill>
                <a:latin typeface="Tahoma"/>
              </a:rPr>
              <a:t>сий</a:t>
            </a: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ской </a:t>
            </a:r>
            <a:r>
              <a:rPr b="1" lang="ru-RU" sz="60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Федерации</a:t>
            </a: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&amp;Bcy;&amp;ocy;&amp;iecy;&amp;vcy;&amp;acy;&amp;yacy; &amp;tcy;&amp;iecy;&amp;khcy;&amp;ncy;&amp;icy;&amp;kcy;&amp;acy; - &amp;zhcy;&amp;icy;&amp;zcy;&amp;ncy;&amp;softcy; &amp;icy; &amp;scy;&amp;ucy;&amp;dcy;&amp;softcy;&amp;bcy;&amp;acy;."/>
          <p:cNvPicPr/>
          <p:nvPr/>
        </p:nvPicPr>
        <p:blipFill>
          <a:blip r:embed="rId1"/>
          <a:stretch/>
        </p:blipFill>
        <p:spPr>
          <a:xfrm>
            <a:off x="3581280" y="2362320"/>
            <a:ext cx="5334120" cy="4012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04920" y="609480"/>
            <a:ext cx="6705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Российский флаг родился вместе с первыми российскими военными кораблями и до XIX века оставался принадлежностью главным образом флотской культур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2929320"/>
            <a:ext cx="4876920" cy="33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Флаг Росси́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Госуда́рственный флаг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Росси́йской Федера́ции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— её официальный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государственный симво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наряду с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гербо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гимно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рб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&amp;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им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6" descr="479px-Coat_of_Arms_of_the_Russian_Federation"/>
          <p:cNvPicPr/>
          <p:nvPr/>
        </p:nvPicPr>
        <p:blipFill>
          <a:blip r:embed="rId1"/>
          <a:stretch/>
        </p:blipFill>
        <p:spPr>
          <a:xfrm>
            <a:off x="380880" y="304920"/>
            <a:ext cx="2443320" cy="26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1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3246480" cy="3657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2"/>
          <p:cNvSpPr/>
          <p:nvPr/>
        </p:nvSpPr>
        <p:spPr>
          <a:xfrm>
            <a:off x="3733920" y="1147320"/>
            <a:ext cx="5410080" cy="47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ыка и основа текста были заимствованы из гимна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Советского Союз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мелодию к которому написал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Александр Александр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на стихи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Сергея Михалков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Габриэля Эль-Регистан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5257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нь Государственного флага Российской Федерации отмечается ежегодно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22 авгус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Он был установлен в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994 год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указ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президента Российской Федерац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&amp;Fcy;&amp;acy;&amp;jcy;&amp;lcy;:Flag of Russia (Ostankino Tower).jpg"/>
          <p:cNvPicPr/>
          <p:nvPr/>
        </p:nvPicPr>
        <p:blipFill>
          <a:blip r:embed="rId5"/>
          <a:stretch/>
        </p:blipFill>
        <p:spPr>
          <a:xfrm>
            <a:off x="5562720" y="152280"/>
            <a:ext cx="3314520" cy="49532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4735440" y="5068800"/>
            <a:ext cx="44085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нятие государственного флага Российской Федерации на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Останкинской башн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12 июня 2009 года во время празднования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Дня Росси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Значение цветов флаг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амая популярная расшифровка заключается в следующем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лый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вет символизируе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лагородств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откровеннос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    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Синий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вет —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верность, честность,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безупречность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целомудрие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Красны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вет —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мужество, смелость, великодуши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любовь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амый большой флаг Росси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419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Владивосток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7 июл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2013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ти 30 тысяч горожа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троились 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мост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через бухту Золотой Рог с красными, синими и белыми флажками в руках, и воссоздали 707 метровый флаг России. Данное событие попало в книгу рекордов Гиннесса, как самый большой «живой» флаг в ми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http://www.pk25.ru/upload_files/news/13112_1.jpg"/>
          <p:cNvPicPr/>
          <p:nvPr/>
        </p:nvPicPr>
        <p:blipFill>
          <a:blip r:embed="rId5"/>
          <a:stretch/>
        </p:blipFill>
        <p:spPr>
          <a:xfrm>
            <a:off x="4495680" y="4343400"/>
            <a:ext cx="441972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http://www.rg.ru/img/content/81/19/63/2-flag600.jpg"/>
          <p:cNvPicPr/>
          <p:nvPr/>
        </p:nvPicPr>
        <p:blipFill>
          <a:blip r:embed="rId6"/>
          <a:stretch/>
        </p:blipFill>
        <p:spPr>
          <a:xfrm>
            <a:off x="3809880" y="685800"/>
            <a:ext cx="53341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1757520" y="2733840"/>
            <a:ext cx="562896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ня</dc:creator>
  <dc:description/>
  <dc:language>en-US</dc:language>
  <cp:lastModifiedBy>Таня</cp:lastModifiedBy>
  <dcterms:modified xsi:type="dcterms:W3CDTF">2014-10-30T20:00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