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D282-B23E-4BD0-A52C-BCA93D1C8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6666-66D0-4C34-B750-8C1270A5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9873-4D90-4D13-9E5D-C56753A7D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C5BD-BFC6-4E76-A3FD-482C0EC88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87E6-DB33-4CC8-9D7E-18A33F5C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E397-9DFA-44C9-A477-540D0827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7BC5-1483-4B61-80F5-4F328FFD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4E75-3A6A-4FA0-8661-E9925E9B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5E33-73A1-4577-B9A6-18693EC1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B4FC-96C1-4FF6-8F8B-A2A851EF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7C5D-DB14-4EB9-A5BC-F5CC7BBD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2D85-9C49-4AA3-8255-B1F5DF29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FF4F-D9DC-4D08-A42C-D7D2FC4B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22E1-C1BE-4F1E-98BE-32293BE2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CF2D-0A00-47C1-8EFC-65EC5230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6597-C5F7-4EAA-ACDE-7D73BA7B1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EF6E-0F60-4935-8B89-595B09B8B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B89D-FE09-4C9A-861D-4780C152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E29A-7682-4D5E-9601-92D63BCA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5AF4-D605-48A7-911C-7920C1F6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E117-AA1D-4EA3-B642-FDD69AA1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0F6A-7028-4919-8EDC-97DC6F5D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D6B7-2DD2-4484-94A9-3A5CE78C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A60C-90F1-4DEA-88AB-B2AA37CE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6a6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E137-8D93-4ADC-A8A7-4681EC5ACD8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6a6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40D9-8541-4A48-8BA8-8B77D5568E2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95280" y="1557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овая государственная политика, зафиксированная в стандартах нового поколения требует расстановки новых акцентов в образовательном процессе по иностранному язы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оритетным следует признать развитие младшего школьника, овладевающего иностранным языком как средством межкультурного общения: духовно-нравственное и интеллектуальное развит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бота по изучения алфавита (2 класс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ль упражнений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способствовать запоминанию учащимися названий букв английского алфавита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создать условия для развития умения классифицировать, сопоставлять и одновременно говори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i?id=503354285-44-72&amp;n=21"/>
          <p:cNvPicPr/>
          <p:nvPr/>
        </p:nvPicPr>
        <p:blipFill>
          <a:blip r:embed="rId1"/>
          <a:stretch/>
        </p:blipFill>
        <p:spPr>
          <a:xfrm>
            <a:off x="539640" y="1628640"/>
            <a:ext cx="2664000" cy="1913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i?id=464848731-23-72&amp;n=21"/>
          <p:cNvPicPr/>
          <p:nvPr/>
        </p:nvPicPr>
        <p:blipFill>
          <a:blip r:embed="rId2"/>
          <a:stretch/>
        </p:blipFill>
        <p:spPr>
          <a:xfrm>
            <a:off x="3348000" y="1628640"/>
            <a:ext cx="2519280" cy="189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i?id=58613870-32-72&amp;n=21"/>
          <p:cNvPicPr/>
          <p:nvPr/>
        </p:nvPicPr>
        <p:blipFill>
          <a:blip r:embed="rId3"/>
          <a:stretch/>
        </p:blipFill>
        <p:spPr>
          <a:xfrm>
            <a:off x="6012000" y="1628640"/>
            <a:ext cx="1873080" cy="18716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395280" y="4121280"/>
            <a:ext cx="822960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am the sound [e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re is my lette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are you this morning… Very well. Glad to see you. I am fin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i?id=77178168-66-72&amp;n=21"/>
          <p:cNvPicPr/>
          <p:nvPr/>
        </p:nvPicPr>
        <p:blipFill>
          <a:blip r:embed="rId1"/>
          <a:stretch/>
        </p:blipFill>
        <p:spPr>
          <a:xfrm>
            <a:off x="900000" y="144360"/>
            <a:ext cx="70567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язычная речь - это процесс создания и восприятия смыс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5280" y="234900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того, чтобы ученик овладел такой речью, необходимо на уроках использовать технологии, учитывающие психолингвистические закономерности, которые носят универсальный характер и не зависят от конкретного язы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ностранный язык» как предмет начальной школы призван реализовать цели общего начального  образ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06028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я и воспитания личности младшего школь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храны и укрепления психического здоровья де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ки к освоению содержания образования средней школы: формирование основных компонентов учебной деятельности и связанных с ними универсальных действ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ая ступень – самая значимая из все школьных ступен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десь формируются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есы младшего школьни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виды способност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, самое важное, ценностные ориент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десь закладываются основы учебной деятельнос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ение видеть цель и действовать в соответствии с н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ение оценивать процесс и результаты своей деятельности по овладению иностранным язык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34544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дагогическая технология - проектирование учебного процесса, основанное на использовании совокупности методов, приёмов и форм организации обучения и учебной деятельности, повышающих эффективность обучения, применение которых имеет чётко заданный результат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i?id=201508982-55-72&amp;n=21"/>
          <p:cNvPicPr/>
          <p:nvPr/>
        </p:nvPicPr>
        <p:blipFill>
          <a:blip r:embed="rId1"/>
          <a:stretch/>
        </p:blipFill>
        <p:spPr>
          <a:xfrm>
            <a:off x="1476360" y="2637000"/>
            <a:ext cx="52102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354800" cy="13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 повышения эффективности образовательного процесса при проведении уроков английского языка использую новые  образовательные технологии учитывая возрастные особенности детей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blog-0584295001346144650"/>
          <p:cNvPicPr/>
          <p:nvPr/>
        </p:nvPicPr>
        <p:blipFill>
          <a:blip r:embed="rId1"/>
          <a:stretch/>
        </p:blipFill>
        <p:spPr>
          <a:xfrm>
            <a:off x="2195640" y="199872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859880" cy="24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гровые технологии  - так и остаются «инновационными»  в системе российского образования. Эльконин, психолог, анализируя феномен игры, приходит к выводу, что игра – это такая деятельность, в которой воссоздаются социальные отношения между людьми вне условий непосредственно утилитарной деятель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8" descr="i?id=554904631-52-72&amp;n=21"/>
          <p:cNvPicPr/>
          <p:nvPr/>
        </p:nvPicPr>
        <p:blipFill>
          <a:blip r:embed="rId1"/>
          <a:stretch/>
        </p:blipFill>
        <p:spPr>
          <a:xfrm>
            <a:off x="1835280" y="2852640"/>
            <a:ext cx="482436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Calibri"/>
              </a:rPr>
              <a:t>Can I help you</a:t>
            </a:r>
            <a:r>
              <a:rPr b="1" lang="ru-RU" sz="2200" spc="-1" strike="noStrike">
                <a:solidFill>
                  <a:srgbClr val="cc3300"/>
                </a:solidFill>
                <a:latin typeface="Calibri"/>
              </a:rPr>
              <a:t>?</a:t>
            </a:r>
            <a:r>
              <a:rPr b="1" lang="en-US" sz="2200" spc="-1" strike="noStrike">
                <a:solidFill>
                  <a:srgbClr val="cc3300"/>
                </a:solidFill>
                <a:latin typeface="Calibri"/>
              </a:rPr>
              <a:t>  I would like to try…  Any problem</a:t>
            </a:r>
            <a:r>
              <a:rPr b="1" lang="ru-RU" sz="2200" spc="-1" strike="noStrike">
                <a:solidFill>
                  <a:srgbClr val="cc3300"/>
                </a:solidFill>
                <a:latin typeface="Calibri"/>
              </a:rPr>
              <a:t>?</a:t>
            </a:r>
            <a:r>
              <a:rPr b="1" lang="en-US" sz="2200" spc="-1" strike="noStrike">
                <a:solidFill>
                  <a:srgbClr val="cc3300"/>
                </a:solidFill>
                <a:latin typeface="Calibri"/>
              </a:rPr>
              <a:t>     </a:t>
            </a:r>
            <a:br>
              <a:rPr sz="2200"/>
            </a:br>
            <a:r>
              <a:rPr b="1" lang="en-US" sz="2200" spc="-1" strike="noStrike">
                <a:solidFill>
                  <a:srgbClr val="cc3300"/>
                </a:solidFill>
                <a:latin typeface="Calibri"/>
              </a:rPr>
              <a:t>Does it suit me</a:t>
            </a:r>
            <a:r>
              <a:rPr b="1" lang="ru-RU" sz="2200" spc="-1" strike="noStrike">
                <a:solidFill>
                  <a:srgbClr val="cc3300"/>
                </a:solidFill>
                <a:latin typeface="Calibri"/>
              </a:rPr>
              <a:t>?</a:t>
            </a:r>
            <a:r>
              <a:rPr b="1" lang="en-US" sz="2200" spc="-1" strike="noStrike">
                <a:solidFill>
                  <a:srgbClr val="cc3300"/>
                </a:solidFill>
                <a:latin typeface="Calibri"/>
              </a:rPr>
              <a:t>  - It looks good.</a:t>
            </a:r>
            <a:br>
              <a:rPr sz="2200"/>
            </a:br>
            <a:r>
              <a:rPr b="1" lang="en-US" sz="2200" spc="-1" strike="noStrike">
                <a:solidFill>
                  <a:srgbClr val="cc3300"/>
                </a:solidFill>
                <a:latin typeface="Calibri"/>
              </a:rPr>
              <a:t>How much are the jeans</a:t>
            </a:r>
            <a:r>
              <a:rPr b="1" lang="ru-RU" sz="2200" spc="-1" strike="noStrike">
                <a:solidFill>
                  <a:srgbClr val="cc3300"/>
                </a:solidFill>
                <a:latin typeface="Calibri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анционная методика требует большой подготовки, это своего рода реализация прое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 учител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работать маршрут (станции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работать на текущих уроках содержание и формы изложения содерж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работать использование языкового материа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 учени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Подготовить рисунки, схемы, таблиц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Подготовить одежду, деньги, декор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Выучить языковой материал, найти формы (в учебнике) его изло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8" descr="i?id=144824103-61-72&amp;n=21"/>
          <p:cNvPicPr/>
          <p:nvPr/>
        </p:nvPicPr>
        <p:blipFill>
          <a:blip r:embed="rId1"/>
          <a:stretch/>
        </p:blipFill>
        <p:spPr>
          <a:xfrm>
            <a:off x="755640" y="512640"/>
            <a:ext cx="3529080" cy="2205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 класс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hopping for clothes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рок обобщения материала. Станционная методика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игра «Знамя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лнышко  (одежд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алитра    (Цвет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и помощн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левая игра «В магазин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Solnushko-1"/>
          <p:cNvPicPr/>
          <p:nvPr/>
        </p:nvPicPr>
        <p:blipFill>
          <a:blip r:embed="rId2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7:35:53Z</dcterms:created>
  <dc:creator>Kolya&amp;Galya</dc:creator>
  <dc:description/>
  <dc:language>en-US</dc:language>
  <cp:lastModifiedBy>Галина</cp:lastModifiedBy>
  <dcterms:modified xsi:type="dcterms:W3CDTF">2014-10-28T16:42:55Z</dcterms:modified>
  <cp:revision>23</cp:revision>
  <dc:subject/>
  <dc:title>Слайд 1</dc:title>
</cp:coreProperties>
</file>