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8.png" ContentType="image/png"/>
  <Override PartName="/ppt/media/image9.gif" ContentType="image/gif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4E0-A248-4979-8B53-2DEEFE43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CBA-84F8-4087-8952-1A887AB9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101-4601-430A-B6E7-FB382469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995-BC39-4724-A8BE-79AABAE5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C13C-D93B-49BC-AF73-45403668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B3F8-F9C2-4E85-99F8-A0B671DE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16DB-8B23-4761-A078-715185E3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757A-7A25-488C-B4A3-0D397B19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790-AEDE-4145-B60C-71DC9BC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8A3-8F95-4921-A660-F2FC05EE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78E5-D757-4575-885C-E8BBD1D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194-0098-4A7F-93B9-7533DD0E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9216-32DD-457E-BF24-A51E7D6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6B5C-EF7B-410A-9BE0-5500407B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5DF5-31FF-48DB-92D4-FBC1219D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B2CB-4119-48F4-9E9F-37A416F6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FD5F-1668-4EF4-89D6-A7C703E9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B54-0B29-4FF2-A81C-84D69A1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7E8-FA26-404C-8FA5-39A28AE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01A-9F05-4C39-A43F-4B36FEC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869-1A64-4876-95DC-71E6A833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048-8A77-440D-8803-59D6CEE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6A7-E126-4B8F-B9B2-079888A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8C2-38AF-4B42-B64D-660C0258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A76-2A20-4886-BFA0-C4FA5EFFD7B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5175-FE0A-457F-A5D2-A2609702FE9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68000" y="4652640"/>
            <a:ext cx="8234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907920"/>
            <a:ext cx="777528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спитай отличника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76720" y="3182760"/>
            <a:ext cx="532764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дительское собр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479736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27280" y="98100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е пропускайте трудности. При необходимости обращайтесь за помощью к специалистам: психологу, логопеду, окулист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оддерживайте ребёнка в его желании добиться успеха. В каждой работе обязательно найдите, за что можно было бы его похвалить. Похвала способна повысить интеллектуальные достиж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4140360" cy="1700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9000"/>
            <a:ext cx="806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м выше образование, тем оно тоньш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1280" y="98100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самое главное?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761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4465440" cy="53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онечно, чтобы воспитать  золотого медалиста к выпускному классу, родителям надо приучать ребёнка к тому, что школа – это постоянный ежедневный труд, с первых же лет учёб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о именно первые школьные годы самые труд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чему ребёнку трудно учить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Есть ли какие-то объяснения этому, кроме лени, неорганизованност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помочь ребён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чить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то делат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984560" cy="1106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52728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4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4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4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4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4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4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4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4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4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4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4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4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4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4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4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1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Урок выучил, а вышел к доске – и молчит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4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чём проблема? «Не в памяти, а в низкой самооценке», - считают детские психологи. Ребёнок зажат, боится ошибиться, боится насмешек. Что делать?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Хвалить ребёнка за любой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маленький успех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Внушать веру в себя, в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      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собственные способ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93492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24480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3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3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Грязь в тетрадке, кривые буквы…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куда? От неразвитых мыш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уки. «От неразвитой мелк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оторики»- как выражают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пециалист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рочно покупаем пластили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лепим зверушек, человеч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резаем ножницами картинк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скрашиваем мелкие рисун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Месяц занятий  даст ощутимый результа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44944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6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6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6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6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6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4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4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4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4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4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4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4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4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Он делает глупые ошибки,                                           просто пропускает буквы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бывает, если плох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т фонетический слу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месте раскладывайт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лова на буквы. А может о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сто торопыга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Приучите ребёнка дваж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медленно прочит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написанное, прежде че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сдать работу на провер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295640" cy="1082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74328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3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3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3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3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3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3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30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30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Всё бывает – в одно ухо влетело, </a:t>
            </a:r>
            <a:br>
              <a:rPr sz="2000"/>
            </a:b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               в другое вылетело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начит надо тренировать памя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ожно поиграть в игру на запоминание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Вспомни: в какой одежде ушёл папа н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боту?»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Закрой глаза и опиши, какие предме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лежат у тебя на столе. А в комнате?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600" spc="-1" strike="noStrike">
                <a:solidFill>
                  <a:srgbClr val="006699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Приучайте ребёнка делать не тольк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то, что приятно, но и то, что нуж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Придумайте систему поощр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«Сделаешь математику – посмотри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мультфильм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366920" cy="1224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020000" y="1700280"/>
            <a:ext cx="17287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5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5219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е может сосредоточиться? Легко возбудим?       Вертится на уроке?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может быть следстви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арушением режима дня. Н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пускайте, чтобы ребёнок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сиживал перед компьютер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ли телевизором полдн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Обязательны прогулк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физические нагрузк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спорт, подвижные иг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Еда и сон воврем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16036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443640" y="4581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4:06:00Z</dcterms:created>
  <dc:creator>Администратор</dc:creator>
  <dc:description/>
  <dc:language>en-US</dc:language>
  <cp:lastModifiedBy>Office</cp:lastModifiedBy>
  <dcterms:modified xsi:type="dcterms:W3CDTF">2007-01-10T08:22:47Z</dcterms:modified>
  <cp:revision>9</cp:revision>
  <dc:subject/>
  <dc:title>Слайд 1</dc:title>
</cp:coreProperties>
</file>