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88C-D011-47E8-9DE8-6FF5F775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51B-E0A5-45D5-80C2-728C2AFF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6E3-4F77-4DA3-AEC1-5A7C2170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50D-B0E6-4C75-B13D-468FCA51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773B-7197-4C3A-AEF9-57408242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02D0-4F90-480B-927C-1F4C6A78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1902-83DF-4CE5-8492-500FE450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AE49-D9F5-4330-8415-D1B7F057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7999-79F4-43F7-B654-CF302D2C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6A88-B674-4ED2-8D7D-3F9FC4F0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4404-9F3B-4D34-93BB-9CD0439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3EF-F006-41C3-98D5-D00C6CF4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C07A-02C5-46FF-A63D-D5AC9590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5406-299F-4EA2-86F4-7AA4F114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8B38-B0C8-45CB-B7A7-907BEED4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6023-EAF3-4B7C-9FD7-45A1D3EC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4D35-2970-4935-9666-779E20A4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A54-60EB-4AA6-804A-8930068B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0B4-C3EC-4FA0-8DA4-A00BCC5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04F-B5A0-4EF5-BBDC-793CF4FB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98D-B90E-460B-B354-260AF8E9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29E-0327-4E61-87FD-FBD0FFE9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27F-F8AC-4DFF-BF1C-E72BAE94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31F-15E1-4EB8-B25C-C7ACA8D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2099-C59E-488B-8B8C-2E4BAAEFF5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176E-9298-42A2-8136-F0D8ABC61E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Табличные модели. Информационное моделирование на компьютере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итель Гудиленко В.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 клас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2960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29600" cy="4392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8137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2170080"/>
                <a:gridCol w="1440000"/>
                <a:gridCol w="1441440"/>
                <a:gridCol w="1531800"/>
                <a:gridCol w="164628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дохранил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луб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м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орьков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ыб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имля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ат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йбышевск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2170080"/>
                <a:gridCol w="1440000"/>
                <a:gridCol w="1441440"/>
                <a:gridCol w="1531800"/>
                <a:gridCol w="164628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дохранил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луб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м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5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0 кв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куб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орьков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0 кв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куб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ыб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50 кв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имля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2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00 кв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куб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ат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00 кв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0 куб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йбышевск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4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0 кв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 куб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952640" cy="485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7993080" cy="500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" y="1844640"/>
            <a:ext cx="8229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50920" y="404640"/>
          <a:ext cx="8424720" cy="2829240"/>
        </p:xfrm>
        <a:graphic>
          <a:graphicData uri="http://schemas.openxmlformats.org/drawingml/2006/table">
            <a:tbl>
              <a:tblPr/>
              <a:tblGrid>
                <a:gridCol w="1684080"/>
                <a:gridCol w="1686240"/>
                <a:gridCol w="1684080"/>
                <a:gridCol w="1685880"/>
                <a:gridCol w="168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в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глий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мец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нцуз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алья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79280" y="3429000"/>
          <a:ext cx="8496360" cy="2679840"/>
        </p:xfrm>
        <a:graphic>
          <a:graphicData uri="http://schemas.openxmlformats.org/drawingml/2006/table">
            <a:tbl>
              <a:tblPr/>
              <a:tblGrid>
                <a:gridCol w="1698840"/>
                <a:gridCol w="1700280"/>
                <a:gridCol w="1698480"/>
                <a:gridCol w="1700280"/>
                <a:gridCol w="1698480"/>
              </a:tblGrid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в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утб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скетб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дмин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ая атле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0920" y="404640"/>
          <a:ext cx="8424720" cy="2829240"/>
        </p:xfrm>
        <a:graphic>
          <a:graphicData uri="http://schemas.openxmlformats.org/drawingml/2006/table">
            <a:tbl>
              <a:tblPr/>
              <a:tblGrid>
                <a:gridCol w="1684080"/>
                <a:gridCol w="1686240"/>
                <a:gridCol w="1684080"/>
                <a:gridCol w="1685880"/>
                <a:gridCol w="168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в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глий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мец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нцуз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алья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9280" y="3429000"/>
          <a:ext cx="8496360" cy="2679840"/>
        </p:xfrm>
        <a:graphic>
          <a:graphicData uri="http://schemas.openxmlformats.org/drawingml/2006/table">
            <a:tbl>
              <a:tblPr/>
              <a:tblGrid>
                <a:gridCol w="1698840"/>
                <a:gridCol w="1700280"/>
                <a:gridCol w="1698480"/>
                <a:gridCol w="1700280"/>
                <a:gridCol w="1698480"/>
              </a:tblGrid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в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утб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скетб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дмин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ая атле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277920"/>
            <a:ext cx="4408560" cy="1139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22960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25923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344000" cy="447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137800" cy="1943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7921440" cy="444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82090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66364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675640" cy="841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8351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19040" y="576360"/>
            <a:ext cx="6505920" cy="542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82296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601560"/>
            <a:ext cx="8229600" cy="490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2296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4247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8280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93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80643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28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8424720" cy="81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5280" y="3213000"/>
            <a:ext cx="8497800" cy="1633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4000" y="5013360"/>
            <a:ext cx="820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§ 8, задание № 5,6 в тетрад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§ 9,  Задание № 4 в тетрад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Практическая работа на П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лайд 9_088 тест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453960"/>
            <a:ext cx="5513400" cy="641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229600" cy="256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8360" y="4724280"/>
            <a:ext cx="8424720" cy="108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08720" y="5300640"/>
            <a:ext cx="1584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71640" y="304920"/>
            <a:ext cx="2557440" cy="77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8229600" cy="2849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7848720" cy="40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826920" y="5516640"/>
            <a:ext cx="813780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1680" y="600120"/>
            <a:ext cx="620064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2924280"/>
            <a:ext cx="822960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334800"/>
            <a:ext cx="40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229600" cy="248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8351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43280" y="136440"/>
            <a:ext cx="2457360" cy="1011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229600" cy="2976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7704360" cy="35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39640" y="4437000"/>
            <a:ext cx="777744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5950080"/>
            <a:ext cx="360072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378000"/>
            <a:ext cx="5227560" cy="74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229600" cy="180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8424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209520"/>
            <a:ext cx="4659480" cy="938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29600" cy="253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7704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19:01:16Z</dcterms:created>
  <dc:creator>Valya</dc:creator>
  <dc:description/>
  <dc:language>en-US</dc:language>
  <cp:lastModifiedBy>Valya</cp:lastModifiedBy>
  <dcterms:modified xsi:type="dcterms:W3CDTF">2014-10-30T20:39:00Z</dcterms:modified>
  <cp:revision>3</cp:revision>
  <dc:subject/>
  <dc:title>Табличные модели. Информационное моделирование на компьютере</dc:title>
</cp:coreProperties>
</file>