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D1AAE-A4DD-4B54-871B-8DE062355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55A66-DFB5-495A-8AC9-0B4AB89CC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7FF4C-64FC-44DE-918B-F54FA4C65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692DB-4652-4090-8FC6-111E45690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3538E-CF7D-45C7-9FE9-D434DEC51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54256-C327-4B59-81AB-119B8783C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A6262-4365-4BC5-857C-691E5A5F6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7CA76-E89C-40D6-82AD-9E10B8F7C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B17C0-14E6-413F-8272-D5C9DC741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DE1F8-4DF3-499E-BF8B-2DD9092F6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5745B-59B3-4DA9-AB20-AE3AA3033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7F17A-9218-4796-BCA5-F2E69999A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46465-1018-4AE1-9E74-150EACD350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ред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ast Food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Рисунок 3" descr="01.jpg"/>
          <p:cNvPicPr/>
          <p:nvPr/>
        </p:nvPicPr>
        <p:blipFill>
          <a:blip r:embed="rId1"/>
          <a:stretch/>
        </p:blipFill>
        <p:spPr>
          <a:xfrm>
            <a:off x="971640" y="1052640"/>
            <a:ext cx="7129440" cy="496728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Рисунок 1" descr="дошираг лопша.jpg"/>
          <p:cNvPicPr/>
          <p:nvPr/>
        </p:nvPicPr>
        <p:blipFill>
          <a:blip r:embed="rId1"/>
          <a:stretch/>
        </p:blipFill>
        <p:spPr>
          <a:xfrm>
            <a:off x="539640" y="0"/>
            <a:ext cx="7920000" cy="67420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Рисунок 1" descr="дошираг.jpg"/>
          <p:cNvPicPr/>
          <p:nvPr/>
        </p:nvPicPr>
        <p:blipFill>
          <a:blip r:embed="rId1"/>
          <a:stretch/>
        </p:blipFill>
        <p:spPr>
          <a:xfrm>
            <a:off x="971640" y="333360"/>
            <a:ext cx="6913440" cy="597528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1"/>
          <p:cNvSpPr/>
          <p:nvPr/>
        </p:nvSpPr>
        <p:spPr>
          <a:xfrm>
            <a:off x="0" y="-126720"/>
            <a:ext cx="91440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13b6c"/>
                </a:solidFill>
                <a:latin typeface="Gabriola"/>
                <a:ea typeface="Times New Roman"/>
              </a:rPr>
              <a:t>Если вдуматься в эту проблему, то можно придти к выводу, что </a:t>
            </a:r>
            <a:r>
              <a:rPr b="0" lang="ru-RU" sz="2000" spc="-1" strike="noStrike" u="sng">
                <a:solidFill>
                  <a:srgbClr val="113b6c"/>
                </a:solidFill>
                <a:uFillTx/>
                <a:latin typeface="Gabriola"/>
                <a:ea typeface="Times New Roman"/>
              </a:rPr>
              <a:t>вред фаст фуда</a:t>
            </a:r>
            <a:r>
              <a:rPr b="0" lang="ru-RU" sz="2000" spc="-1" strike="noStrike">
                <a:solidFill>
                  <a:srgbClr val="113b6c"/>
                </a:solidFill>
                <a:latin typeface="Gabriola"/>
                <a:ea typeface="Times New Roman"/>
              </a:rPr>
              <a:t> не менее значителен, чем вред от алкоголя или курения, но в отличие от курения и алкоголя на пакетах с фаст фудом о вреде здоровью не предупреждается, да и люди которые с удовольствием потребляют эти кулинарные шедевры совершенно об этом не задумываются, на это просто нет времени, поэтому, в перспективе, при современных тенденциях развития индустрии фастфуда, будущие поколения ждут серьезные проблемы связанные с ожирением и всеми вытекающими из него последствиям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Рисунок 2" descr="вред.jpg"/>
          <p:cNvPicPr/>
          <p:nvPr/>
        </p:nvPicPr>
        <p:blipFill>
          <a:blip r:embed="rId1"/>
          <a:stretch/>
        </p:blipFill>
        <p:spPr>
          <a:xfrm>
            <a:off x="1476360" y="2421000"/>
            <a:ext cx="5329080" cy="4437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201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О вреде для здоровья такой пищи слышали многие. Но чем же конкретно так вредно это питание и какие именно компоненты его могут нанести непоправимый вред организму, а какие все-таки время от времени можно употреблять?</a:t>
            </a:r>
            <a:br>
              <a:rPr sz="4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6" name="Рисунок 4" descr="пс2.gif"/>
          <p:cNvPicPr/>
          <p:nvPr/>
        </p:nvPicPr>
        <p:blipFill>
          <a:blip r:embed="rId1"/>
          <a:stretch/>
        </p:blipFill>
        <p:spPr>
          <a:xfrm>
            <a:off x="250920" y="1628640"/>
            <a:ext cx="8281800" cy="475308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9" name="Рисунок 3" descr="комплект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Рисунок 1" descr="5763488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Рисунок 1" descr="ожирение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3"/>
          <p:cNvSpPr/>
          <p:nvPr/>
        </p:nvSpPr>
        <p:spPr>
          <a:xfrm>
            <a:off x="0" y="710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4" descr="C:\Users\Мария\Desktop\фаст фуды\ожирение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C:\Users\Мария\Desktop\фаст фуды\ожирение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l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C:\Users\Мария\Desktop\фаст фуды\ожирение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74208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Прямоугольник 1"/>
          <p:cNvSpPr/>
          <p:nvPr/>
        </p:nvSpPr>
        <p:spPr>
          <a:xfrm>
            <a:off x="0" y="0"/>
            <a:ext cx="9144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Кроме фаст фуда, который продается в многочисленных общественных заведениях, всё большую популярность в последнее время приобретает и домашний фаст фуд, пища быстрого приготовления, которую достаточно просто залить горячей водой и она уже готова к употреблению, в основном это лапша или картофельное пюре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Рисунок 2" descr="02.jpg"/>
          <p:cNvPicPr/>
          <p:nvPr/>
        </p:nvPicPr>
        <p:blipFill>
          <a:blip r:embed="rId1"/>
          <a:stretch/>
        </p:blipFill>
        <p:spPr>
          <a:xfrm>
            <a:off x="0" y="1125360"/>
            <a:ext cx="8567640" cy="57326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8T17:42:03Z</dcterms:created>
  <dc:creator>Мария</dc:creator>
  <dc:description/>
  <dc:language>en-US</dc:language>
  <cp:lastModifiedBy>Маша</cp:lastModifiedBy>
  <dcterms:modified xsi:type="dcterms:W3CDTF">2014-10-29T21:09:57Z</dcterms:modified>
  <cp:revision>7</cp:revision>
  <dc:subject/>
  <dc:title>Вред Fast Food!</dc:title>
</cp:coreProperties>
</file>