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B3AE-6EA7-4033-845A-BEA0EB1A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B121-CE40-46B8-A920-F7793FCB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CBE4-4BD0-45F8-B35F-FF62F898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49D-222E-450B-9088-A1F0CD8D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A37-B936-47CF-91F2-638A7EE3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2AB-0EB2-4CED-BEC4-00B0519E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43B9-1A65-4739-99EE-9D8978B8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087-1704-40E9-8375-A0C4EC5D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A78-A1AA-4FDA-A945-BF2F3D9E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412-D596-4DD9-8005-CBE6FA53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1A1B-E1F0-4DFB-9ED8-A181DC8E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D87-8661-4A48-8573-C8A65DA3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DF36-B7EF-404E-B9A7-D7350F9031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Закон сохранения массы и энер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025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1905 г. А. Эйнштейн установил закон взаимодействия массы и энерг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i="1" lang="ru-RU" sz="3200" spc="-1" strike="noStrike">
                <a:solidFill>
                  <a:srgbClr val="000066"/>
                </a:solidFill>
                <a:latin typeface="Times New Roman"/>
              </a:rPr>
              <a:t>При химических реакциях происходит взаимопревращение различных видов энергии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6877080" y="404640"/>
            <a:ext cx="2016000" cy="79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Реакция 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горения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6877080" y="1268280"/>
            <a:ext cx="2016000" cy="79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Реакция 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разложения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6877080" y="2133720"/>
            <a:ext cx="2016000" cy="79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Свечение 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фосфора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6877080" y="3213000"/>
            <a:ext cx="201600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Фотосинтез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6804000" y="3933720"/>
            <a:ext cx="2232000" cy="1511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Разложение 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взрывчатых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веществ 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при ударе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6877080" y="5589720"/>
            <a:ext cx="201600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Электролиз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4140360" y="981000"/>
            <a:ext cx="2014200" cy="79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Тепловая 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4140360" y="2276640"/>
            <a:ext cx="2016000" cy="861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Световая 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4140360" y="3933720"/>
            <a:ext cx="2014200" cy="79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Механическая 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3995640" y="4941720"/>
            <a:ext cx="2160720" cy="79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Электрическая 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395280" y="2852640"/>
            <a:ext cx="28814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Химическая энергия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9" name="Line 15"/>
          <p:cNvSpPr/>
          <p:nvPr/>
        </p:nvSpPr>
        <p:spPr>
          <a:xfrm flipV="1">
            <a:off x="3059280" y="1557000"/>
            <a:ext cx="865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0" name="Line 16"/>
          <p:cNvSpPr/>
          <p:nvPr/>
        </p:nvSpPr>
        <p:spPr>
          <a:xfrm flipH="1">
            <a:off x="3203640" y="1773360"/>
            <a:ext cx="79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1" name="Line 17"/>
          <p:cNvSpPr/>
          <p:nvPr/>
        </p:nvSpPr>
        <p:spPr>
          <a:xfrm flipV="1">
            <a:off x="3348000" y="2852640"/>
            <a:ext cx="647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2" name="Line 18"/>
          <p:cNvSpPr/>
          <p:nvPr/>
        </p:nvSpPr>
        <p:spPr>
          <a:xfrm flipH="1">
            <a:off x="3347640" y="2997360"/>
            <a:ext cx="576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3348000" y="393372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4" name="Line 20"/>
          <p:cNvSpPr/>
          <p:nvPr/>
        </p:nvSpPr>
        <p:spPr>
          <a:xfrm flipH="1" flipV="1">
            <a:off x="3347640" y="4149360"/>
            <a:ext cx="6476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5" name="Line 21"/>
          <p:cNvSpPr/>
          <p:nvPr/>
        </p:nvSpPr>
        <p:spPr>
          <a:xfrm>
            <a:off x="3059280" y="4292640"/>
            <a:ext cx="93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6" name="Line 22"/>
          <p:cNvSpPr/>
          <p:nvPr/>
        </p:nvSpPr>
        <p:spPr>
          <a:xfrm flipH="1" flipV="1">
            <a:off x="2771640" y="4292280"/>
            <a:ext cx="1224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7" name="Line 23"/>
          <p:cNvSpPr/>
          <p:nvPr/>
        </p:nvSpPr>
        <p:spPr>
          <a:xfrm flipV="1">
            <a:off x="6227640" y="907560"/>
            <a:ext cx="505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8" name="Line 25"/>
          <p:cNvSpPr/>
          <p:nvPr/>
        </p:nvSpPr>
        <p:spPr>
          <a:xfrm>
            <a:off x="6227640" y="1628640"/>
            <a:ext cx="505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9" name="Line 26"/>
          <p:cNvSpPr/>
          <p:nvPr/>
        </p:nvSpPr>
        <p:spPr>
          <a:xfrm flipV="1">
            <a:off x="6227640" y="2565000"/>
            <a:ext cx="576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0" name="Line 27"/>
          <p:cNvSpPr/>
          <p:nvPr/>
        </p:nvSpPr>
        <p:spPr>
          <a:xfrm>
            <a:off x="6300720" y="3141720"/>
            <a:ext cx="432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1" name="Line 28"/>
          <p:cNvSpPr/>
          <p:nvPr/>
        </p:nvSpPr>
        <p:spPr>
          <a:xfrm>
            <a:off x="6227640" y="4365720"/>
            <a:ext cx="5050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2" name="Line 29"/>
          <p:cNvSpPr/>
          <p:nvPr/>
        </p:nvSpPr>
        <p:spPr>
          <a:xfrm>
            <a:off x="6156360" y="5516640"/>
            <a:ext cx="64764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3" name="5-конечная звезда 1"/>
          <p:cNvSpPr/>
          <p:nvPr/>
        </p:nvSpPr>
        <p:spPr>
          <a:xfrm>
            <a:off x="611280" y="404640"/>
            <a:ext cx="360360" cy="397080"/>
          </a:xfrm>
          <a:custGeom>
            <a:avLst/>
            <a:gdLst/>
            <a:ahLst/>
            <a:rect l="l" t="t" r="r" b="b"/>
            <a:pathLst>
              <a:path w="360040" h="396081">
                <a:moveTo>
                  <a:pt x="0" y="151289"/>
                </a:moveTo>
                <a:lnTo>
                  <a:pt x="137524" y="151290"/>
                </a:lnTo>
                <a:lnTo>
                  <a:pt x="180020" y="0"/>
                </a:lnTo>
                <a:lnTo>
                  <a:pt x="222516" y="151290"/>
                </a:lnTo>
                <a:lnTo>
                  <a:pt x="360040" y="151289"/>
                </a:lnTo>
                <a:lnTo>
                  <a:pt x="248780" y="244790"/>
                </a:lnTo>
                <a:lnTo>
                  <a:pt x="291278" y="396080"/>
                </a:lnTo>
                <a:lnTo>
                  <a:pt x="180020" y="302577"/>
                </a:lnTo>
                <a:lnTo>
                  <a:pt x="68762" y="396080"/>
                </a:lnTo>
                <a:lnTo>
                  <a:pt x="111260" y="244790"/>
                </a:lnTo>
                <a:lnTo>
                  <a:pt x="0" y="1512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1069200" y="4302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Анимация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4292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На основании закона сохранения и превращения энергии составляются термохимические урав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+ 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401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Д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= 2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572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Д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Проявление закона сохранения массы и энергии в природ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8207280" cy="16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Фотосинтез             Рост зелёной мас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рожайность с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х культу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0006-009-Obrazovanie-v-listjakh-rastenij-organicheskikh-veschestv"/>
          <p:cNvPicPr/>
          <p:nvPr/>
        </p:nvPicPr>
        <p:blipFill>
          <a:blip r:embed="rId2"/>
          <a:stretch/>
        </p:blipFill>
        <p:spPr>
          <a:xfrm>
            <a:off x="755640" y="4365720"/>
            <a:ext cx="2295360" cy="1981080"/>
          </a:xfrm>
          <a:prstGeom prst="rect">
            <a:avLst/>
          </a:prstGeom>
          <a:ln w="0">
            <a:noFill/>
          </a:ln>
        </p:spPr>
      </p:pic>
      <p:sp>
        <p:nvSpPr>
          <p:cNvPr id="99" name="Line 4"/>
          <p:cNvSpPr/>
          <p:nvPr/>
        </p:nvSpPr>
        <p:spPr>
          <a:xfrm>
            <a:off x="3419640" y="2349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7885080" y="234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684360" y="292428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102" name="Picture 9" descr="1280750455_big_540202_science_issledovaniya"/>
          <p:cNvPicPr/>
          <p:nvPr/>
        </p:nvPicPr>
        <p:blipFill>
          <a:blip r:embed="rId3"/>
          <a:stretch/>
        </p:blipFill>
        <p:spPr>
          <a:xfrm>
            <a:off x="3924360" y="4508640"/>
            <a:ext cx="2371680" cy="1790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34_pshenica"/>
          <p:cNvPicPr/>
          <p:nvPr/>
        </p:nvPicPr>
        <p:blipFill>
          <a:blip r:embed="rId4"/>
          <a:stretch/>
        </p:blipFill>
        <p:spPr>
          <a:xfrm>
            <a:off x="6948360" y="4724280"/>
            <a:ext cx="1936800" cy="1435320"/>
          </a:xfrm>
          <a:prstGeom prst="rect">
            <a:avLst/>
          </a:prstGeom>
          <a:ln w="0">
            <a:noFill/>
          </a:ln>
        </p:spPr>
      </p:pic>
      <p:sp>
        <p:nvSpPr>
          <p:cNvPr id="104" name="Line 12"/>
          <p:cNvSpPr/>
          <p:nvPr/>
        </p:nvSpPr>
        <p:spPr>
          <a:xfrm>
            <a:off x="3132000" y="5157720"/>
            <a:ext cx="576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5" name="Line 13"/>
          <p:cNvSpPr/>
          <p:nvPr/>
        </p:nvSpPr>
        <p:spPr>
          <a:xfrm>
            <a:off x="6372360" y="5157720"/>
            <a:ext cx="5047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нер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38H9561E55NJ"/>
          <p:cNvPicPr/>
          <p:nvPr/>
        </p:nvPicPr>
        <p:blipFill>
          <a:blip r:embed="rId2"/>
          <a:stretch/>
        </p:blipFill>
        <p:spPr>
          <a:xfrm>
            <a:off x="5364000" y="98100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luminol-9"/>
          <p:cNvPicPr/>
          <p:nvPr/>
        </p:nvPicPr>
        <p:blipFill>
          <a:blip r:embed="rId3"/>
          <a:stretch/>
        </p:blipFill>
        <p:spPr>
          <a:xfrm>
            <a:off x="4211640" y="4005360"/>
            <a:ext cx="2641680" cy="19810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1"/>
          <p:cNvSpPr/>
          <p:nvPr/>
        </p:nvSpPr>
        <p:spPr>
          <a:xfrm>
            <a:off x="3051000" y="62064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mbria Math"/>
              </a:rPr>
              <a:t>Свечение светлячков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3986640" y="350028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mbria Math"/>
              </a:rPr>
              <a:t>Свечение фосфора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1" name="Line 13"/>
          <p:cNvSpPr/>
          <p:nvPr/>
        </p:nvSpPr>
        <p:spPr>
          <a:xfrm flipV="1">
            <a:off x="2484360" y="1844640"/>
            <a:ext cx="2664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2484360" y="2276640"/>
            <a:ext cx="151128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 “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Все перемены, в натуре случающиеся, такого суть состояния, что сколько чего у одного тела отнимется, столько присовокупится к другом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                         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М.В. Ломоносов 1748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Attach"/>
          <p:cNvPicPr/>
          <p:nvPr/>
        </p:nvPicPr>
        <p:blipFill>
          <a:blip r:embed="rId2"/>
          <a:stretch/>
        </p:blipFill>
        <p:spPr>
          <a:xfrm>
            <a:off x="1476360" y="836640"/>
            <a:ext cx="6591240" cy="41911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2916360" y="981000"/>
            <a:ext cx="381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1498680" y="293760"/>
            <a:ext cx="665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 Math"/>
              </a:rPr>
              <a:t>Закон  сохранения массы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979920" y="4869000"/>
            <a:ext cx="84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 Math"/>
              </a:rPr>
              <a:t>Экспериментальное доказательство</a:t>
            </a:r>
            <a:endParaRPr b="0" lang="en-US" sz="36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Современная формулировка закон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 “ 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Масса веществ вступивших в реакцию, равна массе образовавшихся веществ.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16000" y="83664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В результате химической реакции атомы не возникают и не исчезают, а происходит их перегруппиров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908000" y="2637000"/>
            <a:ext cx="863640" cy="7920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1" name="Oval 5"/>
          <p:cNvSpPr/>
          <p:nvPr/>
        </p:nvSpPr>
        <p:spPr>
          <a:xfrm>
            <a:off x="1763640" y="3141720"/>
            <a:ext cx="432000" cy="431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2" name="Oval 6"/>
          <p:cNvSpPr/>
          <p:nvPr/>
        </p:nvSpPr>
        <p:spPr>
          <a:xfrm>
            <a:off x="1763640" y="2421000"/>
            <a:ext cx="432000" cy="431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3" name="Oval 7"/>
          <p:cNvSpPr/>
          <p:nvPr/>
        </p:nvSpPr>
        <p:spPr>
          <a:xfrm>
            <a:off x="1979640" y="4292640"/>
            <a:ext cx="863640" cy="863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4" name="Oval 8"/>
          <p:cNvSpPr/>
          <p:nvPr/>
        </p:nvSpPr>
        <p:spPr>
          <a:xfrm>
            <a:off x="1835280" y="4076640"/>
            <a:ext cx="433080" cy="4334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5" name="Oval 9"/>
          <p:cNvSpPr/>
          <p:nvPr/>
        </p:nvSpPr>
        <p:spPr>
          <a:xfrm>
            <a:off x="1979640" y="4941720"/>
            <a:ext cx="431640" cy="4334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6" name="5-конечная звезда 1"/>
          <p:cNvSpPr/>
          <p:nvPr/>
        </p:nvSpPr>
        <p:spPr>
          <a:xfrm>
            <a:off x="5724360" y="6165720"/>
            <a:ext cx="360360" cy="432000"/>
          </a:xfrm>
          <a:custGeom>
            <a:avLst/>
            <a:gdLst/>
            <a:ahLst/>
            <a:rect l="l" t="t" r="r" b="b"/>
            <a:pathLst>
              <a:path w="360040" h="432048">
                <a:moveTo>
                  <a:pt x="0" y="165027"/>
                </a:moveTo>
                <a:lnTo>
                  <a:pt x="137524" y="165028"/>
                </a:lnTo>
                <a:lnTo>
                  <a:pt x="180020" y="0"/>
                </a:lnTo>
                <a:lnTo>
                  <a:pt x="222516" y="165028"/>
                </a:lnTo>
                <a:lnTo>
                  <a:pt x="360040" y="165027"/>
                </a:lnTo>
                <a:lnTo>
                  <a:pt x="248780" y="267019"/>
                </a:lnTo>
                <a:lnTo>
                  <a:pt x="291278" y="432047"/>
                </a:lnTo>
                <a:lnTo>
                  <a:pt x="180020" y="330053"/>
                </a:lnTo>
                <a:lnTo>
                  <a:pt x="68762" y="432047"/>
                </a:lnTo>
                <a:lnTo>
                  <a:pt x="111260" y="267019"/>
                </a:lnTo>
                <a:lnTo>
                  <a:pt x="0" y="16502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6247440" y="61675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Анимация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0046 C -0.00416 -0.01133 0.01598 -0.00832 0.02882 -0.01133 C 0.0467 -0.01549 0.06459 -0.01596 0.08177 -0.02405 C 0.08594 -0.0259 0.09045 -0.02521 0.09479 -0.02544 C 0.11667 -0.02637 0.13872 -0.0266 0.16059 -0.02706 C 0.19236 -0.02937 0.22414 -0.03053 0.25591 -0.03331 C 0.30625 -0.04187 0.26841 -0.03654 0.36997 -0.03816 C 0.4007 -0.04001 0.43108 -0.03863 0.46164 -0.03654 C 0.47934 -0.03169 0.49931 -0.03146 0.51702 -0.0303 C 0.52379 -0.02799 0.53021 -0.0266 0.53716 -0.02544 C 0.54132 -0.02382 0.54601 -0.02336 0.55 -0.02081 C 0.55122 -0.01989 0.55226 -0.0185 0.55365 -0.01781 C 0.56007 -0.01457 0.56719 -0.0148 0.5724 -0.00832 E">
                                      <p:cBhvr>
                                        <p:cTn id="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32084E-006 C 0.01076 0.00486 0.00469 0.00278 0.01875 0.00486 C 0.02604 0.01087 0.0342 0.01689 0.04115 0.0236 C 0.04566 0.02799 0.0434 0.02938 0.04948 0.03146 C 0.05261 0.03262 0.05573 0.03262 0.05886 0.03308 C 0.06354 0.03493 0.06684 0.03886 0.0717 0.04071 C 0.07639 0.04257 0.0816 0.0428 0.08594 0.04557 C 0.09445 0.05112 0.10365 0.05714 0.11302 0.05968 C 0.12031 0.06593 0.125 0.06778 0.13403 0.06894 C 0.14306 0.07495 0.15365 0.07379 0.16354 0.07541 C 0.17222 0.07888 0.18056 0.08351 0.18941 0.08628 C 0.20556 0.09137 0.2224 0.09299 0.23889 0.09577 C 0.27535 0.09392 0.31198 0.09484 0.34826 0.09091 C 0.35521 0.08814 0.35886 0.08744 0.36701 0.08628 C 0.38854 0.07449 0.41372 0.07611 0.43646 0.07379 C 0.45191 0.06315 0.46597 0.06038 0.48351 0.05806 C 0.49497 0.05413 0.50642 0.05066 0.51771 0.04557 C 0.5224 0.04118 0.52778 0.03933 0.53299 0.03609 C 0.54011 0.03146 0.54688 0.02614 0.55417 0.02198 C 0.55764 0.0199 0.56163 0.01874 0.56476 0.01573 C 0.56806 0.01272 0.57274 0.0074 0.57535 0.00324 C 0.57847 -0.00185 0.57917 -0.00555 0.58351 -0.00925 C 0.58629 -0.0148 0.58802 -0.0185 0.59063 -0.02336 C 0.59184 -0.02544 0.5941 -0.02961 0.5941 -0.02961 C 0.59636 -0.0384 0.60035 -0.04603 0.60243 -0.05482 C 0.60313 -0.05806 0.60399 -0.06107 0.60469 -0.0643 C 0.60504 -0.06592 0.6059 -0.06893 0.6059 -0.06893 C 0.60625 -0.08142 0.60573 -0.09415 0.60712 -0.10664 C 0.60729 -0.10849 0.60955 -0.10826 0.61059 -0.10964 C 0.61163 -0.11103 0.61198 -0.11311 0.61302 -0.11427 C 0.61406 -0.1152 0.61649 -0.11589 0.61649 -0.11589 E">
                                      <p:cBhvr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66273E-006 C 0.0085 -0.00393 0.00139 -0.00115 0.01875 -0.00323 C 0.0276 -0.00439 0.03611 -0.00647 0.04461 -0.00948 C 0.1368 -0.00902 0.31336 -0.02521 0.43264 -0.00161 C 0.44236 0.00255 0.4526 0.00348 0.46215 0.00787 C 0.46944 0.01481 0.4717 0.01389 0.48107 0.01712 C 0.48663 0.01897 0.4901 0.02268 0.49531 0.02499 C 0.50243 0.03447 0.49878 0.04396 0.50347 0.05321 C 0.50816 0.06246 0.51875 0.06177 0.52586 0.06269 C 0.52656 0.06431 0.52708 0.06593 0.52812 0.06732 C 0.52916 0.06871 0.5309 0.06894 0.53177 0.07056 C 0.53246 0.07172 0.53229 0.0738 0.53281 0.07519 C 0.5342 0.07842 0.53767 0.08467 0.53767 0.08467 C 0.53871 0.09091 0.54097 0.09577 0.54236 0.10179 C 0.54427 0.11011 0.54531 0.12076 0.55052 0.127 C 0.55121 0.12793 0.55885 0.13417 0.56111 0.13625 C 0.56632 0.14088 0.57048 0.14666 0.57517 0.15198 C 0.57916 0.15638 0.57882 0.15684 0.57882 0.1536 E">
                                      <p:cBhvr>
                                        <p:cTn id="10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79 -1.41568E-006 C -0.0125 0.01249 0.000869999999999999 0.01157 0.00886 0.01249 C 0.02414 0.01666 0.01667 0.01527 0.03125 0.01712 C 0.03282 0.01758 0.03455 0.01758 0.03594 0.01874 C 0.03889 0.02082 0.0408 0.02545 0.0441 0.0266 C 0.05487 0.0303 0.05053 0.02869 0.05712 0.03123 C 0.06407 0.0384 0.06007 0.0347 0.06893 0.04233 C 0.07136 0.04442 0.07431 0.04442 0.07709 0.04534 C 0.08351 0.04765 0.08976 0.05043 0.09601 0.05321 C 0.1 0.05691 0.10278 0.05806 0.10764 0.05945 C 0.11546 0.06593 0.12431 0.07125 0.13351 0.07356 C 0.14375 0.07911 0.15973 0.09022 0.17014 0.09253 C 0.18316 0.10386 0.16268 0.08675 0.1783 0.09716 C 0.18768 0.1034 0.19705 0.11104 0.2066 0.11751 C 0.20834 0.11867 0.21042 0.11844 0.21233 0.11913 C 0.21476 0.12006 0.21719 0.12052 0.21945 0.12214 C 0.22709 0.12746 0.23559 0.13162 0.2441 0.13324 C 0.25053 0.1344 0.2566 0.13671 0.26303 0.13787 C 0.26928 0.13903 0.28178 0.14111 0.28178 0.14134 C 0.31268 0.14018 0.33924 0.13903 0.36893 0.13324 C 0.40365 0.11705 0.4474 0.12283 0.48073 0.12214 C 0.49306 0.11844 0.50556 0.11451 0.51719 0.10803 C 0.52605 0.10317 0.5349 0.09531 0.5441 0.09253 C 0.55296 0.08466 0.54219 0.09346 0.55243 0.08767 C 0.55487 0.08628 0.55868 0.08143 0.56059 0.07981 C 0.56372 0.07726 0.56806 0.07564 0.57118 0.07356 C 0.58021 0.06755 0.58646 0.05714 0.5948 0.0502 C 0.59705 0.04118 0.59167 0.02036 0.59827 0.02036 E">
                                      <p:cBhvr>
                                        <p:cTn id="1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0.00879 C -0.02916 0.0118 -0.04531 0.00741 -0.03541 0.01342 C -0.03316 0.01481 -0.0283 0.01666 -0.0283 0.01689 C 0.03854 0.01573 0.14809 0.00532 0.21285 0.01805 C 0.22709 0.02475 0.21146 0.01781 0.24931 0.02128 C 0.25851 0.02221 0.26823 0.02614 0.27761 0.02753 C 0.29827 0.03054 0.31823 0.03493 0.33872 0.0384 C 0.34584 0.04164 0.35243 0.04326 0.3599 0.04465 C 0.36407 0.04858 0.36823 0.04997 0.37275 0.05251 C 0.37761 0.05529 0.38073 0.05853 0.38577 0.06038 C 0.39184 0.06593 0.39809 0.06709 0.40452 0.07148 C 0.41511 0.07842 0.42309 0.08212 0.43525 0.08397 C 0.45643 0.09184 0.4816 0.09022 0.50348 0.09022 E">
                                      <p:cBhvr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E-006 -3.58779E-006 C 0.0144 0.00278 0.02256 0.00509 0.03888 0.00625 C 0.05138 0.01203 0.07031 0.01134 0.08246 0.0125 C 0.09687 0.01365 0.11058 0.01851 0.12482 0.02036 C 0.13854 0.02499 0.1217 0.01851 0.13298 0.02499 C 0.13923 0.02846 0.14756 0.02869 0.15416 0.02984 C 0.21041 0.02892 0.26406 0.02637 0.31996 0.02499 C 0.32621 0.02337 0.33263 0.02244 0.33888 0.02036 C 0.34565 0.01388 0.35433 0.01365 0.36232 0.01088 C 0.36805 0.00879 0.37534 0.00347 0.38124 0.00301 C 0.39374 0.00209 0.40642 0.00209 0.41892 0.00162 C 0.42968 0.0007 0.43906 -3.58779000000009E-006 0.44947 -0.00323 C 0.45364 -0.00462 0.46111 -0.00647 0.46597 -0.00786 C 0.46788 -0.00832 0.47187 -0.00948 0.47187 -0.00948 C 0.48506 -0.01827 0.49965 -0.02035 0.51302 -0.02822 C 0.53298 -0.03978 0.54444 -0.05112 0.55659 -0.07541 C 0.5592 -0.0872 0.56527 -0.09854 0.56944 -0.10987 C 0.57204 -0.11681 0.57847 -0.12144 0.58124 -0.12861 C 0.58854 -0.14688 0.57534 -0.11797 0.58472 -0.13809 C 0.58541 -0.1418 0.58715 -0.14527 0.58715 -0.14897 C 0.58715 -0.15776 0.58593 -0.16678 0.58593 -0.17557 E">
                                      <p:cBhvr>
                                        <p:cTn id="1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Число атомов остаётся постоянным, значит масса веществ не изменяе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00000" y="90756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На основании закона сохранения массы веществ составляются химические уравн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3200" spc="-1" strike="noStrike">
                <a:solidFill>
                  <a:srgbClr val="000066"/>
                </a:solidFill>
                <a:latin typeface="Times New Roman"/>
              </a:rPr>
              <a:t>Химическое уравнение – это условная     запись химической реакции с помощью   химических формул и зна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27092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Составление уравнений химических реакций.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Записать формулы исходных веществ и продуктов реакции (составить на основании валентности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II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l + O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l2O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"/>
          <p:cNvSpPr/>
          <p:nvPr/>
        </p:nvSpPr>
        <p:spPr>
          <a:xfrm>
            <a:off x="4140360" y="4437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116000" y="691920"/>
            <a:ext cx="7556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Расставить коэффициенты, уравнивая число атомов каждого элемента, поставить знак равен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ек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+ 3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эффициент атом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При подсчёте числа атомов элемента индекс умножается на коэффицие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 flipH="1">
            <a:off x="6156360" y="2637000"/>
            <a:ext cx="71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5" name="Line 5"/>
          <p:cNvSpPr/>
          <p:nvPr/>
        </p:nvSpPr>
        <p:spPr>
          <a:xfrm flipH="1" flipV="1">
            <a:off x="5076360" y="3357720"/>
            <a:ext cx="14292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ей Фёдоров</cp:lastModifiedBy>
  <dcterms:modified xsi:type="dcterms:W3CDTF">2013-11-18T12:51:33Z</dcterms:modified>
  <cp:revision>3</cp:revision>
  <dc:subject/>
  <dc:title>PowerPoint Presentation</dc:title>
</cp:coreProperties>
</file>