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0AD6-2704-4A18-8AB0-A2587452D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01D-51AA-46B4-A705-26980812C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662-1C97-4B5D-A4CF-16F0228E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5CE-A99C-4B06-871F-D98BE9A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21A-0204-4D64-AC5E-E10EBEDF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010-5608-437C-8AF5-145A2B24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3E7-4EE1-4D66-B90C-657573E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CA8-602C-4B40-BF72-ED49A2D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DFB-3B79-4EC3-8FD3-EE81C7C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6CB-2342-4E4A-B22C-BF098E4F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7E6-AFC5-42F1-A0C8-C1BA903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BC6-3811-4BA5-9368-86AAB57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347-8BDF-47B1-8BAE-4437118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DE0-A53C-4E17-BC3B-C327B5B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F22-36AD-47DF-A42C-613DF1C50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Calibri"/>
              </a:rPr>
              <a:t>Методы разделения и очистки вещест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особы разделения однородных смесей: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227628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Выпа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Кристалл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Дистил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Хромат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а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BOB\Desktop\химия презентация\выпаривание.jpg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3011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771640" y="502884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Выпаривание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Times New Roman"/>
              </a:rPr>
              <a:t> - выделение растворенного вещества путем испарения растворителя</a:t>
            </a: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C:\Users\BOB\Desktop\химия презентация\0014-014-Kristallizatsija.jpg"/>
          <p:cNvPicPr/>
          <p:nvPr/>
        </p:nvPicPr>
        <p:blipFill>
          <a:blip r:embed="rId1"/>
          <a:stretch/>
        </p:blipFill>
        <p:spPr>
          <a:xfrm>
            <a:off x="0" y="0"/>
            <a:ext cx="7740720" cy="4941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411280" y="5019840"/>
            <a:ext cx="657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Кристал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- процесс фазового перехода вещества из жидкого состояния в твёрдое кристаллическое с образованием кристаллов</a:t>
            </a: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тил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тилляц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оцесс разделения смеси веществ, состоящих из жидкостей, имеющих разные температуры кип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C:\Users\BOB\Desktop\химия презентация\дистилляция.jpg"/>
          <p:cNvPicPr/>
          <p:nvPr/>
        </p:nvPicPr>
        <p:blipFill>
          <a:blip r:embed="rId1"/>
          <a:stretch/>
        </p:blipFill>
        <p:spPr>
          <a:xfrm>
            <a:off x="0" y="3933720"/>
            <a:ext cx="87598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ромат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4292280"/>
            <a:ext cx="8218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роматограф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метод разделения, основанный на распределении исследуемого вещества между двумя фазами - неподвижной и подвиж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BOB\Desktop\химия презентация\6b248597203feef0ccebd12bd6efa908.jpg"/>
          <p:cNvPicPr/>
          <p:nvPr/>
        </p:nvPicPr>
        <p:blipFill>
          <a:blip r:embed="rId1"/>
          <a:stretch/>
        </p:blipFill>
        <p:spPr>
          <a:xfrm>
            <a:off x="684360" y="1557360"/>
            <a:ext cx="71071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едложите способы разделения смес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71280" y="2133360"/>
            <a:ext cx="7715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оды и растительного масл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оды и ацетон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оваренной соли и мел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меси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                        неоднор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цы невидны                частицы вид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зрачные                            непрозра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низ 3"/>
          <p:cNvSpPr/>
          <p:nvPr/>
        </p:nvSpPr>
        <p:spPr>
          <a:xfrm rot="2345400">
            <a:off x="2246040" y="703440"/>
            <a:ext cx="288720" cy="718920"/>
          </a:xfrm>
          <a:prstGeom prst="downArrow">
            <a:avLst>
              <a:gd name="adj1" fmla="val 50000"/>
              <a:gd name="adj2" fmla="val 49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трелка вниз 4"/>
          <p:cNvSpPr/>
          <p:nvPr/>
        </p:nvSpPr>
        <p:spPr>
          <a:xfrm rot="19964400">
            <a:off x="5153040" y="719280"/>
            <a:ext cx="287280" cy="7189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трелка вниз 5"/>
          <p:cNvSpPr/>
          <p:nvPr/>
        </p:nvSpPr>
        <p:spPr>
          <a:xfrm>
            <a:off x="1619280" y="1916280"/>
            <a:ext cx="21600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трелка вниз 6"/>
          <p:cNvSpPr/>
          <p:nvPr/>
        </p:nvSpPr>
        <p:spPr>
          <a:xfrm>
            <a:off x="1619280" y="3141720"/>
            <a:ext cx="216000" cy="5745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низ 7"/>
          <p:cNvSpPr/>
          <p:nvPr/>
        </p:nvSpPr>
        <p:spPr>
          <a:xfrm>
            <a:off x="6227640" y="1916280"/>
            <a:ext cx="21600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низ 8"/>
          <p:cNvSpPr/>
          <p:nvPr/>
        </p:nvSpPr>
        <p:spPr>
          <a:xfrm>
            <a:off x="6372360" y="3141720"/>
            <a:ext cx="215640" cy="5745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C:\Users\BOB\Desktop\химия презентация\testtubes.jpg"/>
          <p:cNvPicPr/>
          <p:nvPr/>
        </p:nvPicPr>
        <p:blipFill>
          <a:blip r:embed="rId1"/>
          <a:stretch/>
        </p:blipFill>
        <p:spPr>
          <a:xfrm>
            <a:off x="250920" y="4265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BOB\Desktop\химия презентация\dobav.jpg"/>
          <p:cNvPicPr/>
          <p:nvPr/>
        </p:nvPicPr>
        <p:blipFill>
          <a:blip r:embed="rId2"/>
          <a:stretch/>
        </p:blipFill>
        <p:spPr>
          <a:xfrm>
            <a:off x="4356000" y="4221000"/>
            <a:ext cx="353880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днородные смеси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628280"/>
            <a:ext cx="2819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227640" y="1700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276720" y="3860640"/>
            <a:ext cx="26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ерд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BOB\Desktop\химия презентация\47442864_2777388_large.jpg"/>
          <p:cNvPicPr/>
          <p:nvPr/>
        </p:nvPicPr>
        <p:blipFill>
          <a:blip r:embed="rId1"/>
          <a:stretch/>
        </p:blipFill>
        <p:spPr>
          <a:xfrm>
            <a:off x="17928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BOB\Desktop\химия презентация\616_large.jpg"/>
          <p:cNvPicPr/>
          <p:nvPr/>
        </p:nvPicPr>
        <p:blipFill>
          <a:blip r:embed="rId2"/>
          <a:stretch/>
        </p:blipFill>
        <p:spPr>
          <a:xfrm>
            <a:off x="5940360" y="2349360"/>
            <a:ext cx="2314800" cy="251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BOB\Desktop\химия презентация\bfiutfof.jpeg"/>
          <p:cNvPicPr/>
          <p:nvPr/>
        </p:nvPicPr>
        <p:blipFill>
          <a:blip r:embed="rId3"/>
          <a:stretch/>
        </p:blipFill>
        <p:spPr>
          <a:xfrm>
            <a:off x="2700360" y="4797360"/>
            <a:ext cx="2654280" cy="187488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низ 9"/>
          <p:cNvSpPr/>
          <p:nvPr/>
        </p:nvSpPr>
        <p:spPr>
          <a:xfrm rot="2345400">
            <a:off x="1959120" y="1063800"/>
            <a:ext cx="287280" cy="7189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низ 10"/>
          <p:cNvSpPr/>
          <p:nvPr/>
        </p:nvSpPr>
        <p:spPr>
          <a:xfrm rot="19964400">
            <a:off x="6089760" y="10065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11"/>
          <p:cNvSpPr/>
          <p:nvPr/>
        </p:nvSpPr>
        <p:spPr>
          <a:xfrm>
            <a:off x="3924360" y="1413000"/>
            <a:ext cx="431640" cy="213336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еоднородны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4920" y="1341000"/>
            <a:ext cx="1800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016680" y="126828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д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50920" y="414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210480" y="2492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спен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BOB\Desktop\химия презентация\022.JPG"/>
          <p:cNvPicPr/>
          <p:nvPr/>
        </p:nvPicPr>
        <p:blipFill>
          <a:blip r:embed="rId1"/>
          <a:stretch/>
        </p:blipFill>
        <p:spPr>
          <a:xfrm>
            <a:off x="6012000" y="2492280"/>
            <a:ext cx="2160360" cy="162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BOB\Desktop\химия презентация\ph06090.jpg"/>
          <p:cNvPicPr/>
          <p:nvPr/>
        </p:nvPicPr>
        <p:blipFill>
          <a:blip r:embed="rId2"/>
          <a:stretch/>
        </p:blipFill>
        <p:spPr>
          <a:xfrm>
            <a:off x="6372360" y="4724280"/>
            <a:ext cx="2340000" cy="164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BOB\Desktop\химия презентация\13873_2206rSL4W5O9kW0s.jpg"/>
          <p:cNvPicPr/>
          <p:nvPr/>
        </p:nvPicPr>
        <p:blipFill>
          <a:blip r:embed="rId3"/>
          <a:stretch/>
        </p:blipFill>
        <p:spPr>
          <a:xfrm>
            <a:off x="2987640" y="3141720"/>
            <a:ext cx="2689200" cy="2019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BOB\Desktop\химия презентация\1352458223_33c73e7f64.jpg"/>
          <p:cNvPicPr/>
          <p:nvPr/>
        </p:nvPicPr>
        <p:blipFill>
          <a:blip r:embed="rId4"/>
          <a:stretch/>
        </p:blipFill>
        <p:spPr>
          <a:xfrm>
            <a:off x="0" y="5033880"/>
            <a:ext cx="2743200" cy="182412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10"/>
          <p:cNvSpPr/>
          <p:nvPr/>
        </p:nvSpPr>
        <p:spPr>
          <a:xfrm rot="2345400">
            <a:off x="1814040" y="7743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низ 11"/>
          <p:cNvSpPr/>
          <p:nvPr/>
        </p:nvSpPr>
        <p:spPr>
          <a:xfrm rot="19964400">
            <a:off x="6161040" y="790560"/>
            <a:ext cx="287280" cy="72072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низ 12"/>
          <p:cNvSpPr/>
          <p:nvPr/>
        </p:nvSpPr>
        <p:spPr>
          <a:xfrm rot="18310200">
            <a:off x="2431800" y="1515960"/>
            <a:ext cx="287280" cy="143028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3"/>
          <p:cNvSpPr/>
          <p:nvPr/>
        </p:nvSpPr>
        <p:spPr>
          <a:xfrm>
            <a:off x="755640" y="1916280"/>
            <a:ext cx="287280" cy="2233440"/>
          </a:xfrm>
          <a:prstGeom prst="downArrow">
            <a:avLst>
              <a:gd name="adj1" fmla="val 50000"/>
              <a:gd name="adj2" fmla="val 501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щества в составе смеси сохраняют свои свой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меси можно разделить физическими способа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особы разделения неоднородных смесей:</a:t>
            </a: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492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 Отстаи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 Фильтр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 Действие магнит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ста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95280" y="1700280"/>
            <a:ext cx="403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таи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зделение смеси с течением времени под действием силы Архим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BOB\Desktop\химия презентация\59214174.jpg"/>
          <p:cNvPicPr/>
          <p:nvPr/>
        </p:nvPicPr>
        <p:blipFill>
          <a:blip r:embed="rId1"/>
          <a:stretch/>
        </p:blipFill>
        <p:spPr>
          <a:xfrm>
            <a:off x="0" y="1833480"/>
            <a:ext cx="3816360" cy="502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льт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льт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использование фильтров для выделения твердого вещества из газов или раств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BOB\Desktop\химия презентация\фильтрование.jpg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BOB\Desktop\химия презентация\0010-010-Dejstvie-magnitom.jpg"/>
          <p:cNvPicPr/>
          <p:nvPr/>
        </p:nvPicPr>
        <p:blipFill>
          <a:blip r:embed="rId1"/>
          <a:stretch/>
        </p:blipFill>
        <p:spPr>
          <a:xfrm>
            <a:off x="108000" y="647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16000" y="4723920"/>
            <a:ext cx="6912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ие магнито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зделение смеси при помощи магни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1:15:37Z</dcterms:created>
  <dc:creator>BOB</dc:creator>
  <dc:description/>
  <dc:language>en-US</dc:language>
  <cp:lastModifiedBy>BOB</cp:lastModifiedBy>
  <dcterms:modified xsi:type="dcterms:W3CDTF">2013-11-20T11:42:59Z</dcterms:modified>
  <cp:revision>3</cp:revision>
  <dc:subject/>
  <dc:title>Смеси</dc:title>
</cp:coreProperties>
</file>