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gif" ContentType="image/gif"/>
  <Override PartName="/ppt/media/X007.WAV" ContentType="audio/x-wav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6AC-93FA-49A4-AB71-8145C309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EC6-9D85-40E0-A611-6E3A8703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663-6A67-4354-8C56-02CE9CBA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9F4-621B-4EC2-9176-AF10D221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9C9-92D3-4C8F-B974-958B7BA1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09F-7844-4F3C-9E74-727896F7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7AC-9609-43F3-88B1-F0E83F38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E1B-3EAE-4FC0-AD9F-CE634584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69D-76A4-4BAB-8349-59DDBF86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536-221E-420F-8C8F-71D4DAAD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8A9-2B5C-4EDA-AC87-C2887A3D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9BF-4FE8-4D86-8673-CFAE33EC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E69D-F8A5-40AC-94C6-56A2D430A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audio" Target="../media/X007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X007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audio" Target="../media/X007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8.xml"/><Relationship Id="rId8" Type="http://schemas.openxmlformats.org/officeDocument/2006/relationships/audio" Target="../media/X007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8.xml"/><Relationship Id="rId8" Type="http://schemas.openxmlformats.org/officeDocument/2006/relationships/audio" Target="../media/X007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8.xml"/><Relationship Id="rId8" Type="http://schemas.openxmlformats.org/officeDocument/2006/relationships/audio" Target="../media/X007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8.xml"/><Relationship Id="rId8" Type="http://schemas.openxmlformats.org/officeDocument/2006/relationships/audio" Target="../media/X007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audio" Target="../media/X007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audio" Target="../media/X007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9.xml"/><Relationship Id="rId7" Type="http://schemas.openxmlformats.org/officeDocument/2006/relationships/audio" Target="../media/X007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audio" Target="../media/X007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0" y="67788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Какая из работ выполнена технике монотип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методич разработка\картинки\fruits_in_plate.jpg"/>
          <p:cNvPicPr/>
          <p:nvPr/>
        </p:nvPicPr>
        <p:blipFill>
          <a:blip r:embed="rId3"/>
          <a:stretch/>
        </p:blipFill>
        <p:spPr>
          <a:xfrm>
            <a:off x="6200640" y="2179800"/>
            <a:ext cx="2943360" cy="5024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методич разработка\картинки\8.jpg"/>
          <p:cNvPicPr/>
          <p:nvPr/>
        </p:nvPicPr>
        <p:blipFill>
          <a:blip r:embed="rId4"/>
          <a:stretch/>
        </p:blipFill>
        <p:spPr>
          <a:xfrm>
            <a:off x="0" y="2224080"/>
            <a:ext cx="3378240" cy="5024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E:\методич разработка\картинки\artlib_gallery-85504-b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65640" y="4114800"/>
            <a:ext cx="2736720" cy="548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3513240" y="1521000"/>
            <a:ext cx="2655720" cy="25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X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0" y="16524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Какова последовательность создания изображения в технике монотип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ый прямоугольник 10"/>
          <p:cNvSpPr/>
          <p:nvPr/>
        </p:nvSpPr>
        <p:spPr>
          <a:xfrm>
            <a:off x="2424240" y="942840"/>
            <a:ext cx="4295520" cy="34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Выбираю крас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8"/>
          <p:cNvSpPr/>
          <p:nvPr/>
        </p:nvSpPr>
        <p:spPr>
          <a:xfrm>
            <a:off x="2424240" y="1292400"/>
            <a:ext cx="429552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одготавливаю ки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Скругленный прямоугольник 9"/>
          <p:cNvSpPr/>
          <p:nvPr/>
        </p:nvSpPr>
        <p:spPr>
          <a:xfrm>
            <a:off x="2424240" y="1650960"/>
            <a:ext cx="4295520" cy="1224000"/>
          </a:xfrm>
          <a:prstGeom prst="roundRect">
            <a:avLst>
              <a:gd name="adj" fmla="val 16667"/>
            </a:avLst>
          </a:prstGeom>
          <a:solidFill>
            <a:srgbClr val="f5e0d3"/>
          </a:soli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ношу краски на пластиковую дощечку мазками, пятнами, точками, ли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Скругленный прямоугольник 16"/>
          <p:cNvSpPr/>
          <p:nvPr/>
        </p:nvSpPr>
        <p:spPr>
          <a:xfrm>
            <a:off x="2424240" y="2889360"/>
            <a:ext cx="429552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кладываю белый лист на окрашенную поверх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18"/>
          <p:cNvSpPr/>
          <p:nvPr/>
        </p:nvSpPr>
        <p:spPr>
          <a:xfrm>
            <a:off x="2424240" y="4049640"/>
            <a:ext cx="4295520" cy="96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Аккуратно приподнимаю и рассматриваю получившийся отпеча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19"/>
          <p:cNvSpPr/>
          <p:nvPr/>
        </p:nvSpPr>
        <p:spPr>
          <a:xfrm>
            <a:off x="2424240" y="5481720"/>
            <a:ext cx="4295520" cy="61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Тонкой кистью прорисовываю изобра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кругленный прямоугольник 20"/>
          <p:cNvSpPr/>
          <p:nvPr/>
        </p:nvSpPr>
        <p:spPr>
          <a:xfrm>
            <a:off x="4718160" y="6099120"/>
            <a:ext cx="4294080" cy="59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ридумываю название  получившейся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21"/>
          <p:cNvSpPr/>
          <p:nvPr/>
        </p:nvSpPr>
        <p:spPr>
          <a:xfrm>
            <a:off x="2424240" y="5018040"/>
            <a:ext cx="4295520" cy="43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Отыскиваю об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кругленный прямоугольник 11"/>
          <p:cNvSpPr/>
          <p:nvPr/>
        </p:nvSpPr>
        <p:spPr>
          <a:xfrm>
            <a:off x="2424240" y="3470400"/>
            <a:ext cx="4295520" cy="57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Разглаживаю ладонями лист от центра к кра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X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0" y="16524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Какова последовательность создания изображения в технике монотип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кругленный прямоугольник 10"/>
          <p:cNvSpPr/>
          <p:nvPr/>
        </p:nvSpPr>
        <p:spPr>
          <a:xfrm>
            <a:off x="2424240" y="942840"/>
            <a:ext cx="4295520" cy="34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Выбираю крас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Скругленный прямоугольник 8"/>
          <p:cNvSpPr/>
          <p:nvPr/>
        </p:nvSpPr>
        <p:spPr>
          <a:xfrm>
            <a:off x="2424240" y="1292400"/>
            <a:ext cx="429552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одготавливаю ки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9"/>
          <p:cNvSpPr/>
          <p:nvPr/>
        </p:nvSpPr>
        <p:spPr>
          <a:xfrm>
            <a:off x="2424240" y="1650960"/>
            <a:ext cx="4295520" cy="1224000"/>
          </a:xfrm>
          <a:prstGeom prst="roundRect">
            <a:avLst>
              <a:gd name="adj" fmla="val 16667"/>
            </a:avLst>
          </a:prstGeom>
          <a:solidFill>
            <a:srgbClr val="f5e0d3"/>
          </a:soli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ношу краски на пластиковую дощечку мазками, пятнами, точками, ли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Скругленный прямоугольник 16"/>
          <p:cNvSpPr/>
          <p:nvPr/>
        </p:nvSpPr>
        <p:spPr>
          <a:xfrm>
            <a:off x="2424240" y="2889360"/>
            <a:ext cx="429552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кладываю белый лист на окрашенную поверх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18"/>
          <p:cNvSpPr/>
          <p:nvPr/>
        </p:nvSpPr>
        <p:spPr>
          <a:xfrm>
            <a:off x="2424240" y="4049640"/>
            <a:ext cx="4295520" cy="96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Аккуратно приподнимаю и рассматриваю получившийся отпеча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кругленный прямоугольник 19"/>
          <p:cNvSpPr/>
          <p:nvPr/>
        </p:nvSpPr>
        <p:spPr>
          <a:xfrm>
            <a:off x="2424240" y="5481720"/>
            <a:ext cx="4295520" cy="61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Тонкой кистью прорисовываю изобра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20"/>
          <p:cNvSpPr/>
          <p:nvPr/>
        </p:nvSpPr>
        <p:spPr>
          <a:xfrm>
            <a:off x="2424240" y="6099120"/>
            <a:ext cx="4295520" cy="59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ридумываю название  получившейся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кругленный прямоугольник 21"/>
          <p:cNvSpPr/>
          <p:nvPr/>
        </p:nvSpPr>
        <p:spPr>
          <a:xfrm>
            <a:off x="2424240" y="5018040"/>
            <a:ext cx="4295520" cy="43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Отыскиваю об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11"/>
          <p:cNvSpPr/>
          <p:nvPr/>
        </p:nvSpPr>
        <p:spPr>
          <a:xfrm>
            <a:off x="2424240" y="3470400"/>
            <a:ext cx="4295520" cy="57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Разглаживаю ладонями лист от центра к кра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E:\методич разработка\картинки\img253 - копия.jpg"/>
          <p:cNvPicPr/>
          <p:nvPr/>
        </p:nvPicPr>
        <p:blipFill>
          <a:blip r:embed="rId3"/>
          <a:stretch/>
        </p:blipFill>
        <p:spPr>
          <a:xfrm>
            <a:off x="7345440" y="6016680"/>
            <a:ext cx="15364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X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16524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Какова последовательность создания изображения в технике монотип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10">
            <a:hlinkClick r:id="rId3" action="ppaction://hlinksldjump"/>
          </p:cNvPr>
          <p:cNvSpPr/>
          <p:nvPr/>
        </p:nvSpPr>
        <p:spPr>
          <a:xfrm>
            <a:off x="277920" y="1754280"/>
            <a:ext cx="4294080" cy="35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Выбираю крас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8"/>
          <p:cNvSpPr/>
          <p:nvPr/>
        </p:nvSpPr>
        <p:spPr>
          <a:xfrm>
            <a:off x="277920" y="2330280"/>
            <a:ext cx="429408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одготавливаю ки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кругленный прямоугольник 9"/>
          <p:cNvSpPr/>
          <p:nvPr/>
        </p:nvSpPr>
        <p:spPr>
          <a:xfrm>
            <a:off x="277920" y="3994200"/>
            <a:ext cx="4294080" cy="1222200"/>
          </a:xfrm>
          <a:prstGeom prst="roundRect">
            <a:avLst>
              <a:gd name="adj" fmla="val 16667"/>
            </a:avLst>
          </a:prstGeom>
          <a:solidFill>
            <a:srgbClr val="f5e0d3"/>
          </a:soli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ношу краски на пластиковую дощечку мазками, пятнами, точками, ли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16"/>
          <p:cNvSpPr/>
          <p:nvPr/>
        </p:nvSpPr>
        <p:spPr>
          <a:xfrm>
            <a:off x="4718160" y="1928880"/>
            <a:ext cx="4294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кладываю белый лист на окрашенную поверх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18">
            <a:hlinkClick r:id="rId4" action="ppaction://hlinksldjump"/>
          </p:cNvPr>
          <p:cNvSpPr/>
          <p:nvPr/>
        </p:nvSpPr>
        <p:spPr>
          <a:xfrm>
            <a:off x="4718160" y="2930400"/>
            <a:ext cx="4294080" cy="96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Аккуратно приподнимаю и рассматриваю получившийся отпеча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19">
            <a:hlinkClick r:id="rId5" action="ppaction://hlinksldjump"/>
          </p:cNvPr>
          <p:cNvSpPr/>
          <p:nvPr/>
        </p:nvSpPr>
        <p:spPr>
          <a:xfrm>
            <a:off x="277920" y="5778360"/>
            <a:ext cx="429408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Тонкой кистью прорисовываю изобра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20">
            <a:hlinkClick r:id="rId6" action="ppaction://hlinksldjump"/>
          </p:cNvPr>
          <p:cNvSpPr/>
          <p:nvPr/>
        </p:nvSpPr>
        <p:spPr>
          <a:xfrm>
            <a:off x="4718160" y="6099120"/>
            <a:ext cx="4294080" cy="59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ридумываю название  получившейся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21">
            <a:hlinkClick r:id="rId7" action="ppaction://hlinksldjump"/>
          </p:cNvPr>
          <p:cNvSpPr/>
          <p:nvPr/>
        </p:nvSpPr>
        <p:spPr>
          <a:xfrm>
            <a:off x="4718160" y="5562720"/>
            <a:ext cx="4294080" cy="43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Отыскиваю об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11"/>
          <p:cNvSpPr/>
          <p:nvPr/>
        </p:nvSpPr>
        <p:spPr>
          <a:xfrm>
            <a:off x="4718160" y="4314960"/>
            <a:ext cx="4294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Разглаживаю ладонями лист от центра к кра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X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0" y="16524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Какова последовательность создания изображения в технике монотип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10"/>
          <p:cNvSpPr/>
          <p:nvPr/>
        </p:nvSpPr>
        <p:spPr>
          <a:xfrm>
            <a:off x="2424240" y="942840"/>
            <a:ext cx="4295520" cy="34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Выбираю крас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8">
            <a:hlinkClick r:id="rId3" action="ppaction://hlinksldjump"/>
          </p:cNvPr>
          <p:cNvSpPr/>
          <p:nvPr/>
        </p:nvSpPr>
        <p:spPr>
          <a:xfrm>
            <a:off x="277920" y="2330280"/>
            <a:ext cx="429408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одготавливаю ки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9"/>
          <p:cNvSpPr/>
          <p:nvPr/>
        </p:nvSpPr>
        <p:spPr>
          <a:xfrm>
            <a:off x="277920" y="3994200"/>
            <a:ext cx="4294080" cy="1222200"/>
          </a:xfrm>
          <a:prstGeom prst="roundRect">
            <a:avLst>
              <a:gd name="adj" fmla="val 16667"/>
            </a:avLst>
          </a:prstGeom>
          <a:solidFill>
            <a:srgbClr val="f5e0d3"/>
          </a:soli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ношу краски на пластиковую дощечку мазками, пятнами, точками, ли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16"/>
          <p:cNvSpPr/>
          <p:nvPr/>
        </p:nvSpPr>
        <p:spPr>
          <a:xfrm>
            <a:off x="4718160" y="1928880"/>
            <a:ext cx="4294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кладываю белый лист на окрашенную поверх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18">
            <a:hlinkClick r:id="rId4" action="ppaction://hlinksldjump"/>
          </p:cNvPr>
          <p:cNvSpPr/>
          <p:nvPr/>
        </p:nvSpPr>
        <p:spPr>
          <a:xfrm>
            <a:off x="4718160" y="2930400"/>
            <a:ext cx="4294080" cy="96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Аккуратно приподнимаю и рассматриваю получившийся отпеча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19">
            <a:hlinkClick r:id="rId5" action="ppaction://hlinksldjump"/>
          </p:cNvPr>
          <p:cNvSpPr/>
          <p:nvPr/>
        </p:nvSpPr>
        <p:spPr>
          <a:xfrm>
            <a:off x="277920" y="5778360"/>
            <a:ext cx="429408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Тонкой кистью прорисовываю изобра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20">
            <a:hlinkClick r:id="rId6" action="ppaction://hlinksldjump"/>
          </p:cNvPr>
          <p:cNvSpPr/>
          <p:nvPr/>
        </p:nvSpPr>
        <p:spPr>
          <a:xfrm>
            <a:off x="4718160" y="6099120"/>
            <a:ext cx="4294080" cy="59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ридумываю название  получившейся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21">
            <a:hlinkClick r:id="rId7" action="ppaction://hlinksldjump"/>
          </p:cNvPr>
          <p:cNvSpPr/>
          <p:nvPr/>
        </p:nvSpPr>
        <p:spPr>
          <a:xfrm>
            <a:off x="4718160" y="5562720"/>
            <a:ext cx="4294080" cy="43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Отыскиваю об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11"/>
          <p:cNvSpPr/>
          <p:nvPr/>
        </p:nvSpPr>
        <p:spPr>
          <a:xfrm>
            <a:off x="4718160" y="4314960"/>
            <a:ext cx="4294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Разглаживаю ладонями лист от центра к кра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X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0" y="16524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Какова последовательность создания изображения в технике монотип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10"/>
          <p:cNvSpPr/>
          <p:nvPr/>
        </p:nvSpPr>
        <p:spPr>
          <a:xfrm>
            <a:off x="2424240" y="942840"/>
            <a:ext cx="4295520" cy="34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Выбираю крас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8"/>
          <p:cNvSpPr/>
          <p:nvPr/>
        </p:nvSpPr>
        <p:spPr>
          <a:xfrm>
            <a:off x="2424240" y="1292400"/>
            <a:ext cx="429552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одготавливаю ки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9">
            <a:hlinkClick r:id="rId3" action="ppaction://hlinksldjump"/>
          </p:cNvPr>
          <p:cNvSpPr/>
          <p:nvPr/>
        </p:nvSpPr>
        <p:spPr>
          <a:xfrm>
            <a:off x="277920" y="3994200"/>
            <a:ext cx="4294080" cy="1222200"/>
          </a:xfrm>
          <a:prstGeom prst="roundRect">
            <a:avLst>
              <a:gd name="adj" fmla="val 16667"/>
            </a:avLst>
          </a:prstGeom>
          <a:solidFill>
            <a:srgbClr val="f5e0d3"/>
          </a:soli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ношу краски на пластиковую дощечку мазками, пятнами, точками, ли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16"/>
          <p:cNvSpPr/>
          <p:nvPr/>
        </p:nvSpPr>
        <p:spPr>
          <a:xfrm>
            <a:off x="4718160" y="1928880"/>
            <a:ext cx="4294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кладываю белый лист на окрашенную поверх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18">
            <a:hlinkClick r:id="rId4" action="ppaction://hlinksldjump"/>
          </p:cNvPr>
          <p:cNvSpPr/>
          <p:nvPr/>
        </p:nvSpPr>
        <p:spPr>
          <a:xfrm>
            <a:off x="4718160" y="2930400"/>
            <a:ext cx="4294080" cy="96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Аккуратно приподнимаю и рассматриваю получившийся отпеча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19">
            <a:hlinkClick r:id="rId5" action="ppaction://hlinksldjump"/>
          </p:cNvPr>
          <p:cNvSpPr/>
          <p:nvPr/>
        </p:nvSpPr>
        <p:spPr>
          <a:xfrm>
            <a:off x="277920" y="5778360"/>
            <a:ext cx="429408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Тонкой кистью прорисовываю изобра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20">
            <a:hlinkClick r:id="rId6" action="ppaction://hlinksldjump"/>
          </p:cNvPr>
          <p:cNvSpPr/>
          <p:nvPr/>
        </p:nvSpPr>
        <p:spPr>
          <a:xfrm>
            <a:off x="4718160" y="6099120"/>
            <a:ext cx="4294080" cy="59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ридумываю название  получившейся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21">
            <a:hlinkClick r:id="rId7" action="ppaction://hlinksldjump"/>
          </p:cNvPr>
          <p:cNvSpPr/>
          <p:nvPr/>
        </p:nvSpPr>
        <p:spPr>
          <a:xfrm>
            <a:off x="4718160" y="5562720"/>
            <a:ext cx="4294080" cy="43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Отыскиваю об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11"/>
          <p:cNvSpPr/>
          <p:nvPr/>
        </p:nvSpPr>
        <p:spPr>
          <a:xfrm>
            <a:off x="4718160" y="4314960"/>
            <a:ext cx="4294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Разглаживаю ладонями лист от центра к кра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X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16524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Какова последовательность создания изображения в технике монотип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10"/>
          <p:cNvSpPr/>
          <p:nvPr/>
        </p:nvSpPr>
        <p:spPr>
          <a:xfrm>
            <a:off x="2424240" y="942840"/>
            <a:ext cx="4295520" cy="34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Выбираю крас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8"/>
          <p:cNvSpPr/>
          <p:nvPr/>
        </p:nvSpPr>
        <p:spPr>
          <a:xfrm>
            <a:off x="2424240" y="1292400"/>
            <a:ext cx="429552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одготавливаю ки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9"/>
          <p:cNvSpPr/>
          <p:nvPr/>
        </p:nvSpPr>
        <p:spPr>
          <a:xfrm>
            <a:off x="2424240" y="1650960"/>
            <a:ext cx="4295520" cy="1224000"/>
          </a:xfrm>
          <a:prstGeom prst="roundRect">
            <a:avLst>
              <a:gd name="adj" fmla="val 16667"/>
            </a:avLst>
          </a:prstGeom>
          <a:solidFill>
            <a:srgbClr val="f5e0d3"/>
          </a:soli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ношу краски на пластиковую дощечку мазками, пятнами, точками, ли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16">
            <a:hlinkClick r:id="rId3" action="ppaction://hlinksldjump"/>
          </p:cNvPr>
          <p:cNvSpPr/>
          <p:nvPr/>
        </p:nvSpPr>
        <p:spPr>
          <a:xfrm>
            <a:off x="4718160" y="3743280"/>
            <a:ext cx="4294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кладываю белый лист на окрашенную поверх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кругленный прямоугольник 18">
            <a:hlinkClick r:id="rId4" action="ppaction://hlinksldjump"/>
          </p:cNvPr>
          <p:cNvSpPr/>
          <p:nvPr/>
        </p:nvSpPr>
        <p:spPr>
          <a:xfrm>
            <a:off x="4718160" y="4522680"/>
            <a:ext cx="4294080" cy="96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Аккуратно приподнимаю и рассматриваю получившийся отпеча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19">
            <a:hlinkClick r:id="rId5" action="ppaction://hlinksldjump"/>
          </p:cNvPr>
          <p:cNvSpPr/>
          <p:nvPr/>
        </p:nvSpPr>
        <p:spPr>
          <a:xfrm>
            <a:off x="277920" y="5778360"/>
            <a:ext cx="429408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Тонкой кистью прорисовываю изобра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20">
            <a:hlinkClick r:id="rId6" action="ppaction://hlinksldjump"/>
          </p:cNvPr>
          <p:cNvSpPr/>
          <p:nvPr/>
        </p:nvSpPr>
        <p:spPr>
          <a:xfrm>
            <a:off x="4718160" y="6099120"/>
            <a:ext cx="4294080" cy="59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ридумываю название  получившейся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21">
            <a:hlinkClick r:id="rId7" action="ppaction://hlinksldjump"/>
          </p:cNvPr>
          <p:cNvSpPr/>
          <p:nvPr/>
        </p:nvSpPr>
        <p:spPr>
          <a:xfrm>
            <a:off x="4718160" y="5562720"/>
            <a:ext cx="4294080" cy="43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Отыскиваю об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11"/>
          <p:cNvSpPr/>
          <p:nvPr/>
        </p:nvSpPr>
        <p:spPr>
          <a:xfrm>
            <a:off x="277920" y="4890960"/>
            <a:ext cx="4294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Разглаживаю ладонями лист от центра к кра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X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16524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Какова последовательность создания изображения в технике монотип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10"/>
          <p:cNvSpPr/>
          <p:nvPr/>
        </p:nvSpPr>
        <p:spPr>
          <a:xfrm>
            <a:off x="2424240" y="942840"/>
            <a:ext cx="4295520" cy="34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Выбираю крас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8"/>
          <p:cNvSpPr/>
          <p:nvPr/>
        </p:nvSpPr>
        <p:spPr>
          <a:xfrm>
            <a:off x="2424240" y="1292400"/>
            <a:ext cx="429552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одготавливаю ки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9"/>
          <p:cNvSpPr/>
          <p:nvPr/>
        </p:nvSpPr>
        <p:spPr>
          <a:xfrm>
            <a:off x="2424240" y="1650960"/>
            <a:ext cx="4295520" cy="1224000"/>
          </a:xfrm>
          <a:prstGeom prst="roundRect">
            <a:avLst>
              <a:gd name="adj" fmla="val 16667"/>
            </a:avLst>
          </a:prstGeom>
          <a:solidFill>
            <a:srgbClr val="f5e0d3"/>
          </a:soli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ношу краски на пластиковую дощечку мазками, пятнами, точками, ли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16"/>
          <p:cNvSpPr/>
          <p:nvPr/>
        </p:nvSpPr>
        <p:spPr>
          <a:xfrm>
            <a:off x="2424240" y="2889360"/>
            <a:ext cx="429552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кладываю белый лист на окрашенную поверх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18">
            <a:hlinkClick r:id="rId3" action="ppaction://hlinksldjump"/>
          </p:cNvPr>
          <p:cNvSpPr/>
          <p:nvPr/>
        </p:nvSpPr>
        <p:spPr>
          <a:xfrm>
            <a:off x="4718160" y="4522680"/>
            <a:ext cx="4294080" cy="96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Аккуратно приподнимаю и рассматриваю получившийся отпеча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19">
            <a:hlinkClick r:id="rId4" action="ppaction://hlinksldjump"/>
          </p:cNvPr>
          <p:cNvSpPr/>
          <p:nvPr/>
        </p:nvSpPr>
        <p:spPr>
          <a:xfrm>
            <a:off x="277920" y="5778360"/>
            <a:ext cx="429408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Тонкой кистью прорисовываю изобра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20">
            <a:hlinkClick r:id="rId5" action="ppaction://hlinksldjump"/>
          </p:cNvPr>
          <p:cNvSpPr/>
          <p:nvPr/>
        </p:nvSpPr>
        <p:spPr>
          <a:xfrm>
            <a:off x="4718160" y="6099120"/>
            <a:ext cx="4294080" cy="59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ридумываю название  получившейся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21">
            <a:hlinkClick r:id="rId6" action="ppaction://hlinksldjump"/>
          </p:cNvPr>
          <p:cNvSpPr/>
          <p:nvPr/>
        </p:nvSpPr>
        <p:spPr>
          <a:xfrm>
            <a:off x="4718160" y="5562720"/>
            <a:ext cx="4294080" cy="43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Отыскиваю об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11">
            <a:hlinkClick r:id="rId7" action="ppaction://hlinksldjump"/>
          </p:cNvPr>
          <p:cNvSpPr/>
          <p:nvPr/>
        </p:nvSpPr>
        <p:spPr>
          <a:xfrm>
            <a:off x="277920" y="4890960"/>
            <a:ext cx="4294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Разглаживаю ладонями лист от центра к кра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X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0" y="16524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Какова последовательность создания изображения в технике монотип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10"/>
          <p:cNvSpPr/>
          <p:nvPr/>
        </p:nvSpPr>
        <p:spPr>
          <a:xfrm>
            <a:off x="2424240" y="942840"/>
            <a:ext cx="4295520" cy="34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Выбираю крас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8"/>
          <p:cNvSpPr/>
          <p:nvPr/>
        </p:nvSpPr>
        <p:spPr>
          <a:xfrm>
            <a:off x="2424240" y="1292400"/>
            <a:ext cx="429552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одготавливаю ки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9"/>
          <p:cNvSpPr/>
          <p:nvPr/>
        </p:nvSpPr>
        <p:spPr>
          <a:xfrm>
            <a:off x="2424240" y="1650960"/>
            <a:ext cx="4295520" cy="1224000"/>
          </a:xfrm>
          <a:prstGeom prst="roundRect">
            <a:avLst>
              <a:gd name="adj" fmla="val 16667"/>
            </a:avLst>
          </a:prstGeom>
          <a:solidFill>
            <a:srgbClr val="f5e0d3"/>
          </a:soli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ношу краски на пластиковую дощечку мазками, пятнами, точками, ли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16"/>
          <p:cNvSpPr/>
          <p:nvPr/>
        </p:nvSpPr>
        <p:spPr>
          <a:xfrm>
            <a:off x="2424240" y="2889360"/>
            <a:ext cx="429552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кладываю белый лист на окрашенную поверх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18">
            <a:hlinkClick r:id="rId3" action="ppaction://hlinksldjump"/>
          </p:cNvPr>
          <p:cNvSpPr/>
          <p:nvPr/>
        </p:nvSpPr>
        <p:spPr>
          <a:xfrm>
            <a:off x="4718160" y="4522680"/>
            <a:ext cx="4294080" cy="96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Аккуратно приподнимаю и рассматриваю получившийся отпеча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19">
            <a:hlinkClick r:id="rId4" action="ppaction://hlinksldjump"/>
          </p:cNvPr>
          <p:cNvSpPr/>
          <p:nvPr/>
        </p:nvSpPr>
        <p:spPr>
          <a:xfrm>
            <a:off x="277920" y="5778360"/>
            <a:ext cx="429408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Тонкой кистью прорисовываю изобра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20">
            <a:hlinkClick r:id="rId5" action="ppaction://hlinksldjump"/>
          </p:cNvPr>
          <p:cNvSpPr/>
          <p:nvPr/>
        </p:nvSpPr>
        <p:spPr>
          <a:xfrm>
            <a:off x="4718160" y="6099120"/>
            <a:ext cx="4294080" cy="59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ридумываю название  получившейся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кругленный прямоугольник 21">
            <a:hlinkClick r:id="rId6" action="ppaction://hlinksldjump"/>
          </p:cNvPr>
          <p:cNvSpPr/>
          <p:nvPr/>
        </p:nvSpPr>
        <p:spPr>
          <a:xfrm>
            <a:off x="4718160" y="5562720"/>
            <a:ext cx="4294080" cy="43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Отыскиваю об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кругленный прямоугольник 11"/>
          <p:cNvSpPr/>
          <p:nvPr/>
        </p:nvSpPr>
        <p:spPr>
          <a:xfrm>
            <a:off x="2424240" y="3470400"/>
            <a:ext cx="4295520" cy="57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Разглаживаю ладонями лист от центра к кра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X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0" y="16524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Какова последовательность создания изображения в технике монотип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10"/>
          <p:cNvSpPr/>
          <p:nvPr/>
        </p:nvSpPr>
        <p:spPr>
          <a:xfrm>
            <a:off x="2424240" y="942840"/>
            <a:ext cx="4295520" cy="34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Выбираю крас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Скругленный прямоугольник 8"/>
          <p:cNvSpPr/>
          <p:nvPr/>
        </p:nvSpPr>
        <p:spPr>
          <a:xfrm>
            <a:off x="2424240" y="1292400"/>
            <a:ext cx="429552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одготавливаю ки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кругленный прямоугольник 9"/>
          <p:cNvSpPr/>
          <p:nvPr/>
        </p:nvSpPr>
        <p:spPr>
          <a:xfrm>
            <a:off x="2424240" y="1650960"/>
            <a:ext cx="4295520" cy="1224000"/>
          </a:xfrm>
          <a:prstGeom prst="roundRect">
            <a:avLst>
              <a:gd name="adj" fmla="val 16667"/>
            </a:avLst>
          </a:prstGeom>
          <a:solidFill>
            <a:srgbClr val="f5e0d3"/>
          </a:soli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ношу краски на пластиковую дощечку мазками, пятнами, точками, ли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16"/>
          <p:cNvSpPr/>
          <p:nvPr/>
        </p:nvSpPr>
        <p:spPr>
          <a:xfrm>
            <a:off x="2424240" y="2889360"/>
            <a:ext cx="429552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кладываю белый лист на окрашенную поверх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18">
            <a:hlinkClick r:id="rId3" action="ppaction://hlinksldjump"/>
          </p:cNvPr>
          <p:cNvSpPr/>
          <p:nvPr/>
        </p:nvSpPr>
        <p:spPr>
          <a:xfrm>
            <a:off x="2424240" y="4049640"/>
            <a:ext cx="4295520" cy="96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Аккуратно приподнимаю и рассматриваю получившийся отпеча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кругленный прямоугольник 19">
            <a:hlinkClick r:id="rId4" action="ppaction://hlinksldjump"/>
          </p:cNvPr>
          <p:cNvSpPr/>
          <p:nvPr/>
        </p:nvSpPr>
        <p:spPr>
          <a:xfrm>
            <a:off x="277920" y="5778360"/>
            <a:ext cx="429408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Тонкой кистью прорисовываю изобра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кругленный прямоугольник 20">
            <a:hlinkClick r:id="rId5" action="ppaction://hlinksldjump"/>
          </p:cNvPr>
          <p:cNvSpPr/>
          <p:nvPr/>
        </p:nvSpPr>
        <p:spPr>
          <a:xfrm>
            <a:off x="4718160" y="6099120"/>
            <a:ext cx="4294080" cy="59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ридумываю название  получившейся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кругленный прямоугольник 21">
            <a:hlinkClick r:id="rId6" action="ppaction://hlinksldjump"/>
          </p:cNvPr>
          <p:cNvSpPr/>
          <p:nvPr/>
        </p:nvSpPr>
        <p:spPr>
          <a:xfrm>
            <a:off x="4718160" y="5562720"/>
            <a:ext cx="4294080" cy="43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Отыскиваю об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кругленный прямоугольник 11"/>
          <p:cNvSpPr/>
          <p:nvPr/>
        </p:nvSpPr>
        <p:spPr>
          <a:xfrm>
            <a:off x="2424240" y="3470400"/>
            <a:ext cx="4295520" cy="57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Разглаживаю ладонями лист от центра к кра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X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0" y="16524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Какова последовательность создания изображения в технике монотип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10"/>
          <p:cNvSpPr/>
          <p:nvPr/>
        </p:nvSpPr>
        <p:spPr>
          <a:xfrm>
            <a:off x="2424240" y="942840"/>
            <a:ext cx="4295520" cy="34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Выбираю крас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кругленный прямоугольник 8"/>
          <p:cNvSpPr/>
          <p:nvPr/>
        </p:nvSpPr>
        <p:spPr>
          <a:xfrm>
            <a:off x="2424240" y="1292400"/>
            <a:ext cx="429552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одготавливаю ки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кругленный прямоугольник 9"/>
          <p:cNvSpPr/>
          <p:nvPr/>
        </p:nvSpPr>
        <p:spPr>
          <a:xfrm>
            <a:off x="2424240" y="1650960"/>
            <a:ext cx="4295520" cy="1224000"/>
          </a:xfrm>
          <a:prstGeom prst="roundRect">
            <a:avLst>
              <a:gd name="adj" fmla="val 16667"/>
            </a:avLst>
          </a:prstGeom>
          <a:solidFill>
            <a:srgbClr val="f5e0d3"/>
          </a:soli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ношу краски на пластиковую дощечку мазками, пятнами, точками, ли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ый прямоугольник 16"/>
          <p:cNvSpPr/>
          <p:nvPr/>
        </p:nvSpPr>
        <p:spPr>
          <a:xfrm>
            <a:off x="2424240" y="2889360"/>
            <a:ext cx="429552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Накладываю белый лист на окрашенную поверх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кругленный прямоугольник 18">
            <a:hlinkClick r:id="rId3" action="ppaction://hlinksldjump"/>
          </p:cNvPr>
          <p:cNvSpPr/>
          <p:nvPr/>
        </p:nvSpPr>
        <p:spPr>
          <a:xfrm>
            <a:off x="2424240" y="4049640"/>
            <a:ext cx="4295520" cy="96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Аккуратно приподнимаю и рассматриваю получившийся отпеча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19">
            <a:hlinkClick r:id="rId4" action="ppaction://hlinksldjump"/>
          </p:cNvPr>
          <p:cNvSpPr/>
          <p:nvPr/>
        </p:nvSpPr>
        <p:spPr>
          <a:xfrm>
            <a:off x="277920" y="5778360"/>
            <a:ext cx="429408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Тонкой кистью прорисовываю изобра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кругленный прямоугольник 20">
            <a:hlinkClick r:id="rId5" action="ppaction://hlinksldjump"/>
          </p:cNvPr>
          <p:cNvSpPr/>
          <p:nvPr/>
        </p:nvSpPr>
        <p:spPr>
          <a:xfrm>
            <a:off x="4718160" y="6099120"/>
            <a:ext cx="4294080" cy="59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Придумываю название  получившейся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кругленный прямоугольник 21">
            <a:hlinkClick r:id="rId6" action="ppaction://hlinksldjump"/>
          </p:cNvPr>
          <p:cNvSpPr/>
          <p:nvPr/>
        </p:nvSpPr>
        <p:spPr>
          <a:xfrm>
            <a:off x="2424240" y="5018040"/>
            <a:ext cx="4295520" cy="43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Отыскиваю об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Скругленный прямоугольник 11"/>
          <p:cNvSpPr/>
          <p:nvPr/>
        </p:nvSpPr>
        <p:spPr>
          <a:xfrm>
            <a:off x="2424240" y="3470400"/>
            <a:ext cx="4295520" cy="57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eaf"/>
              </a:gs>
              <a:gs pos="100000">
                <a:srgbClr val="f7ede9"/>
              </a:gs>
            </a:gsLst>
            <a:lin ang="16200000"/>
          </a:gradFill>
          <a:ln w="9360">
            <a:solidFill>
              <a:srgbClr val="8a5a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3316"/>
                </a:solidFill>
                <a:latin typeface="Century Schoolbook"/>
                <a:ea typeface="Adobe Fangsong Std R"/>
              </a:rPr>
              <a:t>Разглаживаю ладонями лист от центра к кра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X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0:19:26Z</dcterms:created>
  <dc:creator>ГАЛЯ</dc:creator>
  <dc:description/>
  <dc:language>en-US</dc:language>
  <cp:lastModifiedBy>Customer</cp:lastModifiedBy>
  <dcterms:modified xsi:type="dcterms:W3CDTF">2014-10-31T14:55:40Z</dcterms:modified>
  <cp:revision>44</cp:revision>
  <dc:subject/>
  <dc:title>Слайд 1</dc:title>
</cp:coreProperties>
</file>