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52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8.jpeg" ContentType="image/jpeg"/>
  <Override PartName="/ppt/media/image51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5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26.jpeg" ContentType="image/jpeg"/>
  <Override PartName="/ppt/media/image35.jpeg" ContentType="image/jpeg"/>
  <Override PartName="/ppt/media/image38.jpeg" ContentType="image/jpeg"/>
  <Override PartName="/ppt/media/image37.jpeg" ContentType="image/jpeg"/>
  <Override PartName="/ppt/media/image8.wmf" ContentType="image/x-wmf"/>
  <Override PartName="/ppt/media/image43.jpeg" ContentType="image/jpeg"/>
  <Override PartName="/ppt/media/image44.wmf" ContentType="image/x-wmf"/>
  <Override PartName="/ppt/media/image45.jpeg" ContentType="image/jpeg"/>
  <Override PartName="/ppt/media/image41.wmf" ContentType="image/x-wmf"/>
  <Override PartName="/ppt/media/image39.jpeg" ContentType="image/jpeg"/>
  <Override PartName="/ppt/media/image46.jpeg" ContentType="image/jpeg"/>
  <Override PartName="/ppt/media/image47.jpeg" ContentType="image/jpeg"/>
  <Override PartName="/ppt/media/image49.wmf" ContentType="image/x-wmf"/>
  <Override PartName="/ppt/media/image48.jpeg" ContentType="image/jpeg"/>
  <Override PartName="/ppt/media/image53.png" ContentType="image/png"/>
  <Override PartName="/ppt/media/image34.jpeg" ContentType="image/jpeg"/>
  <Override PartName="/ppt/media/image33.jpeg" ContentType="image/jpeg"/>
  <Override PartName="/ppt/media/image6.jpeg" ContentType="image/jpeg"/>
  <Override PartName="/ppt/media/image50.jpeg" ContentType="image/jpeg"/>
  <Override PartName="/ppt/media/image27.jpeg" ContentType="image/jpeg"/>
  <Override PartName="/ppt/media/image32.jpeg" ContentType="image/jpeg"/>
  <Override PartName="/ppt/media/image5.jpeg" ContentType="image/jpeg"/>
  <Override PartName="/ppt/media/image31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11.jpeg" ContentType="image/jpeg"/>
  <Override PartName="/ppt/media/image30.jpeg" ContentType="image/jpeg"/>
  <Override PartName="/ppt/media/image7.wmf" ContentType="image/x-wmf"/>
  <Override PartName="/ppt/media/image9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4F387-A398-4372-A796-51E1CD1E6A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9B027-F929-4165-976B-AFBFAB77E2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4AFF5-D59E-4DDF-8EFB-090BD9DE0C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F7666-F2E4-4C02-9A2B-586E289217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206E8-4332-4F33-B015-7478301F3B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609CE-7388-4FF5-81DE-AB0BCB41FD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AEC34-6B91-490F-A8E0-C7747589B4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A9A4C-ED07-4E6B-9117-DFC721EFBE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8204C-FE95-41B5-99F8-9D51FC69F5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80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218A9-F2E8-45CD-98A4-5E866D2FDA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AAE0A-0620-4AF2-BCFB-F10A79D9B8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E2677-23FA-40CF-A66F-854698EFC7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693F8-2A79-4972-8522-9505A0C272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47C40-2392-4419-86E2-E8047E28D7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5BBE4-383B-4D6A-A968-2B4F6D3F9C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0FF88-CF58-4396-A073-9686CB3D0B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5DF35-817C-4BFE-B292-887CB43C18E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4175-F207-4550-A14E-C7C372E88BB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02DE-3D66-4568-8A50-A0E37999537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91AE-3F45-4C21-972C-4C18240F1A3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913D-86C2-4C09-A4DA-7933E7E6D22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13AC-B7CC-44BA-BB97-FFEEE1DC78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FB72C-BAD0-4AD5-BFEE-2EB66649309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80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4DC7-A619-4B3C-B884-A6038397427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AD12-D65A-42D3-AD1E-82F194D75E4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D4BC-A7A2-4407-9EE2-F6D9641E06C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03F4-4383-4C33-86EC-695A0928ABB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9777-1BE6-4A75-B511-2B12BB33A68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9E52-A55E-4AC4-B7C8-644FB1106FC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288E-2557-44F5-8B8F-153C58A4F53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E42F2D-FF53-438A-8154-26FAED068CF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132F3-0B81-4C9A-9A74-BD03960B6AB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5F488E-61EE-4E9E-96E5-D10806A57D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9B6B1-002B-41FE-B59F-6AC8D6EA13E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62861-E25C-43FE-987F-1C6D17F96FC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CCAF2D-7528-4ADF-9616-1CEFBC92326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80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379690-64ED-4F84-8FC2-522BDF29998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46BCB-E78B-40B8-A8EB-F1CF29B4BCC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DCAB49-1FB5-40E2-A72A-442867D16E5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098DB2-EF84-4D2C-BEFD-4832368FA08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D99702-9544-4EBC-9BCD-3689B6731A5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C12A29-B9D4-4957-9ECA-0D998AF9429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AB88BF-D524-4F36-B5E2-984791C5518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71D5E-2533-4789-B453-61B09838E9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0213D-0927-4311-9511-3F0C97C1198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F899B-9343-4A3D-9DC5-2805CCD0A1F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000B9-09FB-4C99-B2CB-77E0807F075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1849C8-4ABC-4699-B618-C58FC34482D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CD6C5-A025-4DBF-841D-71B80BC7C3B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80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962AE2-3068-430B-8E65-0EE34576F41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B6D1FA-AAB3-4C86-8D13-E71D413D8F6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87788-BDDC-4D55-B171-716D08A8E32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1F78F-2429-4417-9373-A03A448BBA4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F24B1-B6D4-4C63-9F50-71E54203808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56A140-14EC-4879-AFA8-AD767EA9B7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80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092E5-269B-4A20-B8A1-27D3B5FA530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530FA-7C23-478B-8C31-1E77DBEDC58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541DC-E9AF-41B0-8704-B995D6F76D4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E838-2BDC-41AE-8718-323486F752B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CEB2E-98AD-459A-B2A3-0335FE9B9FF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91D2-3E21-4180-897C-4412571BFE1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5DCB-99B8-4746-9197-4D7B4242E71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80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523C-BDAA-4397-8204-AC608DB89F5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849E-E8BF-4F52-8D89-AE42CD501A7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D20E-0953-475A-9033-1D5C62BB824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8DE1-9E94-40B4-A205-5B1AA6F89F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E78DF-D9D1-4189-917F-35184569F5D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8858-ABB9-4BF1-9768-FD9EFCCEF2D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F459-F40F-4468-BE02-C1052D120CE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1508-69C1-4DCA-B800-B3023D5721D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6BE7C7-2D4F-4C44-84D5-5F7F87DDE0D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A773E1-D42F-4755-BE14-B735D8892D9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A4FEB5-4317-4496-A85B-B50FDCD2F8B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7EED28-B449-40AC-82A2-DEA49ED3B7A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7079BA-EE2A-4C26-ADBF-932021D15F9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80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FF7838-B4AC-436A-9CA6-51F70DA9C5D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A8D7A2-D614-4A1C-8E92-27CACE52E6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C0402-5C75-4108-926E-8E378B41CF5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D25B08-3974-4D31-8DA1-FFC04DFC523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32CEAE-3C0E-42D4-AED7-321582B54FD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8491DD-B14A-4D51-B569-485E086A392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440855-9926-4C80-B0DD-113400D274E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D64A59-D6F2-4FEB-BDE0-6972ECF5A3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EEB62-4A37-40EB-8A85-7558DBE2D7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71360" y="1042920"/>
            <a:ext cx="1155960" cy="1149480"/>
            <a:chOff x="171360" y="1042920"/>
            <a:chExt cx="1155960" cy="114948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5960" cy="11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8613720" y="630360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B136433-2D16-4C8F-911A-FCEB5A3AA189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71360" y="1042920"/>
            <a:ext cx="1155960" cy="1149480"/>
            <a:chOff x="171360" y="1042920"/>
            <a:chExt cx="1155960" cy="114948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5960" cy="11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20880" y="1414440"/>
            <a:ext cx="217440" cy="211320"/>
            <a:chOff x="920880" y="1414440"/>
            <a:chExt cx="217440" cy="211320"/>
          </a:xfrm>
        </p:grpSpPr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7440" cy="2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76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w="12600">
            <a:solidFill>
              <a:srgbClr val="307f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sldNum" idx="2"/>
          </p:nvPr>
        </p:nvSpPr>
        <p:spPr>
          <a:xfrm>
            <a:off x="8613720" y="630360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B895263-7A0F-479A-85D8-B647EF41313C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170080" y="2816280"/>
            <a:ext cx="217440" cy="210960"/>
            <a:chOff x="2170080" y="2816280"/>
            <a:chExt cx="217440" cy="210960"/>
          </a:xfrm>
        </p:grpSpPr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7440" cy="21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58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w="12600">
            <a:solidFill>
              <a:srgbClr val="307f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3"/>
          </p:nvPr>
        </p:nvSpPr>
        <p:spPr>
          <a:xfrm>
            <a:off x="8613720" y="630360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DA2488B-28E8-4296-8B6B-25845E94FEC8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Num" idx="4"/>
          </p:nvPr>
        </p:nvSpPr>
        <p:spPr>
          <a:xfrm>
            <a:off x="8613720" y="630360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4063779-19F2-4370-9982-06DD155908E2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5"/>
          </p:nvPr>
        </p:nvSpPr>
        <p:spPr>
          <a:xfrm>
            <a:off x="8613720" y="630360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D92B393-E272-4644-83F7-B819E07B8F85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8613720" y="630360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64CB5D2-29F2-460D-BFA6-809C1E9EAEF0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652320" y="974880"/>
            <a:ext cx="4795920" cy="4795560"/>
            <a:chOff x="652320" y="974880"/>
            <a:chExt cx="4795920" cy="4795560"/>
          </a:xfrm>
        </p:grpSpPr>
        <p:pic>
          <p:nvPicPr>
            <p:cNvPr id="273" name="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5920" cy="47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0200" cy="457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5" name=""/>
          <p:cNvSpPr/>
          <p:nvPr/>
        </p:nvSpPr>
        <p:spPr>
          <a:xfrm rot="19440000">
            <a:off x="3967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"/>
          <p:cNvSpPr/>
          <p:nvPr/>
        </p:nvSpPr>
        <p:spPr>
          <a:xfrm flipH="1" rot="2100000">
            <a:off x="5003640" y="93816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7"/>
          </p:nvPr>
        </p:nvSpPr>
        <p:spPr>
          <a:xfrm>
            <a:off x="8613720" y="630360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05B6461-CAAA-421F-B645-9F0AEB2325D9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wmf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wmf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28.jpeg"/><Relationship Id="rId6" Type="http://schemas.openxmlformats.org/officeDocument/2006/relationships/image" Target="../media/image52.jpeg"/><Relationship Id="rId7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png"/><Relationship Id="rId3" Type="http://schemas.openxmlformats.org/officeDocument/2006/relationships/image" Target="../media/image53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image" Target="../media/image53.png"/><Relationship Id="rId7" Type="http://schemas.openxmlformats.org/officeDocument/2006/relationships/image" Target="../media/image53.png"/><Relationship Id="rId8" Type="http://schemas.openxmlformats.org/officeDocument/2006/relationships/image" Target="../media/image53.png"/><Relationship Id="rId9" Type="http://schemas.openxmlformats.org/officeDocument/2006/relationships/image" Target="../media/image53.png"/><Relationship Id="rId10" Type="http://schemas.openxmlformats.org/officeDocument/2006/relationships/image" Target="../media/image53.png"/><Relationship Id="rId11" Type="http://schemas.openxmlformats.org/officeDocument/2006/relationships/image" Target="../media/image53.png"/><Relationship Id="rId12" Type="http://schemas.openxmlformats.org/officeDocument/2006/relationships/image" Target="../media/image53.png"/><Relationship Id="rId13" Type="http://schemas.openxmlformats.org/officeDocument/2006/relationships/slide" Target="slide2.xml"/><Relationship Id="rId14" Type="http://schemas.openxmlformats.org/officeDocument/2006/relationships/image" Target="../media/image53.png"/><Relationship Id="rId15" Type="http://schemas.openxmlformats.org/officeDocument/2006/relationships/image" Target="../media/image53.png"/><Relationship Id="rId16" Type="http://schemas.openxmlformats.org/officeDocument/2006/relationships/image" Target="../media/image53.png"/><Relationship Id="rId17" Type="http://schemas.openxmlformats.org/officeDocument/2006/relationships/image" Target="../media/image53.png"/><Relationship Id="rId18" Type="http://schemas.openxmlformats.org/officeDocument/2006/relationships/image" Target="../media/image53.png"/><Relationship Id="rId19" Type="http://schemas.openxmlformats.org/officeDocument/2006/relationships/image" Target="../media/image53.png"/><Relationship Id="rId20" Type="http://schemas.openxmlformats.org/officeDocument/2006/relationships/image" Target="../media/image53.png"/><Relationship Id="rId21" Type="http://schemas.openxmlformats.org/officeDocument/2006/relationships/image" Target="../media/image53.png"/><Relationship Id="rId22" Type="http://schemas.openxmlformats.org/officeDocument/2006/relationships/image" Target="../media/image53.png"/><Relationship Id="rId2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eitingi.lv/thumbnail.php?file=Veseligapartika.jpg&amp;size=article_medium" TargetMode="External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png"/><Relationship Id="rId12" Type="http://schemas.openxmlformats.org/officeDocument/2006/relationships/image" Target="../media/image21.jpeg"/><Relationship Id="rId13" Type="http://schemas.openxmlformats.org/officeDocument/2006/relationships/image" Target="../media/image22.jpeg"/><Relationship Id="rId1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image" Target="../media/image31.jpeg"/><Relationship Id="rId11" Type="http://schemas.openxmlformats.org/officeDocument/2006/relationships/image" Target="../media/image32.jpeg"/><Relationship Id="rId1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wmf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539640" y="260280"/>
            <a:ext cx="84250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Tahoma"/>
              </a:rPr>
              <a:t>              </a:t>
            </a:r>
            <a:r>
              <a:rPr b="1" i="1" lang="ru-RU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кружающий ми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«НАШЕ  ПИТАНИЕ»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"/>
          <p:cNvSpPr/>
          <p:nvPr/>
        </p:nvSpPr>
        <p:spPr>
          <a:xfrm>
            <a:off x="3666960" y="3429000"/>
            <a:ext cx="494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Работу выполнил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БОУ «Мамолаевская СОШ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Чубаева Татьяна Васильев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1403280" y="2708280"/>
            <a:ext cx="4392720" cy="57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ИТАМИН  В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1144440" y="3240"/>
            <a:ext cx="4262760" cy="246060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3"/>
          <a:stretch/>
        </p:blipFill>
        <p:spPr>
          <a:xfrm>
            <a:off x="611280" y="4005360"/>
            <a:ext cx="2249280" cy="237636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4"/>
          <a:stretch/>
        </p:blipFill>
        <p:spPr>
          <a:xfrm>
            <a:off x="3276720" y="4076640"/>
            <a:ext cx="2592360" cy="222876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5"/>
          <a:stretch/>
        </p:blipFill>
        <p:spPr>
          <a:xfrm>
            <a:off x="6443640" y="260280"/>
            <a:ext cx="2338560" cy="288144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6"/>
          <a:stretch/>
        </p:blipFill>
        <p:spPr>
          <a:xfrm>
            <a:off x="6227640" y="3860640"/>
            <a:ext cx="2664000" cy="229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 fill="hold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 fill="hold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0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1042920" y="692280"/>
            <a:ext cx="4970520" cy="812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ИТАМИН  С</a:t>
            </a:r>
            <a:endParaRPr b="0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4643280" y="1916280"/>
            <a:ext cx="4356360" cy="259236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1476360" y="4213080"/>
            <a:ext cx="3097080" cy="241956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4932360" y="4653000"/>
            <a:ext cx="2665440" cy="201780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5"/>
          <a:stretch/>
        </p:blipFill>
        <p:spPr>
          <a:xfrm>
            <a:off x="6877080" y="0"/>
            <a:ext cx="1944720" cy="216360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6"/>
          <a:stretch/>
        </p:blipFill>
        <p:spPr>
          <a:xfrm>
            <a:off x="1258920" y="1700280"/>
            <a:ext cx="2808360" cy="208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 fill="hold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 fill="hold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3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3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457200" y="457200"/>
          <a:ext cx="8299440" cy="944640"/>
        </p:xfrm>
        <a:graphic>
          <a:graphicData uri="http://schemas.openxmlformats.org/drawingml/2006/table">
            <a:tbl>
              <a:tblPr/>
              <a:tblGrid>
                <a:gridCol w="1720800"/>
                <a:gridCol w="1644840"/>
                <a:gridCol w="1644480"/>
                <a:gridCol w="1644840"/>
                <a:gridCol w="1644480"/>
              </a:tblGrid>
              <a:tr h="944640">
                <a:tc>
                  <a:txBody>
                    <a:bodyPr lIns="90000" rIns="90000" tIns="680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продук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ff"/>
                      </a:solidFill>
                    </a:lnL>
                    <a:lnR w="2880">
                      <a:solidFill>
                        <a:srgbClr val="0000ff"/>
                      </a:solidFill>
                    </a:lnR>
                    <a:lnT w="2880">
                      <a:solidFill>
                        <a:srgbClr val="0000ff"/>
                      </a:solidFill>
                    </a:lnT>
                    <a:lnB w="28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ccccff"/>
                        </a:gs>
                        <a:gs pos="100000">
                          <a:srgbClr val="33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680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бел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ff"/>
                      </a:solidFill>
                    </a:lnL>
                    <a:lnR w="2880">
                      <a:solidFill>
                        <a:srgbClr val="0000ff"/>
                      </a:solidFill>
                    </a:lnR>
                    <a:lnT w="2880">
                      <a:solidFill>
                        <a:srgbClr val="0000ff"/>
                      </a:solidFill>
                    </a:lnT>
                    <a:lnB w="28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ccccff"/>
                        </a:gs>
                        <a:gs pos="100000">
                          <a:srgbClr val="33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680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жи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ff"/>
                      </a:solidFill>
                    </a:lnL>
                    <a:lnR w="2880">
                      <a:solidFill>
                        <a:srgbClr val="0000ff"/>
                      </a:solidFill>
                    </a:lnR>
                    <a:lnT w="2880">
                      <a:solidFill>
                        <a:srgbClr val="0000ff"/>
                      </a:solidFill>
                    </a:lnT>
                    <a:lnB w="28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ccccff"/>
                        </a:gs>
                        <a:gs pos="100000">
                          <a:srgbClr val="33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680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углев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ff"/>
                      </a:solidFill>
                    </a:lnL>
                    <a:lnR w="2880">
                      <a:solidFill>
                        <a:srgbClr val="0000ff"/>
                      </a:solidFill>
                    </a:lnR>
                    <a:lnT w="2880">
                      <a:solidFill>
                        <a:srgbClr val="0000ff"/>
                      </a:solidFill>
                    </a:lnT>
                    <a:lnB w="28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ccccff"/>
                        </a:gs>
                        <a:gs pos="100000">
                          <a:srgbClr val="33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680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</a:rPr>
                        <a:t>витами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ff"/>
                      </a:solidFill>
                    </a:lnL>
                    <a:lnR w="2880">
                      <a:solidFill>
                        <a:srgbClr val="0000ff"/>
                      </a:solidFill>
                    </a:lnR>
                    <a:lnT w="2880">
                      <a:solidFill>
                        <a:srgbClr val="0000ff"/>
                      </a:solidFill>
                    </a:lnT>
                    <a:lnB w="28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ccccff"/>
                        </a:gs>
                        <a:gs pos="100000">
                          <a:srgbClr val="3399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387" name=""/>
          <p:cNvSpPr/>
          <p:nvPr/>
        </p:nvSpPr>
        <p:spPr>
          <a:xfrm>
            <a:off x="457200" y="1752480"/>
            <a:ext cx="1676520" cy="60984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ccecff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33cc"/>
                </a:solidFill>
                <a:latin typeface="Tahoma"/>
              </a:rPr>
              <a:t>молок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2511360" y="1749600"/>
            <a:ext cx="1077840" cy="620640"/>
            <a:chOff x="2511360" y="1749600"/>
            <a:chExt cx="1077840" cy="620640"/>
          </a:xfrm>
        </p:grpSpPr>
        <p:pic>
          <p:nvPicPr>
            <p:cNvPr id="389" name="" descr=""/>
            <p:cNvPicPr/>
            <p:nvPr/>
          </p:nvPicPr>
          <p:blipFill>
            <a:blip r:embed="rId2"/>
            <a:stretch/>
          </p:blipFill>
          <p:spPr>
            <a:xfrm>
              <a:off x="2511360" y="1749600"/>
              <a:ext cx="10778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2544840" y="1782720"/>
              <a:ext cx="100476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6600cc"/>
                  </a:solidFill>
                  <a:latin typeface="Tahoma"/>
                </a:rPr>
                <a:t>3,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457200" y="2743200"/>
            <a:ext cx="1676520" cy="60948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ccecff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33cc"/>
                </a:solidFill>
                <a:latin typeface="Tahoma"/>
              </a:rPr>
              <a:t>шокола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457200" y="4724280"/>
            <a:ext cx="1676520" cy="60984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ccecff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33cc"/>
                </a:solidFill>
                <a:latin typeface="Tahoma"/>
              </a:rPr>
              <a:t>со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" y="3733920"/>
            <a:ext cx="1676520" cy="60948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ccecff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33cc"/>
                </a:solidFill>
                <a:latin typeface="Tahoma"/>
              </a:rPr>
              <a:t>булоч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"/>
          <p:cNvSpPr/>
          <p:nvPr/>
        </p:nvSpPr>
        <p:spPr>
          <a:xfrm>
            <a:off x="457200" y="5715000"/>
            <a:ext cx="1676520" cy="60948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ccecff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33cc"/>
                </a:solidFill>
                <a:latin typeface="Tahoma"/>
              </a:rPr>
              <a:t>йогур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5864400" y="1749600"/>
            <a:ext cx="1077840" cy="620640"/>
            <a:chOff x="5864400" y="1749600"/>
            <a:chExt cx="1077840" cy="620640"/>
          </a:xfrm>
        </p:grpSpPr>
        <p:pic>
          <p:nvPicPr>
            <p:cNvPr id="396" name="" descr=""/>
            <p:cNvPicPr/>
            <p:nvPr/>
          </p:nvPicPr>
          <p:blipFill>
            <a:blip r:embed="rId3"/>
            <a:stretch/>
          </p:blipFill>
          <p:spPr>
            <a:xfrm>
              <a:off x="5864400" y="1749600"/>
              <a:ext cx="10778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5897520" y="1782720"/>
              <a:ext cx="100476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6600cc"/>
                  </a:solidFill>
                  <a:latin typeface="Tahoma"/>
                </a:rPr>
                <a:t>4,7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5864400" y="2736720"/>
            <a:ext cx="1077840" cy="621000"/>
            <a:chOff x="5864400" y="2736720"/>
            <a:chExt cx="1077840" cy="621000"/>
          </a:xfrm>
        </p:grpSpPr>
        <p:pic>
          <p:nvPicPr>
            <p:cNvPr id="399" name="" descr=""/>
            <p:cNvPicPr/>
            <p:nvPr/>
          </p:nvPicPr>
          <p:blipFill>
            <a:blip r:embed="rId4"/>
            <a:stretch/>
          </p:blipFill>
          <p:spPr>
            <a:xfrm>
              <a:off x="5864400" y="2736720"/>
              <a:ext cx="1077840" cy="6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5897520" y="2773440"/>
              <a:ext cx="100476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6600cc"/>
                  </a:solidFill>
                  <a:latin typeface="Tahoma"/>
                </a:rPr>
                <a:t>43,7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5864400" y="5711760"/>
            <a:ext cx="1077840" cy="620640"/>
            <a:chOff x="5864400" y="5711760"/>
            <a:chExt cx="1077840" cy="620640"/>
          </a:xfrm>
        </p:grpSpPr>
        <p:pic>
          <p:nvPicPr>
            <p:cNvPr id="402" name="" descr=""/>
            <p:cNvPicPr/>
            <p:nvPr/>
          </p:nvPicPr>
          <p:blipFill>
            <a:blip r:embed="rId5"/>
            <a:stretch/>
          </p:blipFill>
          <p:spPr>
            <a:xfrm>
              <a:off x="5864400" y="5711760"/>
              <a:ext cx="10778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5897520" y="5745240"/>
              <a:ext cx="100476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6600cc"/>
                  </a:solidFill>
                  <a:latin typeface="Tahoma"/>
                </a:rPr>
                <a:t>4,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864400" y="4718160"/>
            <a:ext cx="1077840" cy="620640"/>
            <a:chOff x="5864400" y="4718160"/>
            <a:chExt cx="1077840" cy="620640"/>
          </a:xfrm>
        </p:grpSpPr>
        <p:pic>
          <p:nvPicPr>
            <p:cNvPr id="405" name="" descr=""/>
            <p:cNvPicPr/>
            <p:nvPr/>
          </p:nvPicPr>
          <p:blipFill>
            <a:blip r:embed="rId6"/>
            <a:stretch/>
          </p:blipFill>
          <p:spPr>
            <a:xfrm>
              <a:off x="5864400" y="4718160"/>
              <a:ext cx="10778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5897520" y="4754520"/>
              <a:ext cx="100476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6600cc"/>
                  </a:solidFill>
                  <a:latin typeface="Tahoma"/>
                </a:rPr>
                <a:t>12,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864400" y="3730680"/>
            <a:ext cx="1077840" cy="620640"/>
            <a:chOff x="5864400" y="3730680"/>
            <a:chExt cx="1077840" cy="620640"/>
          </a:xfrm>
        </p:grpSpPr>
        <p:pic>
          <p:nvPicPr>
            <p:cNvPr id="408" name="" descr=""/>
            <p:cNvPicPr/>
            <p:nvPr/>
          </p:nvPicPr>
          <p:blipFill>
            <a:blip r:embed="rId7"/>
            <a:stretch/>
          </p:blipFill>
          <p:spPr>
            <a:xfrm>
              <a:off x="5864400" y="3730680"/>
              <a:ext cx="10778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5897520" y="3763800"/>
              <a:ext cx="10047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6600cc"/>
                  </a:solidFill>
                  <a:latin typeface="Tahoma"/>
                </a:rPr>
                <a:t>37,5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4187880" y="3730680"/>
            <a:ext cx="1077840" cy="620640"/>
            <a:chOff x="4187880" y="3730680"/>
            <a:chExt cx="1077840" cy="620640"/>
          </a:xfrm>
        </p:grpSpPr>
        <p:pic>
          <p:nvPicPr>
            <p:cNvPr id="411" name="" descr=""/>
            <p:cNvPicPr/>
            <p:nvPr/>
          </p:nvPicPr>
          <p:blipFill>
            <a:blip r:embed="rId8"/>
            <a:stretch/>
          </p:blipFill>
          <p:spPr>
            <a:xfrm>
              <a:off x="4187880" y="3730680"/>
              <a:ext cx="10778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4221000" y="3763800"/>
              <a:ext cx="10051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6600cc"/>
                  </a:solidFill>
                  <a:latin typeface="Tahoma"/>
                </a:rPr>
                <a:t>22,6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4187880" y="4718160"/>
            <a:ext cx="1077840" cy="620640"/>
            <a:chOff x="4187880" y="4718160"/>
            <a:chExt cx="1077840" cy="620640"/>
          </a:xfrm>
        </p:grpSpPr>
        <p:pic>
          <p:nvPicPr>
            <p:cNvPr id="414" name="" descr=""/>
            <p:cNvPicPr/>
            <p:nvPr/>
          </p:nvPicPr>
          <p:blipFill>
            <a:blip r:embed="rId9"/>
            <a:stretch/>
          </p:blipFill>
          <p:spPr>
            <a:xfrm>
              <a:off x="4187880" y="4718160"/>
              <a:ext cx="10778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4221000" y="4754520"/>
              <a:ext cx="100512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ru-RU" sz="1800" spc="-1" strike="noStrike">
                  <a:solidFill>
                    <a:srgbClr val="6600cc"/>
                  </a:solidFill>
                  <a:latin typeface="Tahoma"/>
                </a:rPr>
                <a:t>-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4187880" y="5711760"/>
            <a:ext cx="1077840" cy="620640"/>
            <a:chOff x="4187880" y="5711760"/>
            <a:chExt cx="1077840" cy="620640"/>
          </a:xfrm>
        </p:grpSpPr>
        <p:pic>
          <p:nvPicPr>
            <p:cNvPr id="417" name="" descr=""/>
            <p:cNvPicPr/>
            <p:nvPr/>
          </p:nvPicPr>
          <p:blipFill>
            <a:blip r:embed="rId10"/>
            <a:stretch/>
          </p:blipFill>
          <p:spPr>
            <a:xfrm>
              <a:off x="4187880" y="5711760"/>
              <a:ext cx="10778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4221000" y="5745240"/>
              <a:ext cx="100512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6600cc"/>
                  </a:solidFill>
                  <a:latin typeface="Tahoma"/>
                </a:rPr>
                <a:t>1,5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2511360" y="5711760"/>
            <a:ext cx="1077840" cy="620640"/>
            <a:chOff x="2511360" y="5711760"/>
            <a:chExt cx="1077840" cy="620640"/>
          </a:xfrm>
        </p:grpSpPr>
        <p:pic>
          <p:nvPicPr>
            <p:cNvPr id="420" name="" descr=""/>
            <p:cNvPicPr/>
            <p:nvPr/>
          </p:nvPicPr>
          <p:blipFill>
            <a:blip r:embed="rId11"/>
            <a:stretch/>
          </p:blipFill>
          <p:spPr>
            <a:xfrm>
              <a:off x="2511360" y="5711760"/>
              <a:ext cx="10778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2544840" y="5745240"/>
              <a:ext cx="100476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6600cc"/>
                  </a:solidFill>
                  <a:latin typeface="Tahoma"/>
                </a:rPr>
                <a:t>3,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2511360" y="4718160"/>
            <a:ext cx="1077840" cy="620640"/>
            <a:chOff x="2511360" y="4718160"/>
            <a:chExt cx="1077840" cy="620640"/>
          </a:xfrm>
        </p:grpSpPr>
        <p:pic>
          <p:nvPicPr>
            <p:cNvPr id="423" name="" descr=""/>
            <p:cNvPicPr/>
            <p:nvPr/>
          </p:nvPicPr>
          <p:blipFill>
            <a:blip r:embed="rId12"/>
            <a:stretch/>
          </p:blipFill>
          <p:spPr>
            <a:xfrm>
              <a:off x="2511360" y="4718160"/>
              <a:ext cx="10778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2544840" y="4754520"/>
              <a:ext cx="100476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6600cc"/>
                  </a:solidFill>
                  <a:latin typeface="Tahoma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2511360" y="3730680"/>
            <a:ext cx="1077840" cy="620640"/>
            <a:chOff x="2511360" y="3730680"/>
            <a:chExt cx="1077840" cy="620640"/>
          </a:xfrm>
        </p:grpSpPr>
        <p:pic>
          <p:nvPicPr>
            <p:cNvPr id="426" name="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2511360" y="3730680"/>
              <a:ext cx="10778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2544840" y="3763800"/>
              <a:ext cx="10047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6600cc"/>
                  </a:solidFill>
                  <a:latin typeface="Tahoma"/>
                </a:rPr>
                <a:t>6,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4187880" y="1749600"/>
            <a:ext cx="1077840" cy="620640"/>
            <a:chOff x="4187880" y="1749600"/>
            <a:chExt cx="1077840" cy="620640"/>
          </a:xfrm>
        </p:grpSpPr>
        <p:pic>
          <p:nvPicPr>
            <p:cNvPr id="429" name="" descr=""/>
            <p:cNvPicPr/>
            <p:nvPr/>
          </p:nvPicPr>
          <p:blipFill>
            <a:blip r:embed="rId15"/>
            <a:stretch/>
          </p:blipFill>
          <p:spPr>
            <a:xfrm>
              <a:off x="4187880" y="1749600"/>
              <a:ext cx="10778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4221000" y="1782720"/>
              <a:ext cx="100512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6600cc"/>
                  </a:solidFill>
                  <a:latin typeface="Tahoma"/>
                </a:rPr>
                <a:t>3,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2511360" y="2736720"/>
            <a:ext cx="1077840" cy="621000"/>
            <a:chOff x="2511360" y="2736720"/>
            <a:chExt cx="1077840" cy="621000"/>
          </a:xfrm>
        </p:grpSpPr>
        <p:pic>
          <p:nvPicPr>
            <p:cNvPr id="432" name="" descr=""/>
            <p:cNvPicPr/>
            <p:nvPr/>
          </p:nvPicPr>
          <p:blipFill>
            <a:blip r:embed="rId16"/>
            <a:stretch/>
          </p:blipFill>
          <p:spPr>
            <a:xfrm>
              <a:off x="2511360" y="2736720"/>
              <a:ext cx="1077840" cy="6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2544840" y="2773440"/>
              <a:ext cx="100476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6600cc"/>
                  </a:solidFill>
                  <a:latin typeface="Tahoma"/>
                </a:rPr>
                <a:t>9,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4187880" y="2736720"/>
            <a:ext cx="1077840" cy="621000"/>
            <a:chOff x="4187880" y="2736720"/>
            <a:chExt cx="1077840" cy="621000"/>
          </a:xfrm>
        </p:grpSpPr>
        <p:pic>
          <p:nvPicPr>
            <p:cNvPr id="435" name="" descr=""/>
            <p:cNvPicPr/>
            <p:nvPr/>
          </p:nvPicPr>
          <p:blipFill>
            <a:blip r:embed="rId17"/>
            <a:stretch/>
          </p:blipFill>
          <p:spPr>
            <a:xfrm>
              <a:off x="4187880" y="2736720"/>
              <a:ext cx="1077840" cy="6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4221000" y="2773440"/>
              <a:ext cx="100512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6600cc"/>
                  </a:solidFill>
                  <a:latin typeface="Tahoma"/>
                </a:rPr>
                <a:t>44,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7388280" y="5711760"/>
            <a:ext cx="1077840" cy="620640"/>
            <a:chOff x="7388280" y="5711760"/>
            <a:chExt cx="1077840" cy="620640"/>
          </a:xfrm>
        </p:grpSpPr>
        <p:pic>
          <p:nvPicPr>
            <p:cNvPr id="438" name="" descr=""/>
            <p:cNvPicPr/>
            <p:nvPr/>
          </p:nvPicPr>
          <p:blipFill>
            <a:blip r:embed="rId18"/>
            <a:stretch/>
          </p:blipFill>
          <p:spPr>
            <a:xfrm>
              <a:off x="7388280" y="5711760"/>
              <a:ext cx="10778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7421400" y="5745240"/>
              <a:ext cx="100512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cc00cc"/>
                  </a:solidFill>
                  <a:latin typeface="Tahoma"/>
                </a:rPr>
                <a:t>А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7388280" y="4718160"/>
            <a:ext cx="1077840" cy="620640"/>
            <a:chOff x="7388280" y="4718160"/>
            <a:chExt cx="1077840" cy="620640"/>
          </a:xfrm>
        </p:grpSpPr>
        <p:pic>
          <p:nvPicPr>
            <p:cNvPr id="441" name="" descr=""/>
            <p:cNvPicPr/>
            <p:nvPr/>
          </p:nvPicPr>
          <p:blipFill>
            <a:blip r:embed="rId19"/>
            <a:stretch/>
          </p:blipFill>
          <p:spPr>
            <a:xfrm>
              <a:off x="7388280" y="4718160"/>
              <a:ext cx="10778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7421400" y="4754520"/>
              <a:ext cx="100512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cc00cc"/>
                  </a:solidFill>
                  <a:latin typeface="Tahoma"/>
                </a:rPr>
                <a:t>С, Е, В</a:t>
              </a:r>
              <a:r>
                <a:rPr b="1" lang="ru-RU" sz="1400" spc="-1" strike="noStrike" baseline="-25000">
                  <a:solidFill>
                    <a:srgbClr val="cc00cc"/>
                  </a:solidFill>
                  <a:latin typeface="Tahoma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7388280" y="3730680"/>
            <a:ext cx="1077840" cy="620640"/>
            <a:chOff x="7388280" y="3730680"/>
            <a:chExt cx="1077840" cy="620640"/>
          </a:xfrm>
        </p:grpSpPr>
        <p:pic>
          <p:nvPicPr>
            <p:cNvPr id="444" name="" descr=""/>
            <p:cNvPicPr/>
            <p:nvPr/>
          </p:nvPicPr>
          <p:blipFill>
            <a:blip r:embed="rId20"/>
            <a:stretch/>
          </p:blipFill>
          <p:spPr>
            <a:xfrm>
              <a:off x="7388280" y="3730680"/>
              <a:ext cx="10778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7421400" y="3763800"/>
              <a:ext cx="10051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cc00cc"/>
                  </a:solidFill>
                  <a:latin typeface="Tahoma"/>
                </a:rPr>
                <a:t>В</a:t>
              </a:r>
              <a:r>
                <a:rPr b="1" lang="ru-RU" sz="1400" spc="-1" strike="noStrike" baseline="-25000">
                  <a:solidFill>
                    <a:srgbClr val="cc00cc"/>
                  </a:solidFill>
                  <a:latin typeface="Tahoma"/>
                </a:rPr>
                <a:t>1</a:t>
              </a:r>
              <a:r>
                <a:rPr b="1" lang="ru-RU" sz="1400" spc="-1" strike="noStrike">
                  <a:solidFill>
                    <a:srgbClr val="cc00cc"/>
                  </a:solidFill>
                  <a:latin typeface="Tahoma"/>
                </a:rPr>
                <a:t>, Е, РР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7388280" y="2736720"/>
            <a:ext cx="1077840" cy="621000"/>
            <a:chOff x="7388280" y="2736720"/>
            <a:chExt cx="1077840" cy="621000"/>
          </a:xfrm>
        </p:grpSpPr>
        <p:pic>
          <p:nvPicPr>
            <p:cNvPr id="447" name="" descr=""/>
            <p:cNvPicPr/>
            <p:nvPr/>
          </p:nvPicPr>
          <p:blipFill>
            <a:blip r:embed="rId21"/>
            <a:stretch/>
          </p:blipFill>
          <p:spPr>
            <a:xfrm>
              <a:off x="7388280" y="2736720"/>
              <a:ext cx="1077840" cy="6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7421400" y="2773440"/>
              <a:ext cx="100512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cc00cc"/>
                  </a:solidFill>
                  <a:latin typeface="Tahoma"/>
                </a:rPr>
                <a:t>В</a:t>
              </a:r>
              <a:r>
                <a:rPr b="1" lang="ru-RU" sz="1400" spc="-1" strike="noStrike" baseline="-25000">
                  <a:solidFill>
                    <a:srgbClr val="cc00cc"/>
                  </a:solidFill>
                  <a:latin typeface="Tahoma"/>
                </a:rPr>
                <a:t>6</a:t>
              </a:r>
              <a:r>
                <a:rPr b="1" lang="ru-RU" sz="1400" spc="-1" strike="noStrike">
                  <a:solidFill>
                    <a:srgbClr val="cc00cc"/>
                  </a:solidFill>
                  <a:latin typeface="Tahoma"/>
                </a:rPr>
                <a:t>, Е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7388280" y="1749600"/>
            <a:ext cx="1077840" cy="620640"/>
            <a:chOff x="7388280" y="1749600"/>
            <a:chExt cx="1077840" cy="620640"/>
          </a:xfrm>
        </p:grpSpPr>
        <p:pic>
          <p:nvPicPr>
            <p:cNvPr id="450" name="" descr=""/>
            <p:cNvPicPr/>
            <p:nvPr/>
          </p:nvPicPr>
          <p:blipFill>
            <a:blip r:embed="rId22"/>
            <a:stretch/>
          </p:blipFill>
          <p:spPr>
            <a:xfrm>
              <a:off x="7388280" y="1749600"/>
              <a:ext cx="10778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7421400" y="1782720"/>
              <a:ext cx="100512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cc00cc"/>
                  </a:solidFill>
                  <a:latin typeface="Tahoma"/>
                </a:rPr>
                <a:t>А, В</a:t>
              </a:r>
              <a:r>
                <a:rPr b="1" lang="ru-RU" sz="1400" spc="-1" strike="noStrike" baseline="-25000">
                  <a:solidFill>
                    <a:srgbClr val="cc00cc"/>
                  </a:solidFill>
                  <a:latin typeface="Tahoma"/>
                </a:rPr>
                <a:t>1</a:t>
              </a:r>
              <a:r>
                <a:rPr b="1" lang="ru-RU" sz="1400" spc="-1" strike="noStrike">
                  <a:solidFill>
                    <a:srgbClr val="cc00cc"/>
                  </a:solidFill>
                  <a:latin typeface="Tahoma"/>
                </a:rPr>
                <a:t>, В</a:t>
              </a:r>
              <a:r>
                <a:rPr b="1" lang="ru-RU" sz="1400" spc="-1" strike="noStrike" baseline="-25000">
                  <a:solidFill>
                    <a:srgbClr val="cc00cc"/>
                  </a:solidFill>
                  <a:latin typeface="Tahoma"/>
                </a:rPr>
                <a:t>2</a:t>
              </a:r>
              <a:r>
                <a:rPr b="1" lang="ru-RU" sz="1400" spc="-1" strike="noStrike">
                  <a:solidFill>
                    <a:srgbClr val="cc00cc"/>
                  </a:solidFill>
                  <a:latin typeface="Tahoma"/>
                </a:rPr>
                <a:t>, В</a:t>
              </a:r>
              <a:r>
                <a:rPr b="1" lang="ru-RU" sz="1400" spc="-1" strike="noStrike" baseline="-25000">
                  <a:solidFill>
                    <a:srgbClr val="cc00cc"/>
                  </a:solidFill>
                  <a:latin typeface="Tahoma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dur="indefinite" fill="hold">
                      <p:stCondLst>
                        <p:cond delay="indefinite"/>
                      </p:stCondLst>
                      <p:childTnLst>
                        <p:par>
                          <p:cTn id="2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dur="indefinite" fill="hold">
                      <p:stCondLst>
                        <p:cond delay="indefinite"/>
                      </p:stCondLst>
                      <p:childTnLst>
                        <p:par>
                          <p:cTn id="2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dur="indefinite" fill="hold">
                      <p:stCondLst>
                        <p:cond delay="indefinite"/>
                      </p:stCondLst>
                      <p:childTnLst>
                        <p:par>
                          <p:cTn id="2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1000" fill="hold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dur="indefinite" fill="hold">
                      <p:stCondLst>
                        <p:cond delay="indefinite"/>
                      </p:stCondLst>
                      <p:childTnLst>
                        <p:par>
                          <p:cTn id="2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1000" fill="hold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dur="indefinite" fill="hold">
                      <p:stCondLst>
                        <p:cond delay="indefinite"/>
                      </p:stCondLst>
                      <p:childTnLst>
                        <p:par>
                          <p:cTn id="2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1000" fill="hold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dur="indefinite" fill="hold">
                      <p:stCondLst>
                        <p:cond delay="indefinite"/>
                      </p:stCondLst>
                      <p:childTnLst>
                        <p:par>
                          <p:cTn id="2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dur="indefinite" fill="hold">
                      <p:stCondLst>
                        <p:cond delay="indefinite"/>
                      </p:stCondLst>
                      <p:childTnLst>
                        <p:par>
                          <p:cTn id="2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1000" fill="hold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dur="indefinite" fill="hold">
                      <p:stCondLst>
                        <p:cond delay="indefinite"/>
                      </p:stCondLst>
                      <p:childTnLst>
                        <p:par>
                          <p:cTn id="2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1000" fill="hold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dur="indefinite" fill="hold">
                      <p:stCondLst>
                        <p:cond delay="indefinite"/>
                      </p:stCondLst>
                      <p:childTnLst>
                        <p:par>
                          <p:cTn id="2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1000" fill="hold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dur="indefinite" fill="hold">
                      <p:stCondLst>
                        <p:cond delay="indefinite"/>
                      </p:stCondLst>
                      <p:childTnLst>
                        <p:par>
                          <p:cTn id="2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dur="indefinite" fill="hold">
                      <p:stCondLst>
                        <p:cond delay="indefinite"/>
                      </p:stCondLst>
                      <p:childTnLst>
                        <p:par>
                          <p:cTn id="3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1000" fill="hold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dur="indefinite" fill="hold">
                      <p:stCondLst>
                        <p:cond delay="indefinite"/>
                      </p:stCondLst>
                      <p:childTnLst>
                        <p:par>
                          <p:cTn id="3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1000" fill="hold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dur="indefinite" fill="hold">
                      <p:stCondLst>
                        <p:cond delay="indefinite"/>
                      </p:stCondLst>
                      <p:childTnLst>
                        <p:par>
                          <p:cTn id="3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1000" fill="hold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dur="indefinite" fill="hold">
                      <p:stCondLst>
                        <p:cond delay="indefinite"/>
                      </p:stCondLst>
                      <p:childTnLst>
                        <p:par>
                          <p:cTn id="3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dur="indefinite" fill="hold">
                      <p:stCondLst>
                        <p:cond delay="indefinite"/>
                      </p:stCondLst>
                      <p:childTnLst>
                        <p:par>
                          <p:cTn id="3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9" dur="1000" fill="hold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dur="indefinite" fill="hold">
                      <p:stCondLst>
                        <p:cond delay="indefinite"/>
                      </p:stCondLst>
                      <p:childTnLst>
                        <p:par>
                          <p:cTn id="3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1000" fill="hold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dur="indefinite" fill="hold">
                      <p:stCondLst>
                        <p:cond delay="indefinite"/>
                      </p:stCondLst>
                      <p:childTnLst>
                        <p:par>
                          <p:cTn id="3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9" dur="1000" fill="hold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dur="indefinite" fill="hold">
                      <p:stCondLst>
                        <p:cond delay="indefinite"/>
                      </p:stCondLst>
                      <p:childTnLst>
                        <p:par>
                          <p:cTn id="3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dur="indefinite" fill="hold">
                      <p:stCondLst>
                        <p:cond delay="indefinite"/>
                      </p:stCondLst>
                      <p:childTnLst>
                        <p:par>
                          <p:cTn id="3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1000" fill="hold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dur="indefinite" fill="hold">
                      <p:stCondLst>
                        <p:cond delay="indefinite"/>
                      </p:stCondLst>
                      <p:childTnLst>
                        <p:par>
                          <p:cTn id="3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1000" fill="hold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dur="indefinite" fill="hold">
                      <p:stCondLst>
                        <p:cond delay="indefinite"/>
                      </p:stCondLst>
                      <p:childTnLst>
                        <p:par>
                          <p:cTn id="3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1000" fill="hold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dur="indefinite" fill="hold">
                      <p:stCondLst>
                        <p:cond delay="indefinite"/>
                      </p:stCondLst>
                      <p:childTnLst>
                        <p:par>
                          <p:cTn id="3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1000" fill="hold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dur="indefinite" fill="hold">
                      <p:stCondLst>
                        <p:cond delay="indefinite"/>
                      </p:stCondLst>
                      <p:childTnLst>
                        <p:par>
                          <p:cTn id="3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0" dur="1000" fill="hold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dur="indefinite" fill="hold">
                      <p:stCondLst>
                        <p:cond delay="indefinite"/>
                      </p:stCondLst>
                      <p:childTnLst>
                        <p:par>
                          <p:cTn id="3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5" dur="1000" fill="hold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dur="indefinite" fill="hold">
                      <p:stCondLst>
                        <p:cond delay="indefinite"/>
                      </p:stCondLst>
                      <p:childTnLst>
                        <p:par>
                          <p:cTn id="3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0" dur="1000" fill="hold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dur="indefinite" fill="hold">
                      <p:stCondLst>
                        <p:cond delay="indefinite"/>
                      </p:stCondLst>
                      <p:childTnLst>
                        <p:par>
                          <p:cTn id="3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5" dur="1000" fill="hold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900000" y="3240"/>
            <a:ext cx="79390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ПРАВИЛА ПИТАНИЯ</a:t>
            </a:r>
            <a:endParaRPr b="0" lang="en-US" sz="3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"/>
          <p:cNvSpPr/>
          <p:nvPr/>
        </p:nvSpPr>
        <p:spPr>
          <a:xfrm>
            <a:off x="971640" y="692280"/>
            <a:ext cx="7993080" cy="60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.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Нужно стараться есть разнообразную пишу, чтобы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рганизм получал все необходимые ему питательные вещества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. Нужно стараться есть в одно и то же время. Организм как бы  привыкает к определенному режиму, и тогда пища лучше усваиваетс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 Не надо есть много жареного, копченого, соленого, острого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акая пища может быть очень вкусной, но не очень полезной и даже вредно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. Утром перед школой надо обязательно завтракать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которые ребят по утрам так спешат, что вместо завтрака проглатывают что – то на ходу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 то и вовсе ничего не едят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. Ужинать нужно не позже, чем за 2 часа до сна. Наедаться прямо перед сном очень вредно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6.Пища не должна быть очень горячей, обжигающе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7. Ужинать нужно не позже, чем за 2 часа до сна. Наедаться прямо перед сном очень вредно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1116000" y="-546120"/>
            <a:ext cx="711360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900"/>
            </a:br>
            <a:r>
              <a:rPr b="0" lang="ru-RU" sz="4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помни: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"/>
          <p:cNvSpPr/>
          <p:nvPr/>
        </p:nvSpPr>
        <p:spPr>
          <a:xfrm>
            <a:off x="900000" y="1268280"/>
            <a:ext cx="619308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вощи и фрукты очень полезны для организма человека, в них много витаминов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Ешьте много овощей и фруктов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ойте руки перед едой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щательно мойте овощи и фрукты перед едо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6950160" y="1484280"/>
            <a:ext cx="186984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9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0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0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250920" y="563400"/>
            <a:ext cx="8893080" cy="48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сточники материалов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http://www.reitingi.lv/thumbnail.php?file=Veseligapartika.jpg&amp;size=article_medi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http://i056.radikal.ru/0806/d7/1709d762143e.jp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http://www.bearcub.ru/images/img_g/xoz.gi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http://papa-vlad.narod.ru/Detskie_prezentatsii/Biologija.Eda/Ovoschi_1.files/slide0019_image040.p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http://probio.io/ru/reference/Herbs_a/media/pictures/reference/1765.gi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http://las.pp.net.ua/_fr/0/19626487.jp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http://murasheva-katja.narod.ru/pic/mos10.JP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http://www.nadietah.ru/files/u8962/svekla1.jp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http://honeygarden.ru/vegetables/radish/radish.jp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http://mykostroma.ru/modules/myalbum/photos/397.jp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http://www.uainfo.com/photos/big/119077_1.jp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187280" y="260280"/>
            <a:ext cx="6840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 урока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ть элементарные представления об органах пищеварения человек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ся с необходимыми организму питательными веществам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учить правила правильного пита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1187280" y="189000"/>
            <a:ext cx="7561440" cy="1224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9778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Планета  Здорового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Питания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2050920" y="1773360"/>
            <a:ext cx="6167520" cy="465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43208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>
            <a:off x="1116000" y="549360"/>
            <a:ext cx="77230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000"/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5b56a"/>
                </a:solidFill>
                <a:latin typeface="Times New Roman"/>
                <a:ea typeface="Times New Roman"/>
              </a:rPr>
              <a:t>Витамины 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</a:rPr>
              <a:t>необходимы для укрепления и сохранения здоровь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000"/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1476360" y="1916280"/>
            <a:ext cx="6993000" cy="38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ИТАТЕЛЬНЫЕ ВЕЩЕСТВА</a:t>
            </a:r>
            <a:endParaRPr b="0" lang="en-US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"/>
          <p:cNvSpPr/>
          <p:nvPr/>
        </p:nvSpPr>
        <p:spPr>
          <a:xfrm>
            <a:off x="1116000" y="1166760"/>
            <a:ext cx="2179800" cy="2024280"/>
          </a:xfrm>
          <a:prstGeom prst="smileyFace">
            <a:avLst>
              <a:gd name="adj" fmla="val 4653"/>
            </a:avLst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бел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"/>
          <p:cNvSpPr/>
          <p:nvPr/>
        </p:nvSpPr>
        <p:spPr>
          <a:xfrm>
            <a:off x="5148360" y="1197000"/>
            <a:ext cx="2303280" cy="2023920"/>
          </a:xfrm>
          <a:prstGeom prst="smileyFace">
            <a:avLst>
              <a:gd name="adj" fmla="val 4653"/>
            </a:avLst>
          </a:prstGeom>
          <a:gradFill rotWithShape="0">
            <a:gsLst>
              <a:gs pos="0">
                <a:srgbClr val="ffff66"/>
              </a:gs>
              <a:gs pos="100000">
                <a:srgbClr val="ff9933"/>
              </a:gs>
            </a:gsLst>
            <a:lin ang="189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жир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4948200" y="3789360"/>
            <a:ext cx="2376360" cy="1905120"/>
          </a:xfrm>
          <a:prstGeom prst="smileyFace">
            <a:avLst>
              <a:gd name="adj" fmla="val 4653"/>
            </a:avLst>
          </a:prstGeom>
          <a:gradFill rotWithShape="0">
            <a:gsLst>
              <a:gs pos="0">
                <a:srgbClr val="ff9933"/>
              </a:gs>
              <a:gs pos="50000">
                <a:srgbClr val="ffff66"/>
              </a:gs>
              <a:gs pos="100000">
                <a:srgbClr val="ff9933"/>
              </a:gs>
            </a:gsLst>
            <a:lin ang="189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углевод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933480" y="3975120"/>
            <a:ext cx="2362320" cy="1905120"/>
          </a:xfrm>
          <a:prstGeom prst="smileyFace">
            <a:avLst>
              <a:gd name="adj" fmla="val 4653"/>
            </a:avLst>
          </a:prstGeom>
          <a:gradFill rotWithShape="0">
            <a:gsLst>
              <a:gs pos="0">
                <a:srgbClr val="ff9933"/>
              </a:gs>
              <a:gs pos="50000">
                <a:srgbClr val="ffff66"/>
              </a:gs>
              <a:gs pos="100000">
                <a:srgbClr val="ff9933"/>
              </a:gs>
            </a:gsLst>
            <a:lin ang="189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в</a:t>
            </a: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ита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мин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2801880" y="2397240"/>
            <a:ext cx="2743200" cy="17650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7020000" y="1484280"/>
            <a:ext cx="1797120" cy="26910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4"/>
          <a:stretch/>
        </p:blipFill>
        <p:spPr>
          <a:xfrm>
            <a:off x="7045200" y="4343400"/>
            <a:ext cx="1416240" cy="228600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5"/>
          <a:stretch/>
        </p:blipFill>
        <p:spPr>
          <a:xfrm>
            <a:off x="3218040" y="4343400"/>
            <a:ext cx="1912680" cy="207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 fill="hold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 fill="hold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 fill="hold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2190600" y="189000"/>
            <a:ext cx="6197760" cy="107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20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вощи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2849400" y="1398600"/>
            <a:ext cx="1854360" cy="13161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1042920" y="1219320"/>
            <a:ext cx="1435320" cy="165564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4"/>
          <a:stretch/>
        </p:blipFill>
        <p:spPr>
          <a:xfrm>
            <a:off x="2687760" y="3068640"/>
            <a:ext cx="2220840" cy="15541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5"/>
          <a:stretch/>
        </p:blipFill>
        <p:spPr>
          <a:xfrm>
            <a:off x="1054080" y="3195720"/>
            <a:ext cx="1424160" cy="16174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6"/>
          <a:stretch/>
        </p:blipFill>
        <p:spPr>
          <a:xfrm>
            <a:off x="5275440" y="4807080"/>
            <a:ext cx="1595160" cy="194472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7"/>
          <a:stretch/>
        </p:blipFill>
        <p:spPr>
          <a:xfrm>
            <a:off x="1149480" y="5084640"/>
            <a:ext cx="1584360" cy="151308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8"/>
          <a:stretch/>
        </p:blipFill>
        <p:spPr>
          <a:xfrm>
            <a:off x="3022560" y="5084640"/>
            <a:ext cx="1800360" cy="13892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9"/>
          <a:stretch/>
        </p:blipFill>
        <p:spPr>
          <a:xfrm>
            <a:off x="5280120" y="3068640"/>
            <a:ext cx="1584360" cy="152244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10"/>
          <a:stretch/>
        </p:blipFill>
        <p:spPr>
          <a:xfrm>
            <a:off x="4957920" y="1365120"/>
            <a:ext cx="1979280" cy="14925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11"/>
          <a:stretch/>
        </p:blipFill>
        <p:spPr>
          <a:xfrm>
            <a:off x="7026120" y="3170160"/>
            <a:ext cx="1882800" cy="130824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12"/>
          <a:stretch/>
        </p:blipFill>
        <p:spPr>
          <a:xfrm>
            <a:off x="7236000" y="4519440"/>
            <a:ext cx="1617480" cy="21448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13"/>
          <a:stretch/>
        </p:blipFill>
        <p:spPr>
          <a:xfrm>
            <a:off x="7047000" y="1152360"/>
            <a:ext cx="2089080" cy="20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 fill="hold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dur="indefinite" fill="hold">
                      <p:stCondLst>
                        <p:cond delay="indefinite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 fill="hold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 fill="hold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7164360" y="1438200"/>
            <a:ext cx="1655640" cy="15969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1170000" y="4338720"/>
            <a:ext cx="1908000" cy="25002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7164360" y="3157560"/>
            <a:ext cx="1677960" cy="171144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1979640" y="260280"/>
            <a:ext cx="5724360" cy="792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рукты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5"/>
          <a:stretch/>
        </p:blipFill>
        <p:spPr>
          <a:xfrm>
            <a:off x="1170000" y="3035160"/>
            <a:ext cx="2033640" cy="13208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6"/>
          <a:stretch/>
        </p:blipFill>
        <p:spPr>
          <a:xfrm>
            <a:off x="3276720" y="1347840"/>
            <a:ext cx="1726920" cy="234792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7"/>
          <a:stretch/>
        </p:blipFill>
        <p:spPr>
          <a:xfrm>
            <a:off x="5292720" y="1303200"/>
            <a:ext cx="1655640" cy="24321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0" y="371628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371628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8"/>
          <a:stretch/>
        </p:blipFill>
        <p:spPr>
          <a:xfrm>
            <a:off x="3203640" y="4356000"/>
            <a:ext cx="2016000" cy="20163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9"/>
          <a:stretch/>
        </p:blipFill>
        <p:spPr>
          <a:xfrm>
            <a:off x="5415120" y="4356000"/>
            <a:ext cx="1666800" cy="2159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10"/>
          <a:stretch/>
        </p:blipFill>
        <p:spPr>
          <a:xfrm>
            <a:off x="7243920" y="4898880"/>
            <a:ext cx="1720800" cy="18259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11"/>
          <a:stretch/>
        </p:blipFill>
        <p:spPr>
          <a:xfrm>
            <a:off x="828720" y="1170000"/>
            <a:ext cx="244800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 fill="hold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0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 fill="hold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0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 fill="hold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 fill="hold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 fill="hold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2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 fill="hold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1434960" y="190440"/>
            <a:ext cx="749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ЯГОДЫ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1103400" y="1403280"/>
            <a:ext cx="2317680" cy="24480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3780000" y="1700280"/>
            <a:ext cx="2447640" cy="185256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4"/>
          <a:stretch/>
        </p:blipFill>
        <p:spPr>
          <a:xfrm>
            <a:off x="6516720" y="1420920"/>
            <a:ext cx="2232000" cy="197784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5"/>
          <a:stretch/>
        </p:blipFill>
        <p:spPr>
          <a:xfrm>
            <a:off x="1103400" y="4152960"/>
            <a:ext cx="2336760" cy="184608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6"/>
          <a:stretch/>
        </p:blipFill>
        <p:spPr>
          <a:xfrm>
            <a:off x="3708360" y="4189320"/>
            <a:ext cx="2374920" cy="177336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7"/>
          <a:stretch/>
        </p:blipFill>
        <p:spPr>
          <a:xfrm>
            <a:off x="6227640" y="4013280"/>
            <a:ext cx="2725920" cy="212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2771640" y="2637000"/>
            <a:ext cx="2952720" cy="1177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Times New Roman"/>
              </a:rPr>
              <a:t>ВИТАМИН   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Times New Roman"/>
              <a:ea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4788000" y="4508640"/>
            <a:ext cx="3097080" cy="214632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1187280" y="4103640"/>
            <a:ext cx="2880000" cy="244008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4"/>
          <a:stretch/>
        </p:blipFill>
        <p:spPr>
          <a:xfrm>
            <a:off x="5003640" y="136440"/>
            <a:ext cx="3961080" cy="200520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5"/>
          <a:stretch/>
        </p:blipFill>
        <p:spPr>
          <a:xfrm>
            <a:off x="1266840" y="260280"/>
            <a:ext cx="3168720" cy="238752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6"/>
          <a:stretch/>
        </p:blipFill>
        <p:spPr>
          <a:xfrm>
            <a:off x="5996160" y="1976400"/>
            <a:ext cx="2771640" cy="227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3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 fill="hold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3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 fill="hold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dur="indefinite" fill="hold">
                      <p:stCondLst>
                        <p:cond delay="indefinite"/>
                      </p:stCondLst>
                      <p:childTnLst>
                        <p:par>
                          <p:cTn id="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5:15:11Z</dcterms:created>
  <dc:creator>2ST10</dc:creator>
  <dc:description/>
  <dc:language>en-US</dc:language>
  <cp:lastModifiedBy>Админ</cp:lastModifiedBy>
  <dcterms:modified xsi:type="dcterms:W3CDTF">2006-02-28T16:06:17Z</dcterms:modified>
  <cp:revision>25</cp:revision>
  <dc:subject/>
  <dc:title>М </dc:title>
</cp:coreProperties>
</file>