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4F3-79F4-4523-A9E1-B405C17A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17C-7239-40DA-87A2-C4CAC3F6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EE0-79AF-40E7-8F8A-FC06D5C3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EE0-F327-4FD2-9733-8C46DB1F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36F5-17DF-40D9-B0D2-2B877A15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A642-0773-4B57-813A-7EDA524E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54BE-A851-477C-B6C1-5B72FFCE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BD8A-8FB3-47F0-9F7D-E8DEDC3D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0016-3D9E-4042-86CD-D3B534DD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F902-07B7-468A-AA4E-0877F7F6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D0AF-79EC-4198-BCE3-E56EDD42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7A9-EABA-434F-8566-679AA701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1746-2214-4988-9149-A11AB979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7BD0-F656-4F51-8AC0-0D815209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0597-1121-4E81-9895-8F373C0A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C5B6-48BE-4F31-85FC-78FC5E1C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A13D-EF3F-4662-9997-79AE2417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8FC-C75A-4DC6-8288-BA542EC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5FE-5F68-48AA-9563-41CB0934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208-B7F4-4B8B-A4D3-C54F5896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74C-BAF2-44F1-91E0-11027475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7B4-3956-40D7-BEAF-0269E310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450-CD7E-4118-95A9-ADC550C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6AE-2CCD-4F9A-885D-834F1706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9344-C773-4B87-800D-4166C2B07F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6123-4239-4108-AEFE-99EA873995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5157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Северный олень - единственный олень, у которого и самцы и самки несут рога. Северный олень невелик, летом - кофейно-бурый или серо-бурый, зимой довольно пестрый - от совсем светлого на шее и нижней половине головы до темнобуровато-серого наверху головы, спине, ногах и крупе. Длина тела 200 - 220 см, высота в холке до 140 см и максимальный вес осенью до 220 кг. Обычно же северные олени, особенно тундровые, намного мельче и легче. Их вес едва превышает сто кг</a:t>
            </a: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Северный олень (Rangifer tarandus), олень северный, фото фотография, парнокопытные"/>
          <p:cNvPicPr/>
          <p:nvPr/>
        </p:nvPicPr>
        <p:blipFill>
          <a:blip r:embed="rId2"/>
          <a:stretch/>
        </p:blipFill>
        <p:spPr>
          <a:xfrm>
            <a:off x="1835280" y="0"/>
            <a:ext cx="5689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38400" y="1276200"/>
            <a:ext cx="66672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4:44:51Z</dcterms:created>
  <dc:creator>Admin</dc:creator>
  <dc:description/>
  <dc:language>en-US</dc:language>
  <cp:lastModifiedBy>Admin</cp:lastModifiedBy>
  <dcterms:modified xsi:type="dcterms:W3CDTF">2014-10-21T14:51:24Z</dcterms:modified>
  <cp:revision>2</cp:revision>
  <dc:subject/>
  <dc:title>Северный олень - единственный олень, у которого и самцы и самки несут рога. Северный олень невелик, летом - кофейно-бурый или серо-бурый, зимой довольно пестрый - от совсем светлого на шее и нижней половине головы до темнобуровато-серого наверху головы, спине, ногах и крупе. Длина тела 200 - 220 см, высота в холке до 140 см и максимальный вес осенью до 220 кг. Обычно же северные олени, особенно тундровые, намного мельче и легче. Их вес едва превышает сто кг. </dc:title>
</cp:coreProperties>
</file>