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5DF-FA99-46C9-8FB6-767DA9CC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B48-D63F-4ADD-AA69-F11BE899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484-5F35-49FD-B363-73301948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F7B-8761-4C19-92CC-48D5D798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BAF-0452-43E9-83C8-E0B87BF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871D-58DC-4067-9586-D36BF171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1AF-792F-4801-81AC-D6E3138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D39-7BBD-4178-9A94-4472581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176E-F10D-441E-A83E-E2A3EB5A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3AB3-2738-4AC5-8913-5CE5FA4E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A55-D25E-4A3D-AA73-7BF3E446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B3E-183D-4771-A555-BD00189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A564-449C-47D2-9DED-2F0E032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A6B1-0638-49E1-A59F-D07844B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1ADA-9D2C-4BF2-961D-01FA7EF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AC67-BB69-48D8-A1AC-7A907D6E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BBF1-836A-465A-BD8E-C9C0C46F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603-A07C-46EB-A92E-DB990E9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955-FA26-4ECA-A095-BD02068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932-AE04-4DB1-B3C7-B2C2FB5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5C0-E018-489E-AB09-D393B02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5C5-92D7-4BE5-AAD4-30E0A34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BD4-B2F7-4C16-A03F-D21053A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668-9466-4484-A91A-2771360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9ED9-2A0A-4B04-A6BC-05D42DA91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C06-B654-47F1-AAC4-3D223840B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92;&#1086;&#1090;&#1086;%20&#1095;&#1077;&#1088;&#1077;&#1087;&#1072;&#1093;&#1080;%20&#1075;&#1086;&#1083;&#1080;&#1072;&#1092;&amp;p=23&amp;img_url=us.123rf.com%2F400wm%2F127%2F188%2Fjamesharrison%2Fjamesharrison0905%2Fjamesharrison090500009%2F4948716-a-close-up-of-a-giant-tortois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3;&#1086;&#1085;&#1086;&#1074;&#1072;&#1103;_&#1095;&#1077;&#1088;&#1077;&#1087;&#1072;&#1093;&#1072;" TargetMode="External"/><Relationship Id="rId2" Type="http://schemas.openxmlformats.org/officeDocument/2006/relationships/hyperlink" Target="http://ru.wikipedia.org/wiki/&#1057;&#1091;&#1093;&#1086;&#1087;&#1091;&#1090;&#1085;&#1099;&#1077;_&#1095;&#1077;&#1088;&#1077;&#1087;&#1072;&#1093;&#1080;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ая большая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черепаха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5105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: Клишин Серге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349360"/>
            <a:ext cx="3889440" cy="260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1700280"/>
            <a:ext cx="2016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8" descr="C:\Users\Я\Desktop\временная\29E30EEB590642578216660FF69A71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C:\Users\Я\Desktop\временная\383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C:\Users\Я\Desktop\временная\1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0" descr="C:\Users\Я\Desktop\временная\1367-2c061a6f7ead38e58d5bcce36f6e4d3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4" descr="C:\Users\Я\Desktop\временная\4768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13" descr="C:\Users\Я\Desktop\временная\3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1" descr="C:\Users\Я\Desktop\временная\Turtle_and_Duck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93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7" descr="C:\Users\Я\Desktop\временная\agrionemys_horsfieldii_dnz_2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3" descr="C:\Users\Я\Desktop\временная\Tortue-Marine-Chelonia-Mydas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5" descr="C:\Users\Я\Desktop\временная\20128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6" descr="C:\Users\Я\Desktop\временная\18146330005627d694f2933d7e5ad72c6ac6d0b69a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4" descr="C:\Users\Я\Desktop\временная\мускус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емного про черепах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2276640"/>
            <a:ext cx="3927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лиа́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кличка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слоновой черепах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читающейся самой крупной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ухопутной черепах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крупный живой экземпляр слоновой черепахи  по имени Голиаф, живет в штате Флорида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Ш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 1960 года. По состоянию на 1988 г., его длина составляла 135,5 см, ширина 102 см, высота 68,5 см, а вес 385 кг; к 1996 г. его вес приблизился к 40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i" descr=""/>
          <p:cNvPicPr/>
          <p:nvPr/>
        </p:nvPicPr>
        <p:blipFill>
          <a:blip r:embed="rId3"/>
          <a:stretch/>
        </p:blipFill>
        <p:spPr>
          <a:xfrm rot="21283800">
            <a:off x="324000" y="1484280"/>
            <a:ext cx="3714480" cy="239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21300000">
            <a:off x="1042920" y="3860640"/>
            <a:ext cx="3672000" cy="27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5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х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4838400"/>
            <a:ext cx="8007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репахи питаются травой, листьями, гусеницами. Вместо зубов у черепах челюсти с заостренными кра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21427200">
            <a:off x="1187280" y="1773000"/>
            <a:ext cx="3027600" cy="2800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369000">
            <a:off x="5148360" y="1844280"/>
            <a:ext cx="3384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о интересн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что же делают черепахи зимой, когда запасы их пищи истощаются? Как и все другие рептилии, черепахи, живущие в зонах с умеренным климатом, впадают в спячку. Длительность их сна зависит от климата. Но большинство черепах могут обходиться без еды и спят без просыпа аж с октября по март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336000">
            <a:off x="5122800" y="1914480"/>
            <a:ext cx="337968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должительность жизни черепах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ая старая черепаха была с 1368 по 1644 год, и ей было свыше 400 лет . А в среднем черепахи живут около 100 лет но есть и исклю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1402000">
            <a:off x="394920" y="1915920"/>
            <a:ext cx="487692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C:\Users\Я\Desktop\временная\6a00e5501529178833013484bae3ca970c-800w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2" descr="C:\Users\Я\Desktop\временная\0b0c8e75256e9c3f722f73752368764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C:\Users\Я\Desktop\временная\7e87a278b2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C:\Users\Я\Desktop\временная\800px-Alligator_snapping_tur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C:\Users\Я\Desktop\временная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C:\Users\Я\Desktop\временная\5fdcd5bc8c8b87bf641e528c126189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C:\Users\Я\Desktop\временная\800px-Green_turtle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0:00:18Z</dcterms:created>
  <dc:creator>Admin</dc:creator>
  <dc:description/>
  <dc:language>en-US</dc:language>
  <cp:lastModifiedBy>Admin</cp:lastModifiedBy>
  <dcterms:modified xsi:type="dcterms:W3CDTF">2014-10-31T20:07:19Z</dcterms:modified>
  <cp:revision>29</cp:revision>
  <dc:subject/>
  <dc:title>Слайд 1</dc:title>
</cp:coreProperties>
</file>