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2" descr="dsf dsfz fze ey ytkuilhk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Text Box 8"/>
          <p:cNvSpPr/>
          <p:nvPr/>
        </p:nvSpPr>
        <p:spPr>
          <a:xfrm>
            <a:off x="7551360" y="6375240"/>
            <a:ext cx="18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Page </a:t>
            </a:r>
            <a:fld id="{C9DDAE0C-3C23-4C53-A27E-54CA497390DF}" type="slidenum">
              <a:rPr b="1" lang="fr-FR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17" descr="sdqvdsvd geg eyer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" name="Text Box 6"/>
          <p:cNvSpPr/>
          <p:nvPr/>
        </p:nvSpPr>
        <p:spPr>
          <a:xfrm>
            <a:off x="1438200" y="404640"/>
            <a:ext cx="7705800" cy="63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80000" bIns="180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сихологические аспекты восстановления процесса социализации в условиях специальной школы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открытого типа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Педагог-психолог спецшколы № 2 (открытого типа) Ярцева И.К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. Выработка совместной тактики взаимодействия родители-ребенок-шко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58560" y="1600200"/>
            <a:ext cx="7427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верительные отношения позволяют совместно с родителями продумать тактику изменений детско-родительских отношений  и организовать комплексную коррекционную работу, направленную на преодоление причин отклонений в поведении подрост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зволяет привлечь из близкого окружения подростка наиболее авторитетного человека, к кому он может прислушаться, кому доверяет и на кого хочет быть похожи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907640" y="259920"/>
            <a:ext cx="681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. Формирование умения понимать себя 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 проявления други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476000" y="1600200"/>
            <a:ext cx="7210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 просто принимать подростка таким какой он есть, его поведенческие реак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ормирование детско-родительской компетентности позволяет проявлять гибкость в отношения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знание себя происходит через соотнесение себя с другими, через результат собственной деятельности, через восприятие своего внешнего облика и внутренних пережива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050560" y="274320"/>
            <a:ext cx="663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ормы девиантного поведен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47280" y="1600200"/>
            <a:ext cx="7139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езадаптивное поведен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ффекты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епрессия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утичность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ддикци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уицидальн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 Асоциальное поведен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лкоголизм, наркомани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беги, бродяжничество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андализм, граффи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79280" y="274320"/>
            <a:ext cx="6707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езадаптивное поведен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547280" y="1628640"/>
            <a:ext cx="7139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ормируем умение чувствовать и понимать себя и других (АРТ-терапия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чим управлять своим состоянием (тренинговые упражнения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ормируем умение анализировать, планировать, предстоящие события (рациональная терапия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чим менять свое отношение к ситуациям, которые нельзя измени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чим вариативности реагирования (моделировани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411280" y="27432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социальное поведение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лкоголизм и Нарком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формирование о последствиях употреб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Видео-фильмы, слайды, обсуждени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беги из дома, Бродяжниче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одительские собрания, индивидуально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нсультирование подростков и родите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андализм, Граффи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здание конкурсов граффитистов с целью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ализации потребности в самоутвержден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484000" y="274680"/>
            <a:ext cx="62024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тношения взаимного доверия и уваж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692000" y="1600200"/>
            <a:ext cx="6994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тношения взаимного доверия и уважения разрушают асоциальные установки у подрост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обходимо дать возможность почувствовать подросткам, что они нужны и полезны близким,  и другим людям, обществ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то их родные будут любить не зависимо от результатов учебной деятельности, от достижений жизненных целей, независимо от повед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556000" y="365040"/>
            <a:ext cx="595944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брота и отзывчив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1619280" y="1825200"/>
            <a:ext cx="6896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ормируется на основе родительской любви и заботы, мягкого отношения к людя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арактер детей в руках взрослы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сли этого нет в семье, ребёнок растет жёстким, чёрствым, агрессивны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124000" y="365040"/>
            <a:ext cx="639144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циализация подростков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2268360" y="1773000"/>
            <a:ext cx="6158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стигается путем последовательных согласованных действий между родителями, детьми, сотрудниками школы и иными социальными институт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8"/>
          <p:cNvSpPr/>
          <p:nvPr/>
        </p:nvSpPr>
        <p:spPr>
          <a:xfrm>
            <a:off x="2627280" y="1268280"/>
            <a:ext cx="619272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80000" bIns="180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евиантное поведени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является следствием нарушения процесса вхождения подростка в социальную жизнь взрослог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3"/>
          <p:cNvSpPr/>
          <p:nvPr/>
        </p:nvSpPr>
        <p:spPr>
          <a:xfrm>
            <a:off x="2627280" y="1270080"/>
            <a:ext cx="619272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80000" bIns="180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гда мы говорим о нарушении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 о затруднении, а именно о нарушении какого-либо процесса, мы совершенно точно должны отдавать себе отчет в том, что восстановить то, что нарушено чрезвычайно сложно, по времени долго и не всегда наши усилия могут увенчаться успех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627280" y="219960"/>
            <a:ext cx="605952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800" spc="-1" strike="noStrike"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765440" y="1341360"/>
            <a:ext cx="692280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боту мы начинаем с изучения причин и условий возникновения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евиантного поведения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40000" y="259920"/>
            <a:ext cx="634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зучаем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ичные де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908000" y="1773000"/>
            <a:ext cx="67788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 целью уточнения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чала учебной дезадаптации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нижения успеваемос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личества пропусков по болезни и без уважительных причи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кими событиями сопровождалос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050560" y="274320"/>
            <a:ext cx="663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 Изучаем медицинские кар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619280" y="1600200"/>
            <a:ext cx="7067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 целью уточнен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правленности частых заболеваний (неврологической, травматологической, вирусной и т.д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сключения или подтверждения возможной органической или иной патолог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 Установление контакта с родителями (законными представителями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476000" y="1600200"/>
            <a:ext cx="7210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 целью уточнения особенностей семейного воспита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собенности рождения ребенка (возможные осложнени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зменения в структуре  семь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словия проживания семьи (ребенка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собенности взаимоотношений между членами семь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бытия, совпадающие со снижением результатов учебной деятельности и изменений в поведении ребен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зучение индивидуально-психологических особенност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пособствующих формированию девиаций у подростка – нарушения в эмоционально-волевой сфере, которые формируются в результате нарушений детско-родительских отноше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зучение ресурсных возможностей для изменений в учебной деятельности, в семейных взаимоотношениях, в общении со сверстниками и другими взрослы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. Установление доверительных отношений с подростком и его родителя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619280" y="1600200"/>
            <a:ext cx="7067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 подростка не удовлетворена потребность в  безопасности, он уже опасается верить взрослы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 свои откровения он уже не раз был наказан, потому и тревожен, отчужден от близких, озлоблен и духовно опусташён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ежде чем подросток начнет доверять, взрослому приходится пройти через множество провокаций, нередко очень жёстких провокаций, через массу всевозможной дезинформации, сопровождающейся просьбой «никому не говорить». Выдержал проверку – работа пойдет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3T15:23:24Z</dcterms:created>
  <dc:creator>www.powerpointstyles.com</dc:creator>
  <dc:description>Image credit to FreeDigitalPhotos.net</dc:description>
  <dc:language>en-US</dc:language>
  <cp:lastModifiedBy>Мария Николаевна</cp:lastModifiedBy>
  <dcterms:modified xsi:type="dcterms:W3CDTF">2014-10-31T05:39:01Z</dcterms:modified>
  <cp:revision>66</cp:revision>
  <dc:subject/>
  <dc:title>Shining Purple Curves</dc:title>
</cp:coreProperties>
</file>