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F4C8-A8C1-4809-BAA2-40E38B2A69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53E0-EE42-4624-A1BC-EDCB10E55F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месяц приходит следующим после авгус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то значит «хороводит», «богат урожаем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1BD1-3EE9-42CC-A864-08557BDA5C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первый и второй месяц ос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сень «королева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74F2-A860-4ECB-BE56-735037E95B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 третий осенний меся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7D3E-ADC8-4E70-82F6-C14282EC12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«рыжий Егорка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«рыжий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 слово 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колыхну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ери несколько слов близких по значению слову «всколыхну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C19D-9999-47FC-941C-CBD699A152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 слова близкие по значению  слову «рыщ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то значит «ветер поёт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1C6C-41F7-4BCC-8B6F-6B36605416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892-228A-42EF-A78C-FE0F3F19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4C2-8B62-4A21-8AFD-4DAC5BB1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ABD-4225-498E-A3BC-C53C1233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E85-AA79-4727-AA56-03926B8D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68B-C23C-4924-9E1A-6833064C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163-9C69-436C-A299-6E583D9D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FA2-1B1B-4199-89AE-9B3B2ABA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4EE-AB8F-44FA-ADCE-7AA83F5B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C2B-1B58-4369-B747-310DCD2F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AE43-310C-4CBC-BB5F-71BD62CE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F12-7EA2-4464-957F-5768AF84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136-5DCB-4850-B689-3FC44FE7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196A-1B31-4E1C-BDBE-E2135432B7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8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yandex.ru/yandsearch?text=&#1082;&#1072;&#1088;&#1090;&#1080;&#1085;&#1082;&#1080;%20&#1087;&#1088;&#1086;%20&#1086;&#1089;&#1077;&#1085;&#1100;&amp;lr=2" TargetMode="External"/><Relationship Id="rId2" Type="http://schemas.openxmlformats.org/officeDocument/2006/relationships/hyperlink" Target="https://www.google.ru/search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571480"/>
            <a:ext cx="8686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Загадки про осен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тябр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5840" y="1143000"/>
            <a:ext cx="59292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 за августо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истопадом хороводит,  Богат он урожаем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его конечно знае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4714920" y="3500280"/>
            <a:ext cx="4038480" cy="2913120"/>
          </a:xfrm>
          <a:prstGeom prst="rect">
            <a:avLst/>
          </a:prstGeom>
          <a:ln w="0">
            <a:noFill/>
          </a:ln>
        </p:spPr>
      </p:pic>
      <p:pic>
        <p:nvPicPr>
          <p:cNvPr id="131" name="Записанный звук" descr=""/>
          <p:cNvPicPr/>
          <p:nvPr/>
        </p:nvPicPr>
        <p:blipFill>
          <a:blip r:embed="rId2"/>
          <a:stretch/>
        </p:blipFill>
        <p:spPr>
          <a:xfrm>
            <a:off x="507204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1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ктябр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51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ева наша осен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бя мы дружно спросим: Детям свой секрет открой, Кто слуга тебе втор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5" descr="красная осень.jpg"/>
          <p:cNvPicPr/>
          <p:nvPr/>
        </p:nvPicPr>
        <p:blipFill>
          <a:blip r:embed="rId1"/>
          <a:stretch/>
        </p:blipFill>
        <p:spPr>
          <a:xfrm>
            <a:off x="4429080" y="3214800"/>
            <a:ext cx="4503960" cy="3378240"/>
          </a:xfrm>
          <a:prstGeom prst="rect">
            <a:avLst/>
          </a:prstGeom>
          <a:ln w="0">
            <a:noFill/>
          </a:ln>
        </p:spPr>
      </p:pic>
      <p:pic>
        <p:nvPicPr>
          <p:cNvPr id="135" name="Записанный звук" descr=""/>
          <p:cNvPicPr/>
          <p:nvPr/>
        </p:nvPicPr>
        <p:blipFill>
          <a:blip r:embed="rId2"/>
          <a:stretch/>
        </p:blipFill>
        <p:spPr>
          <a:xfrm>
            <a:off x="650088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259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ябр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600200"/>
            <a:ext cx="50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 чёрно-белым стало: Падает то дождь то сне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ё похолодало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дом сковало воды рек. Мёрзнет в поле оземь ржи. Что за месяц подскаж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4" descr="478383нояб2.jpg"/>
          <p:cNvPicPr/>
          <p:nvPr/>
        </p:nvPicPr>
        <p:blipFill>
          <a:blip r:embed="rId1"/>
          <a:stretch/>
        </p:blipFill>
        <p:spPr>
          <a:xfrm>
            <a:off x="5214960" y="1714680"/>
            <a:ext cx="3514680" cy="4686120"/>
          </a:xfrm>
          <a:prstGeom prst="rect">
            <a:avLst/>
          </a:prstGeom>
          <a:ln w="0">
            <a:noFill/>
          </a:ln>
        </p:spPr>
      </p:pic>
      <p:pic>
        <p:nvPicPr>
          <p:cNvPr id="139" name="Записанный звук" descr=""/>
          <p:cNvPicPr/>
          <p:nvPr/>
        </p:nvPicPr>
        <p:blipFill>
          <a:blip r:embed="rId2"/>
          <a:stretch/>
        </p:blipFill>
        <p:spPr>
          <a:xfrm>
            <a:off x="54291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935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ний ли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85840" y="1285920"/>
            <a:ext cx="45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жий Егор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ал на озёрк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не утону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ды не всколыхну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G:\Таня\Фото для презентаций\Осень\красные листья на темной воде.bmp"/>
          <p:cNvPicPr/>
          <p:nvPr/>
        </p:nvPicPr>
        <p:blipFill>
          <a:blip r:embed="rId1"/>
          <a:stretch/>
        </p:blipFill>
        <p:spPr>
          <a:xfrm>
            <a:off x="4429080" y="2571840"/>
            <a:ext cx="4487760" cy="3367080"/>
          </a:xfrm>
          <a:prstGeom prst="rect">
            <a:avLst/>
          </a:prstGeom>
          <a:ln w="0">
            <a:noFill/>
          </a:ln>
        </p:spPr>
      </p:pic>
      <p:pic>
        <p:nvPicPr>
          <p:cNvPr id="143" name="Записанный звук" descr=""/>
          <p:cNvPicPr/>
          <p:nvPr/>
        </p:nvPicPr>
        <p:blipFill>
          <a:blip r:embed="rId2"/>
          <a:stretch/>
        </p:blipFill>
        <p:spPr>
          <a:xfrm>
            <a:off x="4500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39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и нагоня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т, задува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ету рыщ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ёт да свищ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510000" y="1785960"/>
            <a:ext cx="5176800" cy="3405240"/>
          </a:xfrm>
          <a:prstGeom prst="rect">
            <a:avLst/>
          </a:prstGeom>
          <a:ln w="0">
            <a:noFill/>
          </a:ln>
        </p:spPr>
      </p:pic>
      <p:pic>
        <p:nvPicPr>
          <p:cNvPr id="147" name="Записанный звук" descr=""/>
          <p:cNvPicPr/>
          <p:nvPr/>
        </p:nvPicPr>
        <p:blipFill>
          <a:blip r:embed="rId2"/>
          <a:stretch/>
        </p:blipFill>
        <p:spPr>
          <a:xfrm>
            <a:off x="5572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998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и используемые для презент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yandex.ru/yand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s://www.google.ru/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539640" y="2565360"/>
            <a:ext cx="80647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етенникова С.А. и Клыков А.А., Четыре времени года. Книга для воспитателя детского сада. Изд. М., «Просвещение»,197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Б. Успенский, Л.П. Успенская, Правильно, складно, красиво учимся говорить. Пособие по развитию речи. Спб.: «Специальная литература», 1997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ькина Н.Б. и  Карева О.П. Всем и каждому. Универсальный дидактический материал по развитию речи. – СПб.: «Университетские Образовательные Округа»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7:21:09Z</dcterms:created>
  <dc:creator>Natali</dc:creator>
  <dc:description/>
  <dc:language>en-US</dc:language>
  <cp:lastModifiedBy>Natali</cp:lastModifiedBy>
  <dcterms:modified xsi:type="dcterms:W3CDTF">2014-10-31T16:47:55Z</dcterms:modified>
  <cp:revision>66</cp:revision>
  <dc:subject/>
  <dc:title>Загадки про осень</dc:title>
</cp:coreProperties>
</file>