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26F-5A0C-4D97-99B9-44CB81D4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53A-0D33-42B3-BCF3-3EE89EE5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8AE-5728-41BF-B6CA-E1FAD13B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A8C-AF64-4A32-84E4-4E29B23C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2444-1ED3-4238-BEB7-A115A345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BE24-1B9F-4F46-8BAD-5279585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05B-8847-4402-934D-7F38E0F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7B4-AD63-4BD4-B511-DEA843D1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81A8-1699-45FD-8558-288BC53C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3A21-E86A-4B92-AEA9-3051008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8C93-D69A-4E3E-B182-EBE271C7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2C3-358C-4974-8BF6-96073C0C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ABD9-61B9-40D9-A09C-5E7B23B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2ED3-4AE4-4B00-B5E2-E0126CA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333-9194-4064-A1EB-56FD4D0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AEA-C230-488A-98F9-F062A4B5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0B98-2140-41FE-8091-4DB03C1F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043B-3B25-4429-ACE3-4A91717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F8C7-1D91-44D2-A298-CC6EC8B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0BA7-6EC0-4DDA-A4B6-527073F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A335-1FD3-4E89-9965-4C0F1FD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34E7-0714-486E-9D8C-69FA2E27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5C3-AA4D-41ED-B2F7-E9FC4BA7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1B2B-937E-4AFE-A175-1173EFB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5CCC-F7F8-4A63-B880-ACE8DB7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BFC0-DF9E-4FD1-81D6-BE43D5E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B665-7986-435B-A3A8-0772404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C19D-E0A1-4EE7-AC3C-7D99EFB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86EE-6296-411D-94D4-3CB7EBEC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D4F4-2FC0-4FA6-97A2-0C7FE948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CBB0-9B0C-45F1-85C6-BAE01EF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B12A-0596-443E-83D8-51D53767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AAB4-D066-4C2F-BDE0-8169CE8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113-4DA5-4C57-A495-47AA367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9846-012B-42A7-85E7-97C5DC29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8856-8D88-4B48-B4E4-938691EE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4E24-0F70-4AAF-8B82-676EF3F1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2AC4-F798-483D-BEC9-33A5B134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FA67-F258-4F63-A84B-D370A1B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BF78-A872-4942-81C5-4195F84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349B-BD53-4BF4-A197-D41C1D7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612F-A1CD-4194-A3EA-B34E7582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A3DE-BC42-41A2-8FC8-04E0BBAE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0CD-71B4-438C-91AF-A1F769F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B42-FE93-4A75-8A3B-94CCF59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1D9-CE33-4598-9E1E-5394026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BA2-9076-47DB-93E4-4765086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E4E-39C6-4554-B7B0-CBD77E1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EC0A-1CE1-4E3E-ADFA-5638D1EFC7D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F10-28ED-4C5F-AF08-C5F962E8EF9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5995-B0D9-48E0-8BCE-680ED443CDF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264-C2C6-4D03-92BB-9C072A5EED3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Samsung\Desktop\карт.jpg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" descr=""/>
          <p:cNvPicPr/>
          <p:nvPr/>
        </p:nvPicPr>
        <p:blipFill>
          <a:blip r:embed="rId2"/>
          <a:stretch/>
        </p:blipFill>
        <p:spPr>
          <a:xfrm>
            <a:off x="963720" y="2127240"/>
            <a:ext cx="7216560" cy="15177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684360" y="692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льтимедийное дидактическое пособ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ля детей 5-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5369040" y="4692600"/>
            <a:ext cx="3600360" cy="2014200"/>
          </a:xfrm>
          <a:prstGeom prst="rect">
            <a:avLst/>
          </a:prstGeom>
          <a:gradFill rotWithShape="0">
            <a:gsLst>
              <a:gs pos="0">
                <a:srgbClr val="d1f8b5"/>
              </a:gs>
              <a:gs pos="100000">
                <a:srgbClr val="abe87b"/>
              </a:gs>
            </a:gsLst>
            <a:lin ang="5400000"/>
          </a:gradFill>
          <a:ln w="9360">
            <a:solidFill>
              <a:srgbClr val="a7ea5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Соста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БДОУ д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омбиниров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301 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Шарышева Жан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956280" cy="2388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Вопросы взрослого к ребёнку: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  </a:t>
            </a: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1) Какие овощи нужны для приготовления щей? Что положим в кастрюлю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  </a:t>
            </a: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2) Что лишнее? Объясни почему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C:\Users\Админ\Desktop\i.jpeg"/>
          <p:cNvPicPr/>
          <p:nvPr/>
        </p:nvPicPr>
        <p:blipFill>
          <a:blip r:embed="rId1"/>
          <a:stretch/>
        </p:blipFill>
        <p:spPr>
          <a:xfrm>
            <a:off x="3357720" y="2143080"/>
            <a:ext cx="2857320" cy="249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Админ\Desktop\1275496876_apelsin_002.jpg"/>
          <p:cNvPicPr/>
          <p:nvPr/>
        </p:nvPicPr>
        <p:blipFill>
          <a:blip r:embed="rId2"/>
          <a:stretch/>
        </p:blipFill>
        <p:spPr>
          <a:xfrm>
            <a:off x="6208560" y="247680"/>
            <a:ext cx="3044880" cy="2282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Админ\Desktop\202552-1.jpg"/>
          <p:cNvPicPr/>
          <p:nvPr/>
        </p:nvPicPr>
        <p:blipFill>
          <a:blip r:embed="rId3"/>
          <a:stretch/>
        </p:blipFill>
        <p:spPr>
          <a:xfrm>
            <a:off x="428760" y="4214880"/>
            <a:ext cx="2041560" cy="208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Users\Админ\Desktop\image.jpg"/>
          <p:cNvPicPr/>
          <p:nvPr/>
        </p:nvPicPr>
        <p:blipFill>
          <a:blip r:embed="rId4"/>
          <a:stretch/>
        </p:blipFill>
        <p:spPr>
          <a:xfrm>
            <a:off x="6208560" y="4060800"/>
            <a:ext cx="3024360" cy="2419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:\Users\Админ\Desktop\87922.jpg"/>
          <p:cNvPicPr/>
          <p:nvPr/>
        </p:nvPicPr>
        <p:blipFill>
          <a:blip r:embed="rId5"/>
          <a:stretch/>
        </p:blipFill>
        <p:spPr>
          <a:xfrm>
            <a:off x="468360" y="38880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2.77778E-006 -2.95097E-006 L 0.34496 -0.35083 E">
                                      <p:cBhvr>
                                        <p:cTn id="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2.77778E-007 1.07308E-006 L 0.36302 0.20282 E">
                                      <p:cBhvr>
                                        <p:cTn id="1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41443E-006 L -0.32847 -0.34182 E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8:33:52Z</dcterms:created>
  <dc:creator>Админ</dc:creator>
  <dc:description/>
  <dc:language>en-US</dc:language>
  <cp:lastModifiedBy>Админ</cp:lastModifiedBy>
  <dcterms:modified xsi:type="dcterms:W3CDTF">2014-10-31T18:41:16Z</dcterms:modified>
  <cp:revision>96</cp:revision>
  <dc:subject/>
  <dc:title>Слайд 1</dc:title>
</cp:coreProperties>
</file>