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E5A-5FCC-4E25-ACFD-378B0BDA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63F-CC7B-4DB5-BC3E-89FA458C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E91-0D8F-423E-B1BD-EEF7FBED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B0D-EF1B-46AB-97BB-DB47E31A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C0FD-D0A1-4F84-A037-FDBD53CE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C54C-E184-465F-BDCB-54DA67CF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5B95-7F1C-4BF6-BBD7-4573623A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68A9-436D-4674-B4FC-B7DDC328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6A6E-A3F9-45F2-B6F7-B64A1AC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5E7C-853A-4C10-8290-7E776263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6B05-9B0B-4465-9AC9-FFB46EC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251-1151-45B3-B2C9-510A59D7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B359-CDC7-4A0D-922F-8CE73369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B496-54CA-4405-9846-7A3C2CCF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C24E-0CC9-4E7C-B14A-F98676B4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0B7D-5A01-4BA7-B78E-4B5869C9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F490-30E0-41EE-A7E2-3CF312DE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D30B-9C1A-499A-AD46-FCA3053D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5F676-5745-4347-AC89-B0B74A44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CB58-0771-4D41-A487-6BE9C476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E6EC-466F-4E5D-BC2A-DFA32910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B258-AD36-47E9-A482-8E990397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084-52A4-44E1-B56B-E3C3CD57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7E0ED-E1F6-4E8A-805C-7E51F8E3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3C1E-49BF-4B0F-BDCB-2F309D7B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7A5F-4E60-41E0-9691-11C60903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4946-6724-4103-A9EE-558D68A6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0BCC-C501-411F-B576-13463130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8E84-B02F-4BC6-8B24-FF186889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C045-3792-4691-8C28-287B6637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42B3A-207F-424B-88B6-E40F4425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733F-4621-41D7-AB48-A70FFF20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9ED4B-A06B-4719-B62E-C51169F0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DC2-133B-40A4-838F-774CEAE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E2339-9F7D-4511-8898-0DE1283F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45D73-5152-4193-AE0A-F9335ECB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97C2-F7E2-4421-A0F6-1F5D4111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6EE87-9A61-4D57-8AF6-6B816082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C1E4E-3799-4175-A27B-58CB8EB8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FF76-F3D6-46D9-8C12-2F97D675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17DF-FFB3-47A2-904F-024D3D95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AA3A-89A1-44A4-A09B-15FD31CF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01E5-2F7C-49FB-99AD-E01AB0EA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7C9-D21E-41C8-9EA7-44987013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840-BECD-418E-9EB0-64C2C747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343-C4B5-469F-95FD-D28190CE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44D-680F-4D47-A456-4665AF4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166-369D-4BB8-89BB-13D429E8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462E-4E49-42CE-B52F-1E7EF7B3431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460C-8B44-4D67-96D2-D44D2F1DEEB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08FD-E744-4DA1-BBBD-5C7132BBBD0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1EC7-89FE-4646-B564-09931DD473B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956280" cy="2388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Вопросы взрослого к ребёнку: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  </a:t>
            </a: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1) Какие ягоды нужны для приготовления компота? Что положим в кастрюлю? Назови какой компот из клубники?  (…из смородины?, …из малины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  </a:t>
            </a:r>
            <a:r>
              <a:rPr b="1" lang="ru-RU" sz="2600" spc="-1" strike="noStrike">
                <a:solidFill>
                  <a:srgbClr val="404040"/>
                </a:solidFill>
                <a:latin typeface="Arial Black"/>
              </a:rPr>
              <a:t>2) Что лишнее? Объясни почему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Админ\Desktop\147725.jpg"/>
          <p:cNvPicPr/>
          <p:nvPr/>
        </p:nvPicPr>
        <p:blipFill>
          <a:blip r:embed="rId1"/>
          <a:stretch/>
        </p:blipFill>
        <p:spPr>
          <a:xfrm>
            <a:off x="571680" y="857160"/>
            <a:ext cx="214308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Админ\Desktop\wWw.EylencE.Az_Meyveler_20_Feb_2009_1.jpg"/>
          <p:cNvPicPr/>
          <p:nvPr/>
        </p:nvPicPr>
        <p:blipFill>
          <a:blip r:embed="rId2"/>
          <a:stretch/>
        </p:blipFill>
        <p:spPr>
          <a:xfrm>
            <a:off x="1143000" y="478620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Users\Админ\Desktop\83021001_large_x_a7f0b462.jpg"/>
          <p:cNvPicPr/>
          <p:nvPr/>
        </p:nvPicPr>
        <p:blipFill>
          <a:blip r:embed="rId3"/>
          <a:stretch/>
        </p:blipFill>
        <p:spPr>
          <a:xfrm>
            <a:off x="6215040" y="357120"/>
            <a:ext cx="1785960" cy="1339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Users\Админ\Desktop\i.jpeg"/>
          <p:cNvPicPr/>
          <p:nvPr/>
        </p:nvPicPr>
        <p:blipFill>
          <a:blip r:embed="rId4"/>
          <a:stretch/>
        </p:blipFill>
        <p:spPr>
          <a:xfrm>
            <a:off x="3143160" y="2571840"/>
            <a:ext cx="1785960" cy="155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Админ\Pictures\tsvetnaya-67800x800q80.v1332402568.jpg"/>
          <p:cNvPicPr/>
          <p:nvPr/>
        </p:nvPicPr>
        <p:blipFill>
          <a:blip r:embed="rId5"/>
          <a:stretch/>
        </p:blipFill>
        <p:spPr>
          <a:xfrm>
            <a:off x="5643720" y="4643280"/>
            <a:ext cx="1658880" cy="128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:\Users\Админ\Pictures\6374ebd837549615f6b2bf4defb8fa43.jpg"/>
          <p:cNvPicPr/>
          <p:nvPr/>
        </p:nvPicPr>
        <p:blipFill>
          <a:blip r:embed="rId6"/>
          <a:stretch/>
        </p:blipFill>
        <p:spPr>
          <a:xfrm>
            <a:off x="285840" y="2928960"/>
            <a:ext cx="1928880" cy="1303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Админ\Pictures\490x330_green_vegets (7).jpg"/>
          <p:cNvPicPr/>
          <p:nvPr/>
        </p:nvPicPr>
        <p:blipFill>
          <a:blip r:embed="rId7"/>
          <a:stretch/>
        </p:blipFill>
        <p:spPr>
          <a:xfrm>
            <a:off x="3214800" y="500040"/>
            <a:ext cx="2143080" cy="1444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C:\Users\Админ\Pictures\img_0.jpg"/>
          <p:cNvPicPr/>
          <p:nvPr/>
        </p:nvPicPr>
        <p:blipFill>
          <a:blip r:embed="rId8"/>
          <a:stretch/>
        </p:blipFill>
        <p:spPr>
          <a:xfrm>
            <a:off x="6357960" y="2857680"/>
            <a:ext cx="1538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2.77778E-006 -3.70028E-007 L 0.27448 0.24399 E">
                                      <p:cBhvr>
                                        <p:cTn id="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0 3.45051E-006 L -0.3125 0.21785 E">
                                      <p:cBhvr>
                                        <p:cTn id="2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0.0026 -0.11795 L 0.24549 -0.42438 E">
                                      <p:cBhvr>
                                        <p:cTn id="4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8:33:52Z</dcterms:created>
  <dc:creator>Админ</dc:creator>
  <dc:description/>
  <dc:language>en-US</dc:language>
  <cp:lastModifiedBy>Админ</cp:lastModifiedBy>
  <dcterms:modified xsi:type="dcterms:W3CDTF">2014-10-31T19:15:26Z</dcterms:modified>
  <cp:revision>98</cp:revision>
  <dc:subject/>
  <dc:title>Слайд 1</dc:title>
</cp:coreProperties>
</file>