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B55-F64F-4C3A-9BB6-5F9318BB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639-E61B-4FD5-AB8A-005FACB6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390-46FE-48E9-92CF-D7F17C1B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920-B74A-485F-A176-1B525FF3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8A5-9E57-4499-BDED-9CA5D147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21D3-53A3-4D16-9A19-1221DAF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91D4-83A9-4E04-BF77-7FFE553D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03DF-A1D5-45EF-AD51-8E803B9B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6476-94E2-44F5-80D7-CD8B0DC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241A-98F0-43D5-83A3-82332058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21D1-4A27-4B78-89DE-F4AB145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E99-1E77-4BC5-80B9-EFA83B5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013E-C9DB-4D55-A725-B9B5B8E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1804-22FB-41E2-A794-EC441F82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2C60-CA2E-4783-A9C5-2B8A9803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A89F-5F8D-416C-B3DB-158FCB5C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7FE0-B198-4397-8457-6A336198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180A-42A0-4F5C-901D-9D1F41E2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1580-4FF3-4A1C-B390-DDF34A0B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E640-AA72-4DE3-A8CE-3836535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21A1-1639-4518-A082-A9426D34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9246-3009-4F52-B73B-5A8D29BD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AF4-0098-48CD-9A84-69A0CDFD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98A5-C675-4A55-8BF6-1055A86E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9D6D-5652-4ABC-8B6D-6C77DEA6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1976-C57B-4ABB-ACDF-8B3A5AD6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6388-A3E6-4B58-947D-6DD05482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9C81-A0D7-44E2-ACC3-BED70E0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1A79-B4C4-4820-8F16-63243AE5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ADB8-BE2C-4F59-91C5-CC745CDB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9802-407C-4E9B-A304-FADB0105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969B-20AB-4F43-9A6A-5C97F7B2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A7C3-75E6-46B5-9A9F-96911F37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DEC-F44C-45E5-893B-03A82BD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55B5E-D1F6-4005-A70C-5071C6F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1B57C-9819-45E0-A2A6-788AAEF4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62D2-AA3A-4B24-91CF-D44C913E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ABA9-DCD3-4A21-AC04-58941F5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9A373-CEB1-4565-BFFF-849C637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F8579-40C2-45B4-8AA5-B1F5BEE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817E-653F-4008-AEC3-492CCD81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47D9-30EE-4D61-8E1E-4501DA38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940C-2207-4401-8653-C5EC3B24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21D-9AD0-4307-9152-E379557B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179-8BE2-4F5B-BC63-F3899B97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0C1-4A11-4CFE-99BC-B9717DA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305-FC55-496E-AC34-090D92DC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62D-D022-4172-B2A7-DA42475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6E15-C437-48BC-96FE-635C158B180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4597-416A-4344-ADE1-03E701D6743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768B-1AC2-44D8-B124-98C9623E4D9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58F-A2BE-49B5-ABEC-89D3787D11C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967440" cy="3090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просы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) Назови садовые ягоды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) Перечисли лесные ягод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) Положи в одну корзину садовые ягоды, а в другую корзину лесные ягод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Админ\Desktop\_________________51f3be6b98d47.jpg"/>
          <p:cNvPicPr/>
          <p:nvPr/>
        </p:nvPicPr>
        <p:blipFill>
          <a:blip r:embed="rId1"/>
          <a:stretch/>
        </p:blipFill>
        <p:spPr>
          <a:xfrm>
            <a:off x="7000920" y="442908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Админ\Pictures\a756b2abbfbf.jpg"/>
          <p:cNvPicPr/>
          <p:nvPr/>
        </p:nvPicPr>
        <p:blipFill>
          <a:blip r:embed="rId2"/>
          <a:stretch/>
        </p:blipFill>
        <p:spPr>
          <a:xfrm>
            <a:off x="571680" y="4714920"/>
            <a:ext cx="1428480" cy="1498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Users\Админ\Desktop\i брусника.jpeg"/>
          <p:cNvPicPr/>
          <p:nvPr/>
        </p:nvPicPr>
        <p:blipFill>
          <a:blip r:embed="rId3"/>
          <a:stretch/>
        </p:blipFill>
        <p:spPr>
          <a:xfrm>
            <a:off x="214200" y="357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Админ\Desktop\black.jpg"/>
          <p:cNvPicPr/>
          <p:nvPr/>
        </p:nvPicPr>
        <p:blipFill>
          <a:blip r:embed="rId4"/>
          <a:stretch/>
        </p:blipFill>
        <p:spPr>
          <a:xfrm>
            <a:off x="6929280" y="500040"/>
            <a:ext cx="173052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Админ\Desktop\920064570.jpg"/>
          <p:cNvPicPr/>
          <p:nvPr/>
        </p:nvPicPr>
        <p:blipFill>
          <a:blip r:embed="rId5"/>
          <a:stretch/>
        </p:blipFill>
        <p:spPr>
          <a:xfrm>
            <a:off x="3500280" y="35712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:\Users\Админ\Desktop\7170a0c0840a114d69dbc4f43ff75fb6.jpg"/>
          <p:cNvPicPr/>
          <p:nvPr/>
        </p:nvPicPr>
        <p:blipFill>
          <a:blip r:embed="rId6"/>
          <a:stretch/>
        </p:blipFill>
        <p:spPr>
          <a:xfrm>
            <a:off x="2857680" y="1928880"/>
            <a:ext cx="2381040" cy="1643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Админ\Desktop\83021001_large_x_a7f0b462.jpg"/>
          <p:cNvPicPr/>
          <p:nvPr/>
        </p:nvPicPr>
        <p:blipFill>
          <a:blip r:embed="rId7"/>
          <a:stretch/>
        </p:blipFill>
        <p:spPr>
          <a:xfrm>
            <a:off x="6643800" y="2286000"/>
            <a:ext cx="1571400" cy="11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C:\Users\Админ\Desktop\i малина.jpeg"/>
          <p:cNvPicPr/>
          <p:nvPr/>
        </p:nvPicPr>
        <p:blipFill>
          <a:blip r:embed="rId8"/>
          <a:stretch/>
        </p:blipFill>
        <p:spPr>
          <a:xfrm>
            <a:off x="642960" y="2786040"/>
            <a:ext cx="1249200" cy="1071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C:\Users\Админ\Desktop\0031-036-JAgody.png"/>
          <p:cNvPicPr/>
          <p:nvPr/>
        </p:nvPicPr>
        <p:blipFill>
          <a:blip r:embed="rId9"/>
          <a:stretch/>
        </p:blipFill>
        <p:spPr>
          <a:xfrm>
            <a:off x="4786200" y="4286160"/>
            <a:ext cx="1160640" cy="1500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:\Users\Админ\Desktop\B_G_RTLEN.jpg"/>
          <p:cNvPicPr/>
          <p:nvPr/>
        </p:nvPicPr>
        <p:blipFill>
          <a:blip r:embed="rId10"/>
          <a:stretch/>
        </p:blipFill>
        <p:spPr>
          <a:xfrm>
            <a:off x="2714760" y="45007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C:\Users\Админ\Desktop\клубничка.jpeg"/>
          <p:cNvPicPr/>
          <p:nvPr/>
        </p:nvPicPr>
        <p:blipFill>
          <a:blip r:embed="rId11"/>
          <a:stretch/>
        </p:blipFill>
        <p:spPr>
          <a:xfrm>
            <a:off x="5500800" y="1143000"/>
            <a:ext cx="812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0 -1.3506E-006 L -0.20556 0.01295 E">
                                      <p:cBhvr>
                                        <p:cTn id="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2.5E-006 -4.7086E-006 L -0.29931 0.32609 E">
                                      <p:cBhvr>
                                        <p:cTn id="1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4.16667E-006 2.35893E-006 L -0.01302 0.55365 E">
                                      <p:cBhvr>
                                        <p:cTn id="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-3.05556E-006 1.44311E-006 L -0.40955 0.01249 E">
                                      <p:cBhvr>
                                        <p:cTn id="3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47826E-006 L 0.38177 0.63021 E">
                                      <p:cBhvr>
                                        <p:cTn id="3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6735E-006 L 0.18142 0.56452 E">
                                      <p:cBhvr>
                                        <p:cTn id="4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54209E-006 L 0.00417 0.62673 E">
                                      <p:cBhvr>
                                        <p:cTn id="5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939E-006 L 0.01441 0.32886 E">
                                      <p:cBhvr>
                                        <p:cTn id="6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0.00573 0.00555 L 0.66927 0.27266 E">
                                      <p:cBhvr>
                                        <p:cTn id="70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8:33:52Z</dcterms:created>
  <dc:creator>Админ</dc:creator>
  <dc:description/>
  <dc:language>en-US</dc:language>
  <cp:lastModifiedBy>Админ</cp:lastModifiedBy>
  <dcterms:modified xsi:type="dcterms:W3CDTF">2014-10-31T19:25:22Z</dcterms:modified>
  <cp:revision>100</cp:revision>
  <dc:subject/>
  <dc:title>Слайд 1</dc:title>
</cp:coreProperties>
</file>