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66A2-C0E3-488F-8680-308A3F6E99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7886-5437-4F23-850D-41E0E9ABBB2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9450-1446-4F24-967F-3A3981091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1F53-D364-4949-BE10-1E5B6F4D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B724-B621-4A9E-B8C4-9FE9AAD4F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7F91-AAB2-4A2E-95E1-ABCF86540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1DCF8-A2A6-4097-84D2-DB47525A6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603AA-A727-48B8-BEF5-631D3E65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0EB5CB-13A9-45DD-9C71-94CBD484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72066-19E2-42A9-B5C1-AA5E1A37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E51DA4-1EA9-4D8D-A490-9FC58830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9CA415-4420-434C-AE74-672FAE5A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9F8BB-C6BC-4986-968B-A7DE305E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A9F0-DD63-49CA-BC26-714C7A0A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60C50-2792-4F08-9393-263C9FA3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A29DDE-78C7-4842-B149-70B488F9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FF56B-83F0-4480-A603-98A5F13D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2BD82-7086-45E7-BC47-6DF8D9F7F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9598A-7AB1-42B6-B116-4A1BA47F9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7FAE-BDEC-4E12-8359-7A69EC84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8595-3D67-43F4-8603-40028899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9A72-5380-4E85-AB55-C5DD1B10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4AA8-E251-4802-9329-8469C329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658C-AFF2-4296-BC52-6BF425E8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41AD-C18E-4A82-999C-4F110A27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BFFC-992C-4F10-9802-B1727BA6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E940-5BC3-48FD-9FCE-62BA15BE5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000C-31EB-4B21-BCDE-2C06CC90A9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4000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осударственное бюджетное образовательное среднего профессионального обучения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фтегорский государственный технику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Большие проблемы маленькой речки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00120" y="4357440"/>
            <a:ext cx="64008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полнили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учающийся группы № 78 по професси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Лаборант - эколог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Щербинина Екатерина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Емельянов Владими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уководитель проекта преподаватель физики Уколова Вера Александро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учный консультант Куприна Галина Михайло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фтегорс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3640" y="980640"/>
            <a:ext cx="8373960" cy="547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Оценка физических (органолептических) показателей воды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запах;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цветность;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прозрачность;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вку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Оценка запах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ы налили образцы воды в 2 пробирки чуть больше половин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акрыли  пробками, энергично взболтали пробир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ткрыли пробирки и сразу понюхал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тметили запахи образцов воды по таблиц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8" descr="E:\111\SAM_9198.JPG"/>
          <p:cNvPicPr/>
          <p:nvPr/>
        </p:nvPicPr>
        <p:blipFill>
          <a:blip r:embed="rId2"/>
          <a:stretch/>
        </p:blipFill>
        <p:spPr>
          <a:xfrm>
            <a:off x="1500120" y="214308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E:\111\SAM_9200.JPG"/>
          <p:cNvPicPr/>
          <p:nvPr/>
        </p:nvPicPr>
        <p:blipFill>
          <a:blip r:embed="rId3"/>
          <a:stretch/>
        </p:blipFill>
        <p:spPr>
          <a:xfrm>
            <a:off x="3286080" y="200016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Таблица оценки запаха вод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1905120"/>
          <a:ext cx="8229600" cy="4593960"/>
        </p:xfrm>
        <a:graphic>
          <a:graphicData uri="http://schemas.openxmlformats.org/drawingml/2006/table">
            <a:tbl>
              <a:tblPr/>
              <a:tblGrid>
                <a:gridCol w="1450800"/>
                <a:gridCol w="2592720"/>
                <a:gridCol w="4186080"/>
              </a:tblGrid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алл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нтенсив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арактерист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х не ощущае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ень слаб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х сразу не ощущается, но обнаруживается при тщательном исследовании (при нагревании воды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х замечается, если обратить на это вним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тн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х легко замечается и вызывает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добрительный отзыв о вод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четлив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х обращает на себя внимание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заставляет воздержаться от пить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ень сильн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х настолько сильный, что делает воду непригодной к употреблени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Результаты исследования запах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905120"/>
          <a:ext cx="8229600" cy="43671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37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ба в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нтенсив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арактерист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алл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ень (сентябрь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ень сильн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х настолько сильный, что делает воду непригодной к употреблени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нняя весна (март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х не ощущае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Оценка прозрачности образцов вод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озрачность воды определяли следующим образом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лили исследуемую воду в цилин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ставили на печатный текст газеты и посмотрел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квозь толщу воды сверх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E:\111\SAM_9209.JPG"/>
          <p:cNvPicPr/>
          <p:nvPr/>
        </p:nvPicPr>
        <p:blipFill>
          <a:blip r:embed="rId2"/>
          <a:stretch/>
        </p:blipFill>
        <p:spPr>
          <a:xfrm>
            <a:off x="1071720" y="928800"/>
            <a:ext cx="3200400" cy="4267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E:\111\SAM_9212.JPG"/>
          <p:cNvPicPr/>
          <p:nvPr/>
        </p:nvPicPr>
        <p:blipFill>
          <a:blip r:embed="rId3"/>
          <a:stretch/>
        </p:blipFill>
        <p:spPr>
          <a:xfrm>
            <a:off x="4286160" y="100008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Результаты оценки прозрачност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сенний образец воды - замутнённы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есенний образец воды - прозрач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Оценка цветности образцов вод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Цвет определялся следующим образом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 мл каждого образца воды наливали в пробирк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равнивали с 10 мл дистиллированной вод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бразцы оценивали по таблиц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SAM_9212"/>
          <p:cNvPicPr/>
          <p:nvPr/>
        </p:nvPicPr>
        <p:blipFill>
          <a:blip r:embed="rId2"/>
          <a:stretch/>
        </p:blipFill>
        <p:spPr>
          <a:xfrm>
            <a:off x="900000" y="476280"/>
            <a:ext cx="72010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Тип проекта: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исследовательский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ежпредметная связь: физика, экология, химия, контроль состояния окружающей среды, методы контроля состояния окружающей сре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Таблица оценки цветности вод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68360" y="1413000"/>
          <a:ext cx="8229600" cy="5143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алл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вет вод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есцвет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ледно - жёлт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 - 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Желтоват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лабо - жёлт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ледно - зелё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ур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езультаты оценки цветности образцов вод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8360" y="1916280"/>
          <a:ext cx="8136000" cy="4114800"/>
        </p:xfrm>
        <a:graphic>
          <a:graphicData uri="http://schemas.openxmlformats.org/drawingml/2006/table">
            <a:tbl>
              <a:tblPr/>
              <a:tblGrid>
                <a:gridCol w="2711520"/>
                <a:gridCol w="2712960"/>
                <a:gridCol w="2711520"/>
              </a:tblGrid>
              <a:tr h="129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ба в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нтенсив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алл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ень (сентябрь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 - жёлт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нняя весна (март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цветна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Оценка вкуса образцов вод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ы  налили прокипяченную воду в пробирк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делали пробу в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тметили вкус воды по таблиц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аблица оценки вкуса и привкуса во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85840" y="928800"/>
          <a:ext cx="8858160" cy="6156360"/>
        </p:xfrm>
        <a:graphic>
          <a:graphicData uri="http://schemas.openxmlformats.org/drawingml/2006/table">
            <a:tbl>
              <a:tblPr/>
              <a:tblGrid>
                <a:gridCol w="2384280"/>
                <a:gridCol w="4229280"/>
                <a:gridCol w="22446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тенсивность вкуса и привкуса в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арактер проявления вкуса и в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ценка интенсивности вкуса и привкуса, балл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Вкус и привкус не ощущае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Очень слаб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Вкус и привкус не ощущается потребителем, но обнаруживается при лабораторном исследован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Слаб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Вкус и привкус замечаются потребителем, если обратить на это внимани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Замет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Вкус и привкус легко замечаются и вызывается неодобрительный отзыв о вод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Отчетлив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Вкус и привкус обращают на себя внимание и заставляют воздержаться от пить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Очень силь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Вкус и привкус настолько сильные, что делают воду непригодной к употреблени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Результат оценки вкуса вод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сенний образец воды – имеет отчётливую интенсивность гнилостного вкуса и привкуса, оценка - 4 балл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есенний образец воды – имеет очень слабую интенсивность вкуса и привкуса, оценка - 1 бал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Исследование образцов воды на осадо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ы  налили воды в колб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ставили стоять 1 сут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смотрели наличие осадка и его цв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Результаты исследования на осадо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сенний образец воды – имеет илистый осадо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есенний образец воды – осадок не име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000" y="291600"/>
            <a:ext cx="8218440" cy="544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ценка химических свойств воды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жёсткость;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водородн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Оценка жёстко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ценку жёсткости проводили с помощью мыльного раствора. Наполнили пробирки водой и добавили в них мыльный раствор, взболтали и оценили результат: в мягкой воде пены много, а в жёсткой она отсутству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Содержимое 3" descr="SAM_9236.JPG"/>
          <p:cNvPicPr/>
          <p:nvPr/>
        </p:nvPicPr>
        <p:blipFill>
          <a:blip r:embed="rId2"/>
          <a:stretch/>
        </p:blipFill>
        <p:spPr>
          <a:xfrm>
            <a:off x="428760" y="571680"/>
            <a:ext cx="3085920" cy="411480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4" descr="SAM_9237.JPG"/>
          <p:cNvPicPr/>
          <p:nvPr/>
        </p:nvPicPr>
        <p:blipFill>
          <a:blip r:embed="rId3"/>
          <a:stretch/>
        </p:blipFill>
        <p:spPr>
          <a:xfrm>
            <a:off x="4929120" y="500040"/>
            <a:ext cx="32004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Эпиграф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Все ли мы понимаем, какое это сокровище – речка? И как оно уязвимо,  это сокровище! Можно заново построить разрушенный город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Можно посадить новый лес, выкопать пруд. Но речку, если она умирает, как всякий живой организм, сконструировать заново невозмож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. Песк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Оценка водородно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ода в реке может иметь РН= 6,5-8, а летом при активном цветении – 9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ценку РН проводили с помощью индикаторной универсальной бумаги и сравнивали со шкалой индикатора цв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2"/>
          <a:stretch/>
        </p:blipFill>
        <p:spPr>
          <a:xfrm>
            <a:off x="4643280" y="1916280"/>
            <a:ext cx="4038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E:\111\SAM_9258.JPG"/>
          <p:cNvPicPr/>
          <p:nvPr/>
        </p:nvPicPr>
        <p:blipFill>
          <a:blip r:embed="rId2"/>
          <a:stretch/>
        </p:blipFill>
        <p:spPr>
          <a:xfrm>
            <a:off x="642960" y="1214280"/>
            <a:ext cx="3500280" cy="4327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E:\111\SAM_9268.JPG"/>
          <p:cNvPicPr/>
          <p:nvPr/>
        </p:nvPicPr>
        <p:blipFill>
          <a:blip r:embed="rId3"/>
          <a:stretch/>
        </p:blipFill>
        <p:spPr>
          <a:xfrm>
            <a:off x="4643280" y="1214280"/>
            <a:ext cx="426744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Результаты оценки водородности и жёсткости образц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одородный показатель (pH 6,5 - 8,5 норма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сенью – 9 (в силу активного цветения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есной – 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7" descr="SAM_9263"/>
          <p:cNvPicPr/>
          <p:nvPr/>
        </p:nvPicPr>
        <p:blipFill>
          <a:blip r:embed="rId2"/>
          <a:stretch/>
        </p:blipFill>
        <p:spPr>
          <a:xfrm>
            <a:off x="4643280" y="249228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дородный показатель (pH 6,5 - 8,5 норма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сенью – 9 (в силу активного цветения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есной – 7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Жесткость воды – постоянная, жёстк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87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Лабораторные исследования воды на наличие тяжёлых металл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Для оценки уровня загрязненности воды используются следующие комплексные показател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дельный комбинаторный индекс загрязненности воды (УКИЗВ) – комплексный относительный показатель степени загрязненности воды, рассчитывается по наиболее распространенным в поверхностных водах загрязняющим веществам (от четырнадцати и более) и показывает их долю загрязняющего эффекта, обусловленную их одновременным присутствием, от общего загрязнения. Значение УКИЗВ может варьировать от 1 до 16; чем больше значение, тем хуже качество во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Результаты исследования осеннего образца вод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ода характеризуется как «грязная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 «А» класса. УКИЗВ равен 5,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агрязнение воды соединениями марганца и меди по 3,0 ПДК (предельно – допустимой концентраци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Выво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енью речка грязнее, чем весн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худшение наступает в следствие биогенного и антропогенного факторов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растание реки прибрежной и водной растительностью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брос бытового мусор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грязнение прибрежной территори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йка машин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личие на территории Нефтегорского района нефтеперерабатывающего завода, завода «Росскат»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величился объём расходования воды (для полив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60336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Заключе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оздоровления реки Съезжей необходимо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Запретить несанкционированны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стихийные свалки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Создать организованные свалки в местах, не связанных с водоохраной зон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Очистить  русло ре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Совершенствовать систему очистки во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Осуществлять контроль за расходованием во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2 марта - Всемирный день охраны водных ресурс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Берегите воду!!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ahoma"/>
              </a:rPr>
              <a:t>Проблема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5240" y="2776680"/>
            <a:ext cx="7502400" cy="31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сточником пресной воды для растительного и животного мира Нефтегорского района является р.Съезжая. Но как чиста вода в рек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Авторы проек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Рисунок 3" descr="IMG_2875.jpg"/>
          <p:cNvPicPr/>
          <p:nvPr/>
        </p:nvPicPr>
        <p:blipFill>
          <a:blip r:embed="rId2"/>
          <a:stretch/>
        </p:blipFill>
        <p:spPr>
          <a:xfrm>
            <a:off x="0" y="2143080"/>
            <a:ext cx="2674800" cy="281304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4" descr="IMG_2877.jpg"/>
          <p:cNvPicPr/>
          <p:nvPr/>
        </p:nvPicPr>
        <p:blipFill>
          <a:blip r:embed="rId3"/>
          <a:stretch/>
        </p:blipFill>
        <p:spPr>
          <a:xfrm>
            <a:off x="4500720" y="2000160"/>
            <a:ext cx="2143080" cy="302580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5" descr="SAM_9251.JPG"/>
          <p:cNvPicPr/>
          <p:nvPr/>
        </p:nvPicPr>
        <p:blipFill>
          <a:blip r:embed="rId4"/>
          <a:stretch/>
        </p:blipFill>
        <p:spPr>
          <a:xfrm>
            <a:off x="6792840" y="3500280"/>
            <a:ext cx="2351160" cy="313380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7" descr="SAM_9214.JPG"/>
          <p:cNvPicPr/>
          <p:nvPr/>
        </p:nvPicPr>
        <p:blipFill>
          <a:blip r:embed="rId5"/>
          <a:stretch/>
        </p:blipFill>
        <p:spPr>
          <a:xfrm>
            <a:off x="2714760" y="3929040"/>
            <a:ext cx="17985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ahoma"/>
              </a:rPr>
              <a:t>Цель проекта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5240" y="2776680"/>
            <a:ext cx="75024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Исследовать качество воды в реке Съезжа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ahoma"/>
              </a:rPr>
              <a:t>Задачи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6280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вести отбор воды р. Съезжа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ценить физические показатели воды (запах, прозрачность, цветность, вкус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ценить химические показатели воды (жесткость воды, показатель водородности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лабораторных условиях определить наличие тяжелых металлов и определить класс загрязненности вод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 результатам исследования сделать вывод о влиянии антропогенного фактора на состояние воды в реке Съезжа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9600" y="418680"/>
            <a:ext cx="750384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Материально-техническое обеспечение проек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94960" y="1927080"/>
            <a:ext cx="4614840" cy="39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обы воды (осенняя, весенняя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ерный цилиндр со стеклянным дно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аз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оронк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Фильтровальная бумаг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теклянная палоч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олб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обирка с пробк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5" descr="E:\111\SAM_9245.JPG"/>
          <p:cNvPicPr/>
          <p:nvPr/>
        </p:nvPicPr>
        <p:blipFill>
          <a:blip r:embed="rId2"/>
          <a:stretch/>
        </p:blipFill>
        <p:spPr>
          <a:xfrm>
            <a:off x="4857840" y="1928880"/>
            <a:ext cx="39812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Краткая справ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43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ъезжая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— река в России, протекает в Самарской области, Оренбургской области. Длина реки составляет 107 км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4" descr="cc96f7a8c6b2"/>
          <p:cNvPicPr/>
          <p:nvPr/>
        </p:nvPicPr>
        <p:blipFill>
          <a:blip r:embed="rId2"/>
          <a:stretch/>
        </p:blipFill>
        <p:spPr>
          <a:xfrm>
            <a:off x="5003640" y="1268280"/>
            <a:ext cx="3816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4114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ник истока реки расположен в 4 км южнее поселка Гавриловского Алексеевского района. Родник находится на склоне оврага на высоте 4 м. Дебит воды в пределах 20 л/мин. Стекая на дно оврага, родник дает начало реке Съезжей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поверхности оврага в окружении истоков реки Съезжей преобладает степная растительность: ковыль тырса, мятлик луговой, полынь горькая и др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4788000" y="620640"/>
            <a:ext cx="41050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6:01:20Z</dcterms:created>
  <dc:creator>*****</dc:creator>
  <dc:description/>
  <dc:language>en-US</dc:language>
  <cp:lastModifiedBy>*****</cp:lastModifiedBy>
  <dcterms:modified xsi:type="dcterms:W3CDTF">2014-11-01T20:04:38Z</dcterms:modified>
  <cp:revision>20</cp:revision>
  <dc:subject/>
  <dc:title>Большие проблемы маленькой речки</dc:title>
</cp:coreProperties>
</file>