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3A0-7EB5-4FD1-AB92-E2C362C1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D16-A205-4E38-B7D6-C55FCFF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1A5-D032-4C5B-BCBC-E4E4DAAF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8E4-7101-46CF-A752-9C18652A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6AB-871C-4736-874D-628935D9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338-E183-4A60-ACAD-E010DE3D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09DE-CD35-44FC-B54E-19C858B5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076D-03F8-4684-8099-964A8AD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D30E-BD41-464B-A381-5EF40D63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9C4A-2F2B-4182-ACB3-37B547DB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4D4-A2BD-432D-94E2-4897B48F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5C8-19AD-4E43-A519-B28A6446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AA6-D951-4E16-9515-85CF325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7B5-E653-45CF-8110-B33E1BF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150D-B3CE-498E-9FF1-FD757400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D91-7F5F-4CD7-BB7C-2EA98992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6DC4-6379-4017-A23C-FC96000A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C3CA-42CB-4E95-8131-89107E70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5182-AD41-457F-9050-AF1C0D4E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83F4-5C77-4834-990D-666474FC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9612-1D60-409D-9335-49968CF5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3F58-FB3D-4023-B2E2-6F64E2E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4CD-9DA0-49B6-8F11-73BD7405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BB6F-F1B9-49CF-8402-CBCFBB4B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DD80-F5C3-4BDD-B222-500A52C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4B70-6764-44BF-8EEE-EBEE9D0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D030-1F9C-42A4-BE05-5EAE898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0E67-7603-4DA2-A366-0C59181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B1C2-23AB-47B1-958A-B377ED1A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280A-0AF3-4627-90D8-DA4F771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D1AB-F0B6-48BF-B1A7-950D7633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C455-4289-45C0-9D69-09063211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5712-0385-4060-8005-D893E9F2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86D-6D75-46F7-88F9-069F0AB4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B5AA-DF8B-44AF-AF9D-AAD0985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DF55-3040-4C70-B9FC-922D4C5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34DB-ED4E-4FE8-BE26-3B7CA20E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6CB8-172B-427E-8655-DABFC2E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7223B-9D0B-4311-80B3-99BBB81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B616-E792-455A-B983-20835B2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8C39-E277-4ED4-B10E-99F44F5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A353-CA0C-40E2-BF07-4C0F2EB3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C2F1-F5D7-4051-AF25-6BA45F3C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421-2C0B-4654-9D4E-32F198A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C5A-5AEC-4772-A238-D8DA03D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675-6199-4A35-8743-A4C1230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F6B-C281-4508-8B4D-3536C9A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0B2-DC10-4CFB-B5FA-D15ED97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D24-955D-44FE-A2D5-9BCBA4F446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C27F-F205-484D-B1A0-7D8B4AE2AAC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3B62-8915-45A6-90EB-FED650D668C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64C-B649-4E95-B9F7-82FAE7F14D5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615960"/>
            <a:ext cx="8242200" cy="2639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843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клад по теме самообразования  учителя начальных классов МБОУ Кызыл-Тайгинской СОШ Сут-Хольского  кожууна  Республики Тыва  Ооржак Галины Сергеевн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Times New Roman"/>
              </a:rPr>
              <a:t>Тес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обучающ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онтроль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3280" y="2276640"/>
            <a:ext cx="418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Контрольны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тест содержит задания на выбор тех ответов, которые соответствуют условию задания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ст предполагает уже не прописывание слова, а выбор номера правильного отве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3779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полнение следующих действий по отработке  и повторению изученных  правил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оварная работа    орфограммами    с последующей проверкой их по ключ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ъяснение алгоритма  действий, если допущена ошиб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98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498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998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998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998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998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998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998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7855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Gungsuh"/>
              </a:rPr>
              <a:t>Общие требования к тестовым заданиям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личество тестовых заданий в одном тесте - не менее 20-25; 15-20; 10-15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ое тестовое задание должно быть кратким и ясным по содержани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дно тестовое задание не должно включать в себя других тестовых заданий (вопросов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ложность задания должна быть такова, чтобы ответ на него занимал не более 2-х мин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05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адания свободного излож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рактеризуются отсутствием ограничений в ответах  (в форме  вписывания   словосочетания,  фразы, предложени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4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84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785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пиши правильный ответ: 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кончание - это изменяемая часть слова, которая служит дл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мя существительное – это…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адания дополн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кладывают ограничения на ответы учащихся и предполагают один возможный вариант ответа, который необходимо вписать в форме (слова-ответа, символа или зна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84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84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ставь нужное слово:</a:t>
            </a:r>
            <a:br>
              <a:rPr sz="3600"/>
            </a:br>
            <a:br>
              <a:rPr sz="3600"/>
            </a:br>
            <a:r>
              <a:rPr b="0" i="1" lang="ru-RU" sz="2900" spc="-1" strike="noStrike">
                <a:solidFill>
                  <a:srgbClr val="04617b"/>
                </a:solidFill>
                <a:latin typeface="Arial"/>
              </a:rPr>
              <a:t>Часть слова, стоящая перед корнем, называется…. </a:t>
            </a:r>
            <a:r>
              <a:rPr b="0" i="1" lang="ru-RU" sz="2900" spc="-1" strike="noStrike">
                <a:solidFill>
                  <a:srgbClr val="04617b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76a3"/>
                </a:solidFill>
                <a:latin typeface="Calibri"/>
              </a:rPr>
              <a:t>Дополни предложение именем существительным среднего рода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6a3"/>
                </a:solidFill>
                <a:latin typeface="Arial"/>
                <a:ea typeface="Arial"/>
              </a:rPr>
              <a:t>Осенью в холодную погоду дети одевают тёплые…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адания с альтернативным типом отве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ют наличие двух вариантов ответов (да/нет, правильно/неправильно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пособствуют выявлению уровня усвоения сложных развернутых определений, прави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84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84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84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дчеркни правильный ответ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28526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мя существительно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часть речи, которая отвечает на вопрос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? что? 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означает предм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а. Н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адания с множественным выбор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личаются вариативностью выбора ответ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щемуся необходимо подчеркнуть или отметить определенным знаком номер ответа, который он считает правильны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84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84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84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одчеркни верное утверждение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рень - это часть сло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рень - это часть реч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рень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часть предл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ю данной рабо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 создание и апробирование обучающе - контролирующих  заданий в тестовой форме в среде Microsoft PowerPoint  для проверки уровня знаний учащихся начальных классо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2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4000"/>
            </a:b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адания на восстановление соответств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усматривают смысловое соединение элементов двух списков, приравнивание различных понят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4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4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оедини стрелкам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мя существительно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весёл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мя прилагательно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чита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агол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чере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едлог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рабоч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естовые задания  по  аналог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могут быть предложены учащимся в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ткрыто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форм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самостоятельное вписывание соответствующего слова-ответа) ил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крытой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выбор одного правильного ответа из нескольких предложенных вариантов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4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84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84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место точек впиши правильный ответ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о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яч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ак относится к имени существительному, как слово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расны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едлогу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мени прилагательному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агол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Виды заданий, 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используемые при разработке тесто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2565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естовые задания с переструктурирование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ебуют от учащегося восстановления логической последовательности в соответствии с поставленным услов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84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84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кажи грамматически правильную последовательность слов, поставив в скобках цифры 1,2,3,4,5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руг    придёт  на   верный         помощ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 )           ( )           ( )             ( )                    ( 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Organization Chart 8"/>
          <p:cNvGrpSpPr/>
          <p:nvPr/>
        </p:nvGrpSpPr>
        <p:grpSpPr>
          <a:xfrm>
            <a:off x="0" y="590400"/>
            <a:ext cx="8819280" cy="5000400"/>
            <a:chOff x="0" y="590400"/>
            <a:chExt cx="8819280" cy="5000400"/>
          </a:xfrm>
        </p:grpSpPr>
        <p:cxnSp>
          <p:nvCxnSpPr>
            <p:cNvPr id="245" name="_s102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5479920" y="1545840"/>
              <a:ext cx="945720" cy="3087360"/>
            </a:xfrm>
            <a:prstGeom prst="bentConnector3">
              <a:avLst>
                <a:gd name="adj1" fmla="val 123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1029"/>
            <p:cNvCxnSpPr>
              <a:stCxn id="249" idx="0"/>
              <a:endCxn id="247" idx="2"/>
            </p:cNvCxnSpPr>
            <p:nvPr/>
          </p:nvCxnSpPr>
          <p:spPr>
            <a:xfrm flipV="1">
              <a:off x="4409280" y="2616840"/>
              <a:ext cx="3960" cy="94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1030"/>
            <p:cNvCxnSpPr>
              <a:stCxn id="251" idx="0"/>
              <a:endCxn id="247" idx="2"/>
            </p:cNvCxnSpPr>
            <p:nvPr/>
          </p:nvCxnSpPr>
          <p:spPr>
            <a:xfrm flipH="1" flipV="1" rot="5400000">
              <a:off x="2393280" y="1546200"/>
              <a:ext cx="945720" cy="3087360"/>
            </a:xfrm>
            <a:prstGeom prst="bentConnector3">
              <a:avLst>
                <a:gd name="adj1" fmla="val 123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7" name="_s1031"/>
            <p:cNvSpPr/>
            <p:nvPr/>
          </p:nvSpPr>
          <p:spPr>
            <a:xfrm>
              <a:off x="3086640" y="590400"/>
              <a:ext cx="2645640" cy="2000160"/>
            </a:xfrm>
            <a:prstGeom prst="rect">
              <a:avLst/>
            </a:prstGeom>
            <a:solidFill>
              <a:srgbClr val="0f6fc6">
                <a:alpha val="50000"/>
              </a:srgbClr>
            </a:solidFill>
            <a:ln w="572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Garamond"/>
                </a:rPr>
                <a:t>Тесты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_s1032"/>
            <p:cNvSpPr/>
            <p:nvPr/>
          </p:nvSpPr>
          <p:spPr>
            <a:xfrm>
              <a:off x="0" y="3590640"/>
              <a:ext cx="2645640" cy="200016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индивидуальн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группов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9" name="_s1033"/>
            <p:cNvSpPr/>
            <p:nvPr/>
          </p:nvSpPr>
          <p:spPr>
            <a:xfrm>
              <a:off x="3086640" y="3590640"/>
              <a:ext cx="2645640" cy="200016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устные 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письменн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6" name="_s1034"/>
            <p:cNvSpPr/>
            <p:nvPr/>
          </p:nvSpPr>
          <p:spPr>
            <a:xfrm>
              <a:off x="6173640" y="3590640"/>
              <a:ext cx="2645640" cy="200016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бланков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компьютерн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52" name="Organization Chart 8"/>
          <p:cNvGrpSpPr/>
          <p:nvPr/>
        </p:nvGrpSpPr>
        <p:grpSpPr>
          <a:xfrm>
            <a:off x="0" y="620640"/>
            <a:ext cx="8819280" cy="5000400"/>
            <a:chOff x="0" y="620640"/>
            <a:chExt cx="8819280" cy="5000400"/>
          </a:xfrm>
        </p:grpSpPr>
        <p:cxnSp>
          <p:nvCxnSpPr>
            <p:cNvPr id="253" name="_s1037"/>
            <p:cNvCxnSpPr>
              <a:stCxn id="254" idx="0"/>
              <a:endCxn id="255" idx="2"/>
            </p:cNvCxnSpPr>
            <p:nvPr/>
          </p:nvCxnSpPr>
          <p:spPr>
            <a:xfrm flipV="1" rot="16200000">
              <a:off x="5479920" y="1576080"/>
              <a:ext cx="945720" cy="3087360"/>
            </a:xfrm>
            <a:prstGeom prst="bentConnector3">
              <a:avLst>
                <a:gd name="adj1" fmla="val 123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1038"/>
            <p:cNvCxnSpPr>
              <a:stCxn id="257" idx="0"/>
              <a:endCxn id="255" idx="2"/>
            </p:cNvCxnSpPr>
            <p:nvPr/>
          </p:nvCxnSpPr>
          <p:spPr>
            <a:xfrm flipV="1">
              <a:off x="4409280" y="2647080"/>
              <a:ext cx="3960" cy="94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1039"/>
            <p:cNvCxnSpPr>
              <a:stCxn id="259" idx="0"/>
              <a:endCxn id="255" idx="2"/>
            </p:cNvCxnSpPr>
            <p:nvPr/>
          </p:nvCxnSpPr>
          <p:spPr>
            <a:xfrm flipH="1" flipV="1" rot="5400000">
              <a:off x="2393280" y="1576440"/>
              <a:ext cx="945720" cy="3087360"/>
            </a:xfrm>
            <a:prstGeom prst="bentConnector3">
              <a:avLst>
                <a:gd name="adj1" fmla="val 123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5" name="_s1040"/>
            <p:cNvSpPr/>
            <p:nvPr/>
          </p:nvSpPr>
          <p:spPr>
            <a:xfrm>
              <a:off x="3086640" y="620640"/>
              <a:ext cx="2645640" cy="2000160"/>
            </a:xfrm>
            <a:prstGeom prst="rect">
              <a:avLst/>
            </a:prstGeom>
            <a:solidFill>
              <a:srgbClr val="0f6fc6">
                <a:alpha val="50000"/>
              </a:srgbClr>
            </a:solidFill>
            <a:ln w="572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Garamond"/>
                </a:rPr>
                <a:t>Тесты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9" name="_s1041"/>
            <p:cNvSpPr/>
            <p:nvPr/>
          </p:nvSpPr>
          <p:spPr>
            <a:xfrm>
              <a:off x="0" y="3620880"/>
              <a:ext cx="2645640" cy="200016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индивидуальн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группов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_s1042"/>
            <p:cNvSpPr/>
            <p:nvPr/>
          </p:nvSpPr>
          <p:spPr>
            <a:xfrm>
              <a:off x="3086640" y="3620880"/>
              <a:ext cx="2645640" cy="200016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устные 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письменн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6173640" y="3620880"/>
              <a:ext cx="2645640" cy="200016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бланков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buClr>
                  <a:srgbClr val="00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i="1" lang="en-US" sz="2300" spc="-1" strike="noStrike">
                  <a:solidFill>
                    <a:srgbClr val="000000"/>
                  </a:solidFill>
                  <a:latin typeface="Garamond"/>
                </a:rPr>
                <a:t>компьютерные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 advTm="10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Organization Chart 9"/>
          <p:cNvGrpSpPr/>
          <p:nvPr/>
        </p:nvGrpSpPr>
        <p:grpSpPr>
          <a:xfrm>
            <a:off x="426960" y="765000"/>
            <a:ext cx="8105400" cy="5124600"/>
            <a:chOff x="426960" y="765000"/>
            <a:chExt cx="8105400" cy="5124600"/>
          </a:xfrm>
        </p:grpSpPr>
        <p:cxnSp>
          <p:nvCxnSpPr>
            <p:cNvPr id="261" name="_s2052"/>
            <p:cNvCxnSpPr>
              <a:stCxn id="262" idx="0"/>
              <a:endCxn id="263" idx="2"/>
            </p:cNvCxnSpPr>
            <p:nvPr/>
          </p:nvCxnSpPr>
          <p:spPr>
            <a:xfrm flipV="1" rot="16200000">
              <a:off x="5578560" y="1748520"/>
              <a:ext cx="954360" cy="3155760"/>
            </a:xfrm>
            <a:prstGeom prst="bentConnector3">
              <a:avLst>
                <a:gd name="adj1" fmla="val 14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2053"/>
            <p:cNvCxnSpPr>
              <a:stCxn id="265" idx="0"/>
              <a:endCxn id="263" idx="2"/>
            </p:cNvCxnSpPr>
            <p:nvPr/>
          </p:nvCxnSpPr>
          <p:spPr>
            <a:xfrm flipV="1" rot="16200000">
              <a:off x="4527360" y="2799720"/>
              <a:ext cx="954360" cy="1053360"/>
            </a:xfrm>
            <a:prstGeom prst="bentConnector3">
              <a:avLst>
                <a:gd name="adj1" fmla="val 14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2054"/>
            <p:cNvCxnSpPr>
              <a:stCxn id="267" idx="0"/>
              <a:endCxn id="263" idx="2"/>
            </p:cNvCxnSpPr>
            <p:nvPr/>
          </p:nvCxnSpPr>
          <p:spPr>
            <a:xfrm flipH="1" flipV="1" rot="5400000">
              <a:off x="3476880" y="2801880"/>
              <a:ext cx="954360" cy="1049400"/>
            </a:xfrm>
            <a:prstGeom prst="bentConnector3">
              <a:avLst>
                <a:gd name="adj1" fmla="val 14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2055"/>
            <p:cNvCxnSpPr>
              <a:stCxn id="269" idx="0"/>
              <a:endCxn id="263" idx="2"/>
            </p:cNvCxnSpPr>
            <p:nvPr/>
          </p:nvCxnSpPr>
          <p:spPr>
            <a:xfrm flipH="1" flipV="1" rot="5400000">
              <a:off x="2426040" y="1751040"/>
              <a:ext cx="954360" cy="3151440"/>
            </a:xfrm>
            <a:prstGeom prst="bentConnector3">
              <a:avLst>
                <a:gd name="adj1" fmla="val 14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3" name="_s2056"/>
            <p:cNvSpPr/>
            <p:nvPr/>
          </p:nvSpPr>
          <p:spPr>
            <a:xfrm>
              <a:off x="3577680" y="765000"/>
              <a:ext cx="1801440" cy="2049840"/>
            </a:xfrm>
            <a:prstGeom prst="rect">
              <a:avLst/>
            </a:prstGeom>
            <a:solidFill>
              <a:srgbClr val="0f6fc6">
                <a:alpha val="50000"/>
              </a:srgbClr>
            </a:solidFill>
            <a:ln w="572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Тест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_s2057"/>
            <p:cNvSpPr/>
            <p:nvPr/>
          </p:nvSpPr>
          <p:spPr>
            <a:xfrm>
              <a:off x="426960" y="3839760"/>
              <a:ext cx="1801440" cy="204984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Тесты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интеллекта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7" name="_s2058"/>
            <p:cNvSpPr/>
            <p:nvPr/>
          </p:nvSpPr>
          <p:spPr>
            <a:xfrm>
              <a:off x="2528640" y="3839760"/>
              <a:ext cx="1801440" cy="204984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aramond"/>
                </a:rPr>
                <a:t>Тесты 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aramond"/>
                </a:rPr>
                <a:t>способностей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5" name="_s2059"/>
            <p:cNvSpPr/>
            <p:nvPr/>
          </p:nvSpPr>
          <p:spPr>
            <a:xfrm>
              <a:off x="4630680" y="3839760"/>
              <a:ext cx="1801440" cy="204984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aramond"/>
                </a:rPr>
                <a:t>Тесты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Garamond"/>
                </a:rPr>
                <a:t>достижений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2" name="_s2060"/>
            <p:cNvSpPr/>
            <p:nvPr/>
          </p:nvSpPr>
          <p:spPr>
            <a:xfrm>
              <a:off x="6732720" y="3839760"/>
              <a:ext cx="1799640" cy="2049840"/>
            </a:xfrm>
            <a:prstGeom prst="rect">
              <a:avLst/>
            </a:prstGeom>
            <a:solidFill>
              <a:srgbClr val="009dd9">
                <a:alpha val="50000"/>
              </a:srgbClr>
            </a:solidFill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Тесты 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личности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 advTm="10000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преимуществам  программы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crosoft  PowerPoint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нструмент для создания обучающе-контролирующих тестов можно отнест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уп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гкость в освоении и простот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ь переноса из других приложений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crosoft Off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слайдов с диаграммами, картинками, таблиц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ребует знания программиров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любой момент разработки текста можно удалять и добавлять слайды, произвольно менять их чередо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 Практическая работа по созданию тест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Создается титульный слай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Слайды с вопросами те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Слайд, служащий сигналом о неправильном ответ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Заключительный слай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аких презентациях смена слайдов должна происходить при помощи управляющих кнопок и гиперсылок. Работа с тестом должна строиться в режиме тренажера (см.шаблон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187280" y="765000"/>
            <a:ext cx="748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ъектом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является процесс диагностики обученности  учащихся начальных классов с использованием заданий в тестовой форме разработанных в среде Microsoft PowerPoint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едметом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является создание обучающих и контролирующих тестов в программе Microsoft PowerPoint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5256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4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84036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рианты ответов могут быть оформлены в виде кнопок, если ученик выбирает неправильный ответ, то программа со словами «Неправильно!» возвращает его обратно к вопросу.  Если же ответ верный, то ученик переходит к слайду со следующим вопрос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Схема 2" descr=""/>
          <p:cNvPicPr/>
          <p:nvPr/>
        </p:nvPicPr>
        <p:blipFill>
          <a:blip r:embed="rId1"/>
          <a:stretch/>
        </p:blipFill>
        <p:spPr>
          <a:xfrm>
            <a:off x="1542960" y="1335240"/>
            <a:ext cx="6180120" cy="4090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собенности создания тестов для школьников начальных классов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ладший школьный возраст это тот возраст когда внимание детей неустойчивое. И чтобы развить память, мышление, повысить их интерес к учебным дисциплинам учителя на уроках применяют красочные оформления, много карточек, и для контроля знаний  применяются традиционные формы раб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оследнее время учителя переходят на интегрированные  формы обучения. И тесты – тренажеры помогают детям легче усвоить материал раздела, потому что каждый раз они запоминают те правила, которые они отвечают в тест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кетир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кетирование д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ажите виды проверки знаний, которые чаще всего проводятся на уроках информат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стный опро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трольная рабо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машняя рабо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стирование в бумажном вид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ажите виды проверки знаний, которые вам более симпатичны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___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кетирование посл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ле проведенных  обучающих и контролирующих тестов с учащимися 2-4 классов учащиеся с повышенным интересом стали заниматься на уроках, т.к. стараются ответить правильно на все вопросы и получить поощрение компьютера и услышать победный гудок мотивирует на дальнейшие стремление хорошо учить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пробация созданных тес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406440" y="1884240"/>
            <a:ext cx="8331120" cy="4491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3" descr="http://viki.rdf.ru/media/upload/preview/Test_chasti_rechi.jpg"/>
          <p:cNvPicPr/>
          <p:nvPr/>
        </p:nvPicPr>
        <p:blipFill>
          <a:blip r:embed="rId1"/>
          <a:stretch/>
        </p:blipFill>
        <p:spPr>
          <a:xfrm>
            <a:off x="468360" y="836640"/>
            <a:ext cx="748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468360" y="144000"/>
            <a:ext cx="8207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данной работе я рассмотрела минимальные возможности готовой системы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icrosoft Power Point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, которые доказывают, что элементарные знания системы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icrosoft Power Point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позволяют создавать собственные электронные материалы без особых усилий, обеспечива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ндивидуальный подход к создаваемой демонстрационно - обучающей системе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ндивидуальный подход к контролю ЗУН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ндивидуальный подход к закреплению знан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елав данную работу, я поняла, что возможности пакета делопроизводств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crosoft Offic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зучены в школе лишь частично, поэтому необходимо расширить изучени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 Poin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на отдельном элективном курсе в начальном звен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не бы хотелось продолжить работу над данной темой, так как я вижу большие перспективы M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 Poin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готовление тестов в среде M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 Poin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я думаю, со временем, будет активно использоваться в непосредственной работе педагогов всех направлений для разработки собственных тестирующ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Gungsuh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684360" y="148428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Что такое тест?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переводе с английского — испытание, проба, исследование. Тест — это стандартизированное задание, по результатам которого судят о знаниях, умениях, навыках учащихс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68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68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3"/>
          <p:cNvSpPr/>
          <p:nvPr/>
        </p:nvSpPr>
        <p:spPr>
          <a:xfrm>
            <a:off x="1547640" y="836640"/>
            <a:ext cx="61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мпьютерное тестирование – это один из вариантов использования ПК в начальных классах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285840" y="1214280"/>
            <a:ext cx="845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азначение тестов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— не только и даже не столько контроль и оценка знаний и практических умений как итоговых результатов, сколько диагностика состояния и проблем работы учащихся с программным материалом на каждом этапе его изучения: выявление возможных затруднений, пробелов, смешения понятий, знания правил, и умения их применять и т.д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857160" y="1143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ля организации тестирования можно использовать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. Готовые программы для учащихся начальных классов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. Тесты, выполненные самостоятельно или другими авторами в программах Excel или PowerPoint на основе алгоритма (Excel) или шаблона (PowerPoint), а также программы MyTes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сты предоставляют учащимся возможность проявить самостоятельность, индивидуальность, способствуют обучению детей процессуальному самоконтрол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стовые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альтернативного тип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на множественный выбор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на установление соответств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 на перегруппировк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на распознавани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на образование по аналог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Monotype Corsiva"/>
              </a:rPr>
              <a:t>задания на исправление неверных форм, неправильных утверждений.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0">
    <p:wheel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8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998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998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998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998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998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998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6:55:17Z</dcterms:created>
  <dc:creator>директор</dc:creator>
  <dc:description/>
  <dc:language>en-US</dc:language>
  <cp:lastModifiedBy>днс</cp:lastModifiedBy>
  <dcterms:modified xsi:type="dcterms:W3CDTF">2013-01-11T16:25:14Z</dcterms:modified>
  <cp:revision>32</cp:revision>
  <dc:subject/>
  <dc:title>Использование тестовых заданий на уроках русского языка</dc:title>
</cp:coreProperties>
</file>