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FA0-56B8-4EAD-A47D-A28D5C5A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FD3-DBA5-499F-988D-25394C73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344-414F-4581-84D4-38F70DF3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4C3-FFA6-4D9C-B057-9A228933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E39-E916-4926-A384-256B56EC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37A-1B6D-4A4C-A79E-C42B743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FDD-020E-4F23-8B1E-900B441F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CC8-4867-4273-B94B-74ADB142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DDE-91A3-4563-B586-A82F7233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C28-CB51-46E9-83AB-2B92CE4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64A-20C5-4130-9B97-9F859992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C4A-5544-4D8F-9182-090F824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4CC5-8683-49A9-85BA-2FA9FBDC3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d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00360" y="5229000"/>
            <a:ext cx="4384440" cy="115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 Гурова С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англ.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У лицей №67 г. Тольят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3717720" cy="221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403280" y="1773360"/>
            <a:ext cx="504180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a dialogu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2708280"/>
            <a:ext cx="5722920" cy="1428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favourite activities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11280" y="3213000"/>
            <a:ext cx="285300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48036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a journalist. Find out some information about favourite activities of your interlocut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3357720"/>
            <a:ext cx="8147160" cy="3240000"/>
          </a:xfrm>
          <a:prstGeom prst="rect">
            <a:avLst/>
          </a:prstGeom>
          <a:gradFill rotWithShape="0">
            <a:gsLst>
              <a:gs pos="0">
                <a:srgbClr val="a5f9af"/>
              </a:gs>
              <a:gs pos="50000">
                <a:srgbClr val="ffffff"/>
              </a:gs>
              <a:gs pos="100000">
                <a:srgbClr val="a5f9a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sport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music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favourite ways of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his/her hob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48400" y="765000"/>
            <a:ext cx="2595600" cy="173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77080" y="2708280"/>
            <a:ext cx="18511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va"/>
              </a:rPr>
              <a:t>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may start your conversation with gener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96000" cy="403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e1fda1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activities you are fond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got any special preferences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been going in for sport for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11600" y="2565360"/>
            <a:ext cx="29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you are keen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you are interes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8320" y="400536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rav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1125360"/>
            <a:ext cx="1850760" cy="1008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ay also use speci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013360"/>
            <a:ext cx="7139160" cy="1512720"/>
          </a:xfrm>
          <a:prstGeom prst="rect">
            <a:avLst/>
          </a:prstGeom>
          <a:gradFill rotWithShape="0">
            <a:gsLst>
              <a:gs pos="0">
                <a:srgbClr val="a5f9af"/>
              </a:gs>
              <a:gs pos="50000">
                <a:srgbClr val="ffffff"/>
              </a:gs>
              <a:gs pos="100000">
                <a:srgbClr val="a5f9a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sport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music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favourite ways of trav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a hob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6407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What do you usually do in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free / spare ti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Georgia"/>
              </a:rPr>
              <a:t>What kind of … </a:t>
            </a:r>
            <a:r>
              <a:rPr b="0" lang="en-US" sz="3200" spc="-1" strike="noStrike">
                <a:solidFill>
                  <a:srgbClr val="009900"/>
                </a:solidFill>
                <a:latin typeface="Georgia"/>
              </a:rPr>
              <a:t>do you</a:t>
            </a:r>
            <a:r>
              <a:rPr b="0" lang="en-US" sz="28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Georgia"/>
              </a:rPr>
              <a:t>like / prefer / enjoy</a:t>
            </a:r>
            <a:r>
              <a:rPr b="0" lang="en-US" sz="4000" spc="-1" strike="noStrike">
                <a:solidFill>
                  <a:srgbClr val="009900"/>
                </a:solidFill>
                <a:latin typeface="Georgia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eorgia"/>
              </a:rPr>
              <a:t>How much time a day / a week/ a month do you spend on your hobb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BatangChe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hat are your favourite kinds( means) of tran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64000" y="4437000"/>
            <a:ext cx="3488040" cy="2179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93080" y="907920"/>
            <a:ext cx="1850760" cy="1008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va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ssible dialo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uld you answer some questions about your hobb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. You’re wel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What do you usually do in your spare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, frankly speaking I haven’t got much free time. If I do I usually listen to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Have you got any special preferences in mus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not really. But I prefer r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Great. Have you ever been to a rock conc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year in June I was on holiday in Germany and I chanced to get tickets to Ramms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Super! Do you travel a lot? What are your favourite means of transpor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ly I prefer travelling by car. And I really enjoy driv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Have you ever driven a car in the mountains ? It’s so dangero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. I took up skiing not very long time ago and I always drive t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arpathians by my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I see. Thank you so much for answering my questions. Good lu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620640"/>
            <a:ext cx="18511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v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2920" y="1844640"/>
            <a:ext cx="7416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ff"/>
                </a:solidFill>
                <a:latin typeface="Segoe Script"/>
              </a:rPr>
              <a:t>Good luck!</a:t>
            </a:r>
            <a:endParaRPr b="0" lang="en-US" sz="7200" spc="1" strike="noStrike">
              <a:ln w="9360">
                <a:solidFill>
                  <a:srgbClr val="ff0000"/>
                </a:solidFill>
                <a:miter/>
              </a:ln>
              <a:solidFill>
                <a:srgbClr val="ffccff"/>
              </a:solidFill>
              <a:latin typeface="Segoe Script"/>
              <a:ea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02:29:23Z</dcterms:created>
  <dc:creator>Tolik</dc:creator>
  <dc:description/>
  <dc:language>en-US</dc:language>
  <cp:lastModifiedBy>Tolik</cp:lastModifiedBy>
  <dcterms:modified xsi:type="dcterms:W3CDTF">2014-10-31T23:18:14Z</dcterms:modified>
  <cp:revision>9</cp:revision>
  <dc:subject/>
  <dc:title>Слайд 1</dc:title>
</cp:coreProperties>
</file>