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C7F-1EAA-41A2-9713-A8595A8E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10B-8B5B-42C5-825D-C400A173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B80-B6E9-4461-B490-6C8D0CF7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FC5-0C36-4938-95A3-E43CE6A1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602-0E25-4E05-9A8D-F248B47C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C57-CA25-44C0-BF8C-4998D49F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713-29CE-4A9F-B848-00380BC2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71D-CC33-4FA5-9B01-203C034D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FD4-DED9-4B91-948C-644354EF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166-FC88-4B6F-93A7-70B5F21A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953-60F7-428E-A830-015F6991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E86-2E62-4FA8-920A-412D9145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C446-D204-484D-869D-2B528538B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ower_of_Londo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Comic Sans MS"/>
              </a:rPr>
              <a:t>История и Легенды Лондонского Тауэ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pubimage?id=1fRpS3YnrbmsnKMHHrdtWQ9o5tkR1v1XpaEZn3jLUrlk&amp;image_id=1ZWWGYDttCw-qG2mfEGr8fMLq_yjPrgg"/>
          <p:cNvPicPr/>
          <p:nvPr/>
        </p:nvPicPr>
        <p:blipFill>
          <a:blip r:embed="rId1"/>
          <a:stretch/>
        </p:blipFill>
        <p:spPr>
          <a:xfrm>
            <a:off x="179280" y="2205000"/>
            <a:ext cx="540072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5580000" y="4437000"/>
            <a:ext cx="356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ы: учащиес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 клас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Игримская СОШ №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ндаренко Наст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кендерова Ам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: учитель английского языка Григорьева В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5920"/>
            <a:ext cx="4464000" cy="49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ные воро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пожалуй, не только одна из главных легенд, но и важный символ современного Тауэ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Когда в 1831 году зверинец перевели в Риджентс-парк, воронов оставили в крепости. Они окружены специальной заботой — государство выплачивает гарнизону Тауэра два шиллинга четыре пенса в неделю для кормления птиц. Дворцовый “рейвенсмастер”, или Смотритель воронов, заботится о стае черных воронов. Дело в том, что, согласно легенде, устои Британии незыблемы до тех пор, пока вороны не покинут Тауэр. Для большей гарантии, однако, птицам подрезают крыл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1240507329_vorony_04"/>
          <p:cNvPicPr/>
          <p:nvPr/>
        </p:nvPicPr>
        <p:blipFill>
          <a:blip r:embed="rId1"/>
          <a:stretch/>
        </p:blipFill>
        <p:spPr>
          <a:xfrm>
            <a:off x="4572000" y="2276640"/>
            <a:ext cx="4572000" cy="4464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4840200" y="352440"/>
            <a:ext cx="430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203640" y="189000"/>
            <a:ext cx="59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Comic Sans MS"/>
              </a:rPr>
              <a:t>Легенды Лондонского Тауэ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reyvensmaster3"/>
          <p:cNvPicPr/>
          <p:nvPr/>
        </p:nvPicPr>
        <p:blipFill>
          <a:blip r:embed="rId2"/>
          <a:stretch/>
        </p:blipFill>
        <p:spPr>
          <a:xfrm>
            <a:off x="179280" y="0"/>
            <a:ext cx="3168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Comic Sans MS"/>
              </a:rPr>
              <a:t>Легенды Лондонского Тауэ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Ravens_8403"/>
          <p:cNvPicPr/>
          <p:nvPr/>
        </p:nvPicPr>
        <p:blipFill>
          <a:blip r:embed="rId1"/>
          <a:stretch/>
        </p:blipFill>
        <p:spPr>
          <a:xfrm>
            <a:off x="5148360" y="1125360"/>
            <a:ext cx="381636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IMG_1086"/>
          <p:cNvPicPr/>
          <p:nvPr/>
        </p:nvPicPr>
        <p:blipFill>
          <a:blip r:embed="rId2"/>
          <a:stretch/>
        </p:blipFill>
        <p:spPr>
          <a:xfrm>
            <a:off x="250920" y="1125360"/>
            <a:ext cx="4241880" cy="4729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4500720" y="558972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 черных воронов  живут в прекрасных условиях в крепости — в просторных вольер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36007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орцовые стражи, бифитеры, охраняют Тауэр и по сей день. Сегодня в их обязанности также входит проведение экскурсий для многочисленных посетителей. В особо торжественных случаях они облачаются в роскошные костюмы времен династии Тюдоров: алые камзолы, увенчанные белоснежными слоёными воротниками, отделанные золотом. В обычные же дни они одеты в темно-синие с красной отделкой мундиры Викторианской эпохи. Английских стражей нередко называют бифитерами, или мясоедами. Это прозвище, вероятнее всего, появилось во времена голода, когда лондонцы недоедали, а дворцовая стража регулярно получала паек говяжьего мяса. Этим английская корона обеспечивала себе надежную охран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Картинка 499 из 86840"/>
          <p:cNvPicPr/>
          <p:nvPr/>
        </p:nvPicPr>
        <p:blipFill>
          <a:blip r:embed="rId1"/>
          <a:stretch/>
        </p:blipFill>
        <p:spPr>
          <a:xfrm>
            <a:off x="3995640" y="1413000"/>
            <a:ext cx="4751640" cy="5111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851280" y="20808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Бифитеры – дворцовые                     страж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Картинка 363 из 86735"/>
          <p:cNvPicPr/>
          <p:nvPr/>
        </p:nvPicPr>
        <p:blipFill>
          <a:blip r:embed="rId1"/>
          <a:stretch/>
        </p:blipFill>
        <p:spPr>
          <a:xfrm>
            <a:off x="108000" y="1773360"/>
            <a:ext cx="4402080" cy="38289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0" y="260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ауэр был свидетелем кровавых расправ и невероятных страданий. Как только солнце садится, все посетители покидают Тауэр. Ночью, согласно легенде, оживают бывшие узники Тауэрской тюрь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Картинка 14 из 9968"/>
          <p:cNvPicPr/>
          <p:nvPr/>
        </p:nvPicPr>
        <p:blipFill>
          <a:blip r:embed="rId2"/>
          <a:stretch/>
        </p:blipFill>
        <p:spPr>
          <a:xfrm>
            <a:off x="4500720" y="2349360"/>
            <a:ext cx="4491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788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Узники Тауэ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5b3yw"/>
          <p:cNvPicPr/>
          <p:nvPr/>
        </p:nvPicPr>
        <p:blipFill>
          <a:blip r:embed="rId1"/>
          <a:stretch/>
        </p:blipFill>
        <p:spPr>
          <a:xfrm>
            <a:off x="250920" y="981000"/>
            <a:ext cx="2376360" cy="273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Легенды Лондонского Тауэра"/>
          <p:cNvPicPr/>
          <p:nvPr/>
        </p:nvPicPr>
        <p:blipFill>
          <a:blip r:embed="rId2"/>
          <a:stretch/>
        </p:blipFill>
        <p:spPr>
          <a:xfrm>
            <a:off x="6767640" y="3429000"/>
            <a:ext cx="237636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Легенды Лондонского Тауэра"/>
          <p:cNvPicPr/>
          <p:nvPr/>
        </p:nvPicPr>
        <p:blipFill>
          <a:blip r:embed="rId3"/>
          <a:stretch/>
        </p:blipFill>
        <p:spPr>
          <a:xfrm>
            <a:off x="3708360" y="3716280"/>
            <a:ext cx="2232000" cy="252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Картинка 1 из 309"/>
          <p:cNvPicPr/>
          <p:nvPr/>
        </p:nvPicPr>
        <p:blipFill>
          <a:blip r:embed="rId4"/>
          <a:stretch/>
        </p:blipFill>
        <p:spPr>
          <a:xfrm>
            <a:off x="4788000" y="836640"/>
            <a:ext cx="1727280" cy="2519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georgeii"/>
          <p:cNvPicPr/>
          <p:nvPr/>
        </p:nvPicPr>
        <p:blipFill>
          <a:blip r:embed="rId5"/>
          <a:stretch/>
        </p:blipFill>
        <p:spPr>
          <a:xfrm>
            <a:off x="6676920" y="0"/>
            <a:ext cx="2467080" cy="299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edward5"/>
          <p:cNvPicPr/>
          <p:nvPr/>
        </p:nvPicPr>
        <p:blipFill>
          <a:blip r:embed="rId6"/>
          <a:stretch/>
        </p:blipFill>
        <p:spPr>
          <a:xfrm>
            <a:off x="2987640" y="907920"/>
            <a:ext cx="1571760" cy="252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sirmore"/>
          <p:cNvPicPr/>
          <p:nvPr/>
        </p:nvPicPr>
        <p:blipFill>
          <a:blip r:embed="rId7"/>
          <a:stretch/>
        </p:blipFill>
        <p:spPr>
          <a:xfrm>
            <a:off x="971640" y="4076640"/>
            <a:ext cx="1728720" cy="23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304020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449280" y="37368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на Бол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3256920" y="337644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дуар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4932360" y="3376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мас Бек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7359480" y="299736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рг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971640" y="6308640"/>
            <a:ext cx="17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мас 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3995640" y="63295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жейн Г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7435440" y="64008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олтер Рэ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Церемония «Ключи королев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9036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вно в 10 часов вечера крепостные ворота Тауэра закрываются. Стражники передают ключи главному сторожу, который, сняв шляпу, произносит молитву. Ключи до утра хранятся в комендантской комнате. Эта церемония ни разу не прерывалась за 700 лет своего сущес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k10"/>
          <p:cNvPicPr/>
          <p:nvPr/>
        </p:nvPicPr>
        <p:blipFill>
          <a:blip r:embed="rId1"/>
          <a:stretch/>
        </p:blipFill>
        <p:spPr>
          <a:xfrm rot="334200">
            <a:off x="6300360" y="3141720"/>
            <a:ext cx="2519280" cy="2808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116000" y="618012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церемония передачи ключей "/>
          <p:cNvPicPr/>
          <p:nvPr/>
        </p:nvPicPr>
        <p:blipFill>
          <a:blip r:embed="rId2"/>
          <a:stretch/>
        </p:blipFill>
        <p:spPr>
          <a:xfrm>
            <a:off x="395280" y="2781360"/>
            <a:ext cx="2521080" cy="340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Церемония ключей в Тауэре, Лондон (Ceremony of the Keys)"/>
          <p:cNvPicPr/>
          <p:nvPr/>
        </p:nvPicPr>
        <p:blipFill>
          <a:blip r:embed="rId3"/>
          <a:stretch/>
        </p:blipFill>
        <p:spPr>
          <a:xfrm>
            <a:off x="3132000" y="2924280"/>
            <a:ext cx="2952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468360" y="1320480"/>
            <a:ext cx="82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чти тысячу лет Лондонский Тауэр был местом, где вершилась история Англии. Как говорится: «Кто владеет Тауэром, тот и властвует». Лондонский Тауэр является самой большой и самой долговечной крепостью в Европе. На его строительство ушло 200 лет. Сегодня десятки тысяч туристов со всего мира стремятся посетить место, пронизанное    тайнами и леген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83160" y="307800"/>
            <a:ext cx="667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Мой дом – моя креп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286000" y="2344680"/>
            <a:ext cx="4572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сточн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ikipedia. </a:t>
            </a:r>
            <a:r>
              <a:rPr b="0" i="1" lang="en-US" sz="1700" spc="-1" strike="noStrike">
                <a:solidFill>
                  <a:srgbClr val="0000ff"/>
                </a:solidFill>
                <a:latin typeface="Arial"/>
              </a:rPr>
              <a:t>Tower of London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Tower_of_Lond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www. bankreferatov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www.aboutlondon.naro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www.twingroves.district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тория и легенды Лондонского Тауэра»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рать и исследовать информацию о Лондонском Тауэре. 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Изучить исторические и архитектурные особенности Белой и Кровавой башен Тауэр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асширить знания по истории Лондонского Тауэр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зучить тайны и легенды старого зам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ыступить с защитой проекта в классе и на школьной конферен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99"/>
                </a:solidFill>
                <a:latin typeface="Arial"/>
              </a:rPr>
              <a:t>Лондонский Тауэр – один из символов Великобритании. За свою историю Лондонский Тауэр был и крепостью, и дворцом, и хранилищем королевских драгоценностей, и арсеналом, и монетным двором,  и тюрьмой, и обсерваторией, и зоопарком. Сейчас это муз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99"/>
                </a:solidFill>
                <a:latin typeface="Arial"/>
              </a:rPr>
              <a:t>Основателем Тауэра считают Вильгельма I (герцога Нормандии, Вильгельма Завоевателя). Захватив Англию, он начал возводить оборонительные сооружения, самым крупным из которых стал Тауэ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1240603448_vilgelm"/>
          <p:cNvPicPr/>
          <p:nvPr/>
        </p:nvPicPr>
        <p:blipFill>
          <a:blip r:embed="rId1"/>
          <a:stretch/>
        </p:blipFill>
        <p:spPr>
          <a:xfrm>
            <a:off x="826920" y="2565360"/>
            <a:ext cx="2835360" cy="38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а 486 из 86735"/>
          <p:cNvPicPr/>
          <p:nvPr/>
        </p:nvPicPr>
        <p:blipFill>
          <a:blip r:embed="rId2"/>
          <a:stretch/>
        </p:blipFill>
        <p:spPr>
          <a:xfrm>
            <a:off x="4427640" y="2205000"/>
            <a:ext cx="4537080" cy="4653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468360" y="6381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ильгельм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I (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Завоеватель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8920" y="274680"/>
            <a:ext cx="547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Comic Sans MS"/>
              </a:rPr>
              <a:t>Белая Баш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08000" y="1484280"/>
            <a:ext cx="3887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оился Тауэр с Белой Башни, сердца креп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лая башня –это четырёхуго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ание, шириной 32 метра, дли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6 метров и высотой  око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0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ведение башни закончило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1100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Ричарде Львиное Сердц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ли достроены ещё нескольк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шен и ряды крепостных ст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ём же Тауэр был окружё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вом с вод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4233713011_d2b25b7b67"/>
          <p:cNvPicPr/>
          <p:nvPr/>
        </p:nvPicPr>
        <p:blipFill>
          <a:blip r:embed="rId1"/>
          <a:stretch/>
        </p:blipFill>
        <p:spPr>
          <a:xfrm>
            <a:off x="3995640" y="162864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542880"/>
            <a:ext cx="52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стоящее время здесь находится коллекция Королевского Арсенала и экспозиция, посвященная истории здания, оружию и рыцарским доспехам. Уникальные турнирные доспехи Генрих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крыты серебром и украшены гравировк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Белый Тауэр"/>
          <p:cNvPicPr/>
          <p:nvPr/>
        </p:nvPicPr>
        <p:blipFill>
          <a:blip r:embed="rId1"/>
          <a:stretch/>
        </p:blipFill>
        <p:spPr>
          <a:xfrm>
            <a:off x="6443640" y="3573360"/>
            <a:ext cx="2371680" cy="328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Белый Тауэр"/>
          <p:cNvPicPr/>
          <p:nvPr/>
        </p:nvPicPr>
        <p:blipFill>
          <a:blip r:embed="rId2"/>
          <a:stretch/>
        </p:blipFill>
        <p:spPr>
          <a:xfrm>
            <a:off x="5292720" y="0"/>
            <a:ext cx="2736720" cy="36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Белый Тауэр"/>
          <p:cNvPicPr/>
          <p:nvPr/>
        </p:nvPicPr>
        <p:blipFill>
          <a:blip r:embed="rId3"/>
          <a:stretch/>
        </p:blipFill>
        <p:spPr>
          <a:xfrm>
            <a:off x="1042920" y="35733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47880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нешний Тауэр уже мало похож на ту грозную крепость, какой он вошел в историю. Еще в 1843 году засыпали ров, и вместо воды здесь появился ярко-зеленый газон, оттеняющий серый камень стен. Во время многочисленных реставраций увеличили окна, в том числе и в Белой башне. Посажено большое количество деревьев. В прошлом такой суровый и буквально политый кровью внутренний двор в значительной части засеян тра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74914670_tauer_re"/>
          <p:cNvPicPr/>
          <p:nvPr/>
        </p:nvPicPr>
        <p:blipFill>
          <a:blip r:embed="rId1"/>
          <a:stretch/>
        </p:blipFill>
        <p:spPr>
          <a:xfrm>
            <a:off x="4716360" y="1197000"/>
            <a:ext cx="44276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анорамный вид зам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erofoto-a"/>
          <p:cNvPicPr/>
          <p:nvPr/>
        </p:nvPicPr>
        <p:blipFill>
          <a:blip r:embed="rId1"/>
          <a:stretch/>
        </p:blipFill>
        <p:spPr>
          <a:xfrm>
            <a:off x="1258920" y="765000"/>
            <a:ext cx="6985080" cy="4896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250920" y="589752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 Тауэра впечатляет. Замок состоит из 43 башен и други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Comic Sans MS"/>
              </a:rPr>
              <a:t>Гвардейцы в медвежьих шапках охраняют Тауэ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tauer1164164"/>
          <p:cNvPicPr/>
          <p:nvPr/>
        </p:nvPicPr>
        <p:blipFill>
          <a:blip r:embed="rId1"/>
          <a:stretch/>
        </p:blipFill>
        <p:spPr>
          <a:xfrm>
            <a:off x="250920" y="1700280"/>
            <a:ext cx="3816360" cy="453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Картинка 129 из 86736"/>
          <p:cNvPicPr/>
          <p:nvPr/>
        </p:nvPicPr>
        <p:blipFill>
          <a:blip r:embed="rId2"/>
          <a:stretch/>
        </p:blipFill>
        <p:spPr>
          <a:xfrm>
            <a:off x="4643280" y="1484280"/>
            <a:ext cx="432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720" y="115920"/>
            <a:ext cx="5256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Кровав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Кровавая Башня. Тауэр"/>
          <p:cNvPicPr/>
          <p:nvPr/>
        </p:nvPicPr>
        <p:blipFill>
          <a:blip r:embed="rId1"/>
          <a:stretch/>
        </p:blipFill>
        <p:spPr>
          <a:xfrm>
            <a:off x="4549680" y="1989000"/>
            <a:ext cx="4594320" cy="374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Интерьер Кровавой Башни в Тауэре"/>
          <p:cNvPicPr/>
          <p:nvPr/>
        </p:nvPicPr>
        <p:blipFill>
          <a:blip r:embed="rId2"/>
          <a:stretch/>
        </p:blipFill>
        <p:spPr>
          <a:xfrm>
            <a:off x="0" y="3213000"/>
            <a:ext cx="3203640" cy="3384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79280" y="836640"/>
            <a:ext cx="48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авая башня являлась оборонительной и охраняла главный вход в крепость. Она стала называться Кровавой, когда в 1604 году во время посещения Тауэра, королю Якову I рассказали о том, что именно в этой башне были  убиты «тауэрские принцы» Эдуар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его брат Ричар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8:34:02Z</dcterms:created>
  <dc:creator>Вера Викторовна</dc:creator>
  <dc:description/>
  <dc:language>en-US</dc:language>
  <cp:lastModifiedBy>XTreme.ws</cp:lastModifiedBy>
  <dcterms:modified xsi:type="dcterms:W3CDTF">2014-11-01T19:18:59Z</dcterms:modified>
  <cp:revision>21</cp:revision>
  <dc:subject/>
  <dc:title>Слайд 1</dc:title>
</cp:coreProperties>
</file>