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B01-2C03-47B0-87F7-6914820F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F38-A423-4092-A682-0C8E4AEE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498-042D-4B3B-9D10-B6B48F63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0C9-0C29-4139-9414-2083C9BE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5080-6317-44BE-8277-9184D5C8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2D9C-D490-401D-8997-A00BCB46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7AE9-9950-4A09-BE89-C4E21810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AC9A-FAD1-48D0-BF50-BDB464A3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32C6-9B2C-4B08-AD57-0FEEDB56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F0F7-C286-4D9F-A381-C9CB7E40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9FDE-F44F-466A-A616-B0C5DDBA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953-198B-45BD-8050-38243737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B652-3352-45D2-9618-F186DF9C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20F3-BACF-4337-9886-F0BD89AF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17DC-DE46-4FEE-A84E-CED7BA78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A945-E721-4EE0-96D0-616B46B2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5E3E-C7E3-436A-82AB-A8132A83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4B5FF-796E-4411-BD30-97CCE1C5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F70A-DB3D-428C-8B73-1B518B25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CDEF-DFC2-4BF2-8782-0E84CAD7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E286B-FBF8-4B5F-B80A-BD26C2DE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829E-6D35-4268-A659-551AE9B1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E49-3C37-47DF-B71C-8E1D0162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0A35-A745-4242-B2CC-A552FCD9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1DB4-5943-483F-9362-F5B4C288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FEF3-0B76-49BA-90AA-358895B5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92F0-1A93-452F-B63E-0E05804C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9B4E-6342-48D6-AECF-6E8A532D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DB3C-7D03-465C-A26E-132FD5DF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DAE7-EAF8-4837-8917-7635EAEB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9286B-EB6E-4407-A443-2EAA9EA0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B8E2-F144-436F-9C16-A5D3DB52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2E90-33AE-4497-BFCF-17D46D87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4F9-6930-4784-971A-70369DCE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C3D4-7B2A-4B5F-9823-1218926F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0D7E7-2FA5-4CA2-B67C-F83D3AC4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48BEA-51B1-4231-A706-81F42D0B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32EC2-AB8D-4A1A-BFCE-46C9B9C9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7B92A-C4B3-4A53-B3A3-11F2C015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94F07-97EF-4BE1-94FF-55080967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3B21-BD06-49DC-B96C-5444066D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6ADE0-B3E3-48E4-9C8F-C134B060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4815-3E51-4176-ADFB-BCD51B91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C815-0450-4E7A-8DA9-A108C0E4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D24-2446-4C93-8940-2014DA00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A4651-7017-4953-95E4-12122DC5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D1329-36EA-4F5E-8E95-DCD98B6C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6FF80-4439-4FEA-86CC-273253CE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6F13-BF21-4385-B90F-EF97381E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2E736-8951-4E84-BE53-2380B895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7B047-C580-4E25-B078-7709AC3D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94DA1-F934-483E-BF35-DAA600A6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3C476-FD40-4689-83A5-C578A841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F05E5-5FF7-4F84-96BF-4BFBB897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234FA-9EBD-4885-BEB7-35041A0E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9B1-65DE-4C2A-BF02-00B1C56B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A43EA-AF08-4DC2-A5F2-92426C81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DCE-39BE-4BE4-BBD9-ADBDFDEC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19A-D7E8-46BC-85A4-356710F2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E02-05FD-4680-B01E-4C1C483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53F8-BC88-4A6E-A34E-A3C754EFB44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8EFA-B0B3-4A83-A10B-21EFDDB4587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CFB9-AEBD-450F-911B-8E93B41958C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A604-0903-461D-B079-099F0CD47DD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FAF6-7860-40B7-BF69-04EF0E068FE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готовила Пакуть Ольга Валерье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начальных классов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. Медвежьегорс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есеннее печенье «тетёрки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7" descr="технология печенье 1"/>
          <p:cNvPicPr/>
          <p:nvPr/>
        </p:nvPicPr>
        <p:blipFill>
          <a:blip r:embed="rId2"/>
          <a:stretch/>
        </p:blipFill>
        <p:spPr>
          <a:xfrm>
            <a:off x="324000" y="1484280"/>
            <a:ext cx="6264000" cy="3816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технология печенье"/>
          <p:cNvPicPr/>
          <p:nvPr/>
        </p:nvPicPr>
        <p:blipFill>
          <a:blip r:embed="rId3"/>
          <a:stretch/>
        </p:blipFill>
        <p:spPr>
          <a:xfrm>
            <a:off x="5796000" y="3716280"/>
            <a:ext cx="29908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ньше из соломки – теперь из ниток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7" descr="технология кукла 1"/>
          <p:cNvPicPr/>
          <p:nvPr/>
        </p:nvPicPr>
        <p:blipFill>
          <a:blip r:embed="rId2"/>
          <a:stretch/>
        </p:blipFill>
        <p:spPr>
          <a:xfrm>
            <a:off x="468360" y="162864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технология кукла 02"/>
          <p:cNvPicPr/>
          <p:nvPr/>
        </p:nvPicPr>
        <p:blipFill>
          <a:blip r:embed="rId3"/>
          <a:stretch/>
        </p:blipFill>
        <p:spPr>
          <a:xfrm>
            <a:off x="395280" y="4005360"/>
            <a:ext cx="4286160" cy="2520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технология кукла"/>
          <p:cNvPicPr/>
          <p:nvPr/>
        </p:nvPicPr>
        <p:blipFill>
          <a:blip r:embed="rId4"/>
          <a:stretch/>
        </p:blipFill>
        <p:spPr>
          <a:xfrm>
            <a:off x="4067280" y="1628640"/>
            <a:ext cx="47052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родная глиняная игрушк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7" descr="технология глиняная игрушка1"/>
          <p:cNvPicPr/>
          <p:nvPr/>
        </p:nvPicPr>
        <p:blipFill>
          <a:blip r:embed="rId2"/>
          <a:stretch/>
        </p:blipFill>
        <p:spPr>
          <a:xfrm>
            <a:off x="2987640" y="4724280"/>
            <a:ext cx="3562560" cy="1692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технология глин игр 02"/>
          <p:cNvPicPr/>
          <p:nvPr/>
        </p:nvPicPr>
        <p:blipFill>
          <a:blip r:embed="rId3"/>
          <a:stretch/>
        </p:blipFill>
        <p:spPr>
          <a:xfrm>
            <a:off x="4500720" y="1557360"/>
            <a:ext cx="4005000" cy="30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технология глин игр 002"/>
          <p:cNvPicPr/>
          <p:nvPr/>
        </p:nvPicPr>
        <p:blipFill>
          <a:blip r:embed="rId4"/>
          <a:stretch/>
        </p:blipFill>
        <p:spPr>
          <a:xfrm>
            <a:off x="539640" y="1628640"/>
            <a:ext cx="219420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8" descr="технология глин игр 003"/>
          <p:cNvPicPr/>
          <p:nvPr/>
        </p:nvPicPr>
        <p:blipFill>
          <a:blip r:embed="rId2"/>
          <a:stretch/>
        </p:blipFill>
        <p:spPr>
          <a:xfrm>
            <a:off x="3500280" y="3929040"/>
            <a:ext cx="5372280" cy="2664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технология глин игр 03"/>
          <p:cNvPicPr/>
          <p:nvPr/>
        </p:nvPicPr>
        <p:blipFill>
          <a:blip r:embed="rId3"/>
          <a:stretch/>
        </p:blipFill>
        <p:spPr>
          <a:xfrm>
            <a:off x="500040" y="714240"/>
            <a:ext cx="49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300720" y="333360"/>
            <a:ext cx="284328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олнц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сеянно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ол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токи вод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лебные колос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7" descr="технология глиняная игрушка потоки"/>
          <p:cNvPicPr/>
          <p:nvPr/>
        </p:nvPicPr>
        <p:blipFill>
          <a:blip r:embed="rId2"/>
          <a:stretch/>
        </p:blipFill>
        <p:spPr>
          <a:xfrm>
            <a:off x="1258920" y="4508640"/>
            <a:ext cx="1838160" cy="1380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технология глиняная игрушка"/>
          <p:cNvPicPr/>
          <p:nvPr/>
        </p:nvPicPr>
        <p:blipFill>
          <a:blip r:embed="rId3"/>
          <a:stretch/>
        </p:blipFill>
        <p:spPr>
          <a:xfrm>
            <a:off x="468360" y="2708280"/>
            <a:ext cx="5616360" cy="1728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технология глиняная игрушка солнце"/>
          <p:cNvPicPr/>
          <p:nvPr/>
        </p:nvPicPr>
        <p:blipFill>
          <a:blip r:embed="rId4"/>
          <a:stretch/>
        </p:blipFill>
        <p:spPr>
          <a:xfrm>
            <a:off x="395280" y="260280"/>
            <a:ext cx="5689440" cy="2305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технология глиняная игрушка"/>
          <p:cNvPicPr/>
          <p:nvPr/>
        </p:nvPicPr>
        <p:blipFill>
          <a:blip r:embed="rId5"/>
          <a:stretch/>
        </p:blipFill>
        <p:spPr>
          <a:xfrm>
            <a:off x="3635280" y="5545080"/>
            <a:ext cx="20574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тица – солнц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7" descr="технология птица счастья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4032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технология птица счастья"/>
          <p:cNvPicPr/>
          <p:nvPr/>
        </p:nvPicPr>
        <p:blipFill>
          <a:blip r:embed="rId3"/>
          <a:stretch/>
        </p:blipFill>
        <p:spPr>
          <a:xfrm>
            <a:off x="5003640" y="2276640"/>
            <a:ext cx="3889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9:05:01Z</dcterms:created>
  <dc:creator>Admin</dc:creator>
  <dc:description/>
  <dc:language>en-US</dc:language>
  <cp:lastModifiedBy>Катерина</cp:lastModifiedBy>
  <dcterms:modified xsi:type="dcterms:W3CDTF">2014-11-01T20:31:22Z</dcterms:modified>
  <cp:revision>3</cp:revision>
  <dc:subject/>
  <dc:title>Изделия по мотивам народных мастеров.</dc:title>
</cp:coreProperties>
</file>