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jpeg" ContentType="image/jpeg"/>
  <Override PartName="/ppt/media/image3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4051-9CF0-47AA-8B6B-65B9F400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544-CD5C-44FB-9889-642251AB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45F6-47CE-4F47-96F7-6288FF72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2C9-5820-4EDE-826C-47619A56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85F-484F-45FA-8ECA-FE79C6F7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46A-62BB-4D05-88AE-8016DD3E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88E0-D820-40E3-ADE9-A4693507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3F2-48FA-411C-A349-C479CC96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3341-00AE-405A-BCCA-9895E903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547-C42C-4EB0-9B9D-272D06DC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7EFC-B7E0-44B4-AAF6-590B7429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858F-9CFF-42B8-A7F2-C36497AD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55AE-64F1-4C16-9256-EE16B0C29AD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0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5072040" y="214200"/>
            <a:ext cx="3071880" cy="20005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D:\Documents and Settings\МаксиМ\Мои документы\Мои рисунки\Изображение\Изображение 045.jpg"/>
          <p:cNvPicPr/>
          <p:nvPr/>
        </p:nvPicPr>
        <p:blipFill>
          <a:blip r:embed="rId2"/>
          <a:stretch/>
        </p:blipFill>
        <p:spPr>
          <a:xfrm rot="18539400">
            <a:off x="1519920" y="3335760"/>
            <a:ext cx="2260440" cy="3319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3857400" cy="37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ые исследования выполняются не только в ходе подготовки домашнего задания, но и при проведении наблюдений, постановки опытов, проблемного анализа текста, подготовки вопросов для дискуссии, разработки анкет, выполнения других творческих работ, например, различного рода сочинения, сказки, рассказы.</a:t>
            </a: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0" y="2356920"/>
            <a:ext cx="4286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имер: Придумать несуществующее животное и дать описание его внешнего облика, среды обитания- творческая работа при изучении вопросов экологи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ак генетика помогла Маше», сказки «Кедр», «Любящий и счастливая», «Рассказ от имени ученого Марка Розенталя»- это тоже творческие работы  наших учащихся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25764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 же работа участвовала во Всероссийском конкурсе учебно – исследовательских экологических  проектов школьников «Человек на Земле». Мы получили за эту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у Диплом 5 ступени (соответствует 3 месту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2" descr="D:\Documents and Settings\МаксиМ\Мои документы\Мои рисунки\Изображение\Изображение 093.jpg"/>
          <p:cNvPicPr/>
          <p:nvPr/>
        </p:nvPicPr>
        <p:blipFill>
          <a:blip r:embed="rId1"/>
          <a:stretch/>
        </p:blipFill>
        <p:spPr>
          <a:xfrm>
            <a:off x="4143240" y="500040"/>
            <a:ext cx="45007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04352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4714920" y="357120"/>
            <a:ext cx="385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пакова София, ученица 6 класса, заняла 2 место в областном конкурсе «Хорошо ли им живется?», посвященном международному Дню защиты животных  в номинации «Я завел в квартире друг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Рисунок 6" descr=""/>
          <p:cNvPicPr/>
          <p:nvPr/>
        </p:nvPicPr>
        <p:blipFill>
          <a:blip r:embed="rId1"/>
          <a:stretch/>
        </p:blipFill>
        <p:spPr>
          <a:xfrm>
            <a:off x="4857840" y="2286000"/>
            <a:ext cx="3643200" cy="4124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:\Documents and Settings\МаксиМ\Мои документы\Мои рисунки\Изображение\Изображение 031.jpg"/>
          <p:cNvPicPr/>
          <p:nvPr/>
        </p:nvPicPr>
        <p:blipFill>
          <a:blip r:embed="rId2"/>
          <a:stretch/>
        </p:blipFill>
        <p:spPr>
          <a:xfrm>
            <a:off x="285840" y="285840"/>
            <a:ext cx="42861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ники конкурсов на уровне регионального этапа на базе ТОЭБЦ учащиеся теперь уже 9-го класса Савина Яна и Русакова Таня тоже стали призерами в 2010 году и их работы завоевали 3 место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3" descr="D:\Documents and Settings\МаксиМ\Мои документы\Мои рисунки\Изображение\Изображение 013.jpg"/>
          <p:cNvPicPr/>
          <p:nvPr/>
        </p:nvPicPr>
        <p:blipFill>
          <a:blip r:embed="rId1"/>
          <a:stretch/>
        </p:blipFill>
        <p:spPr>
          <a:xfrm>
            <a:off x="5286240" y="0"/>
            <a:ext cx="3286440" cy="428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D:\Documents and Settings\МаксиМ\Мои документы\Мои рисунки\Изображение\Изображение 017.jpg"/>
          <p:cNvPicPr/>
          <p:nvPr/>
        </p:nvPicPr>
        <p:blipFill>
          <a:blip r:embed="rId2"/>
          <a:stretch/>
        </p:blipFill>
        <p:spPr>
          <a:xfrm>
            <a:off x="5900760" y="2643120"/>
            <a:ext cx="3243240" cy="4214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D:\Documents and Settings\МаксиМ\Мои документы\Мои рисунки\Изображение\Изображение 028.jpg"/>
          <p:cNvPicPr/>
          <p:nvPr/>
        </p:nvPicPr>
        <p:blipFill>
          <a:blip r:embed="rId3"/>
          <a:stretch/>
        </p:blipFill>
        <p:spPr>
          <a:xfrm>
            <a:off x="1214280" y="2643120"/>
            <a:ext cx="33894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E:\Фото аттестация\P1010466.JPG"/>
          <p:cNvPicPr/>
          <p:nvPr/>
        </p:nvPicPr>
        <p:blipFill>
          <a:blip r:embed="rId1"/>
          <a:stretch/>
        </p:blipFill>
        <p:spPr>
          <a:xfrm>
            <a:off x="357120" y="2357280"/>
            <a:ext cx="4143600" cy="364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Экологическое воспитание продолжается в содружестве с Центрами дополнительного образования. 5а класс на интерактивном занятии по теме «Шоколад» в ТОЭБЦ. В ходе занятий учащиеся получили много познавательной, практически полезной информации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Содержимое 3" descr="E:\Фото аттестация\P1010465.JPG"/>
          <p:cNvPicPr/>
          <p:nvPr/>
        </p:nvPicPr>
        <p:blipFill>
          <a:blip r:embed="rId2"/>
          <a:stretch/>
        </p:blipFill>
        <p:spPr>
          <a:xfrm>
            <a:off x="4214880" y="2071800"/>
            <a:ext cx="476244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392904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Экологическому воспитанию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хся способствует работа Экологического календаря, организация фотовыставок, творческие работы – рисунки самих учащихся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Содержимое 3" descr=""/>
          <p:cNvPicPr/>
          <p:nvPr/>
        </p:nvPicPr>
        <p:blipFill>
          <a:blip r:embed="rId1"/>
          <a:stretch/>
        </p:blipFill>
        <p:spPr>
          <a:xfrm>
            <a:off x="357120" y="1928880"/>
            <a:ext cx="1785960" cy="26985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tretch/>
        </p:blipFill>
        <p:spPr>
          <a:xfrm>
            <a:off x="4286160" y="214200"/>
            <a:ext cx="1581120" cy="1467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3"/>
          <a:stretch/>
        </p:blipFill>
        <p:spPr>
          <a:xfrm>
            <a:off x="5929200" y="142920"/>
            <a:ext cx="2765520" cy="192888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6" descr=""/>
          <p:cNvPicPr/>
          <p:nvPr/>
        </p:nvPicPr>
        <p:blipFill>
          <a:blip r:embed="rId4"/>
          <a:stretch/>
        </p:blipFill>
        <p:spPr>
          <a:xfrm>
            <a:off x="3357720" y="1857240"/>
            <a:ext cx="2609640" cy="1752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D:\Documents and Settings\МаксиМ\Мои документы\Мои рисунки\Изображение\Изображение 087.jpg"/>
          <p:cNvPicPr/>
          <p:nvPr/>
        </p:nvPicPr>
        <p:blipFill>
          <a:blip r:embed="rId5"/>
          <a:stretch/>
        </p:blipFill>
        <p:spPr>
          <a:xfrm>
            <a:off x="6500880" y="2500200"/>
            <a:ext cx="237492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8" descr="D:\Documents and Settings\МаксиМ\Мои документы\Мои рисунки\Изображение\Изображение 086.jpg"/>
          <p:cNvPicPr/>
          <p:nvPr/>
        </p:nvPicPr>
        <p:blipFill>
          <a:blip r:embed="rId6"/>
          <a:stretch/>
        </p:blipFill>
        <p:spPr>
          <a:xfrm rot="6181800">
            <a:off x="4388760" y="3897000"/>
            <a:ext cx="1670040" cy="23050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9" descr="D:\Documents and Settings\МаксиМ\Мои документы\Мои рисунки\Изображение\Изображение 085.jpg"/>
          <p:cNvPicPr/>
          <p:nvPr/>
        </p:nvPicPr>
        <p:blipFill>
          <a:blip r:embed="rId7"/>
          <a:stretch/>
        </p:blipFill>
        <p:spPr>
          <a:xfrm rot="15338400">
            <a:off x="1857240" y="3571200"/>
            <a:ext cx="1857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Организация летнего трудового лагеря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кологическое просвещение  осуществляется и в рамках пятой  летней четверти на базе пришкольного  участка, когда у наших подопечных идет настоящая практическая работа по выращиванию рассады и уходу за растениями на школьных газонах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Содержимое 3" descr="E:\мама\фотошкола\IMG_0144.jpg"/>
          <p:cNvPicPr/>
          <p:nvPr/>
        </p:nvPicPr>
        <p:blipFill>
          <a:blip r:embed="rId1"/>
          <a:stretch/>
        </p:blipFill>
        <p:spPr>
          <a:xfrm>
            <a:off x="642960" y="2714760"/>
            <a:ext cx="5429160" cy="37861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 rot="750000">
            <a:off x="6143760" y="3429000"/>
            <a:ext cx="27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еся школы на участк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Содержимое 3" descr="E:\мама\фотошкола\IMG_0084.jpg"/>
          <p:cNvPicPr/>
          <p:nvPr/>
        </p:nvPicPr>
        <p:blipFill>
          <a:blip r:embed="rId1"/>
          <a:stretch/>
        </p:blipFill>
        <p:spPr>
          <a:xfrm>
            <a:off x="357120" y="1285920"/>
            <a:ext cx="3952800" cy="29638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E:\мама\фотошкола\IMG_0148.jpg"/>
          <p:cNvPicPr/>
          <p:nvPr/>
        </p:nvPicPr>
        <p:blipFill>
          <a:blip r:embed="rId2"/>
          <a:stretch/>
        </p:blipFill>
        <p:spPr>
          <a:xfrm>
            <a:off x="4857840" y="1285920"/>
            <a:ext cx="3848040" cy="28861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E:\Фото\IMG_0095.jpg"/>
          <p:cNvPicPr/>
          <p:nvPr/>
        </p:nvPicPr>
        <p:blipFill>
          <a:blip r:embed="rId3"/>
          <a:stretch/>
        </p:blipFill>
        <p:spPr>
          <a:xfrm rot="1467600">
            <a:off x="3857400" y="342864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E:\Фото\IMG_0101.jpg"/>
          <p:cNvPicPr/>
          <p:nvPr/>
        </p:nvPicPr>
        <p:blipFill>
          <a:blip r:embed="rId4"/>
          <a:stretch/>
        </p:blipFill>
        <p:spPr>
          <a:xfrm rot="1590000">
            <a:off x="836640" y="4497120"/>
            <a:ext cx="23144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чно-исследовательская деятельность в рамках НО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2560" y="1356840"/>
            <a:ext cx="8543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еся могут избирать индивидуальную форму   работ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групповую. Обучающиеся, выполняющие проекты, принимают участие и занимают призовые места в конкурсах различного уровня. Мы активно участвуем в конкурсах регионального масштаба на базе ТОЭБЦ, выступаем на детских чтениях «Шаги в науку», выступаем на районных конференциях учащихся школ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Содержимое 3" descr="M:\Елена Николаевна\S3020216.jpg"/>
          <p:cNvPicPr/>
          <p:nvPr/>
        </p:nvPicPr>
        <p:blipFill>
          <a:blip r:embed="rId1"/>
          <a:stretch/>
        </p:blipFill>
        <p:spPr>
          <a:xfrm>
            <a:off x="642960" y="1857240"/>
            <a:ext cx="2357280" cy="15717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M:\Елена Николаевна\S3020220.JPG"/>
          <p:cNvPicPr/>
          <p:nvPr/>
        </p:nvPicPr>
        <p:blipFill>
          <a:blip r:embed="rId2"/>
          <a:stretch/>
        </p:blipFill>
        <p:spPr>
          <a:xfrm>
            <a:off x="3429000" y="1857240"/>
            <a:ext cx="2357280" cy="15717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8" descr="M:\Елена Николаевна\S3020217.JPG"/>
          <p:cNvPicPr/>
          <p:nvPr/>
        </p:nvPicPr>
        <p:blipFill>
          <a:blip r:embed="rId3"/>
          <a:stretch/>
        </p:blipFill>
        <p:spPr>
          <a:xfrm>
            <a:off x="6357960" y="1857240"/>
            <a:ext cx="20001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D:\Documents and Settings\МаксиМ\Мои документы\Мои рисунки\Изображение\Изображение 004.jpg"/>
          <p:cNvPicPr/>
          <p:nvPr/>
        </p:nvPicPr>
        <p:blipFill>
          <a:blip r:embed="rId1"/>
          <a:stretch/>
        </p:blipFill>
        <p:spPr>
          <a:xfrm rot="8149200">
            <a:off x="4557240" y="-34560"/>
            <a:ext cx="317196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D:\Documents and Settings\МаксиМ\Мои документы\Мои рисунки\Изображение\Изображение 092.jpg"/>
          <p:cNvPicPr/>
          <p:nvPr/>
        </p:nvPicPr>
        <p:blipFill>
          <a:blip r:embed="rId2"/>
          <a:stretch/>
        </p:blipFill>
        <p:spPr>
          <a:xfrm rot="18878400">
            <a:off x="1162440" y="216360"/>
            <a:ext cx="2913120" cy="36864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0" y="2143080"/>
            <a:ext cx="1857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3" descr="D:\Documents and Settings\МаксиМ\Мои документы\Мои рисунки\Изображение\Изображение 004.jpg"/>
          <p:cNvPicPr/>
          <p:nvPr/>
        </p:nvPicPr>
        <p:blipFill>
          <a:blip r:embed="rId3"/>
          <a:stretch/>
        </p:blipFill>
        <p:spPr>
          <a:xfrm rot="8074800">
            <a:off x="4566960" y="-44280"/>
            <a:ext cx="31734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D:\Documents and Settings\МаксиМ\Мои документы\Мои рисунки\Изображение\Изображение 011.jpg"/>
          <p:cNvPicPr/>
          <p:nvPr/>
        </p:nvPicPr>
        <p:blipFill>
          <a:blip r:embed="rId4"/>
          <a:stretch/>
        </p:blipFill>
        <p:spPr>
          <a:xfrm rot="2745600">
            <a:off x="5149800" y="3228840"/>
            <a:ext cx="2741400" cy="3566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D:\Documents and Settings\МаксиМ\Мои документы\Мои рисунки\Изображение\Изображение 012.jpg"/>
          <p:cNvPicPr/>
          <p:nvPr/>
        </p:nvPicPr>
        <p:blipFill>
          <a:blip r:embed="rId5"/>
          <a:stretch/>
        </p:blipFill>
        <p:spPr>
          <a:xfrm rot="8121000">
            <a:off x="1037880" y="2812320"/>
            <a:ext cx="292896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3900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РИН ВИТАЛИЙ, уч-ся 7 класса, стал победителем областного конкурса «Хорошо ли им живется?», посвященного международному Дню защиты животных в номинации «Среди домов, асфальтов и машин», участвовал в передаче на Тульском радио 1 ноября 2011 года, 2 ноября выступал на заключительной конференции по итогам конкурса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572000" y="428760"/>
            <a:ext cx="406728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4" descr="E:\Фото аттестация\P1010387.JPG"/>
          <p:cNvPicPr/>
          <p:nvPr/>
        </p:nvPicPr>
        <p:blipFill>
          <a:blip r:embed="rId1"/>
          <a:stretch/>
        </p:blipFill>
        <p:spPr>
          <a:xfrm>
            <a:off x="4500720" y="357120"/>
            <a:ext cx="3786120" cy="2714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857320"/>
            <a:ext cx="354348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Содержимое 3" descr="E:\Фото аттестация\P1010390.JPG"/>
          <p:cNvPicPr/>
          <p:nvPr/>
        </p:nvPicPr>
        <p:blipFill>
          <a:blip r:embed="rId2"/>
          <a:stretch/>
        </p:blipFill>
        <p:spPr>
          <a:xfrm>
            <a:off x="357120" y="3286080"/>
            <a:ext cx="3643560" cy="29289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E:\Фото аттестация\P1010392.JPG"/>
          <p:cNvPicPr/>
          <p:nvPr/>
        </p:nvPicPr>
        <p:blipFill>
          <a:blip r:embed="rId3"/>
          <a:stretch/>
        </p:blipFill>
        <p:spPr>
          <a:xfrm>
            <a:off x="4214880" y="2714760"/>
            <a:ext cx="4429080" cy="35002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E:\Фото аттестация\P1010379.JPG"/>
          <p:cNvPicPr/>
          <p:nvPr/>
        </p:nvPicPr>
        <p:blipFill>
          <a:blip r:embed="rId4"/>
          <a:stretch/>
        </p:blipFill>
        <p:spPr>
          <a:xfrm>
            <a:off x="428760" y="500040"/>
            <a:ext cx="35719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274680"/>
            <a:ext cx="3643200" cy="551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еся Абрамов Дмитрий, Рыженков Дмитрий, Евдокимова Наталья, Токарева Светлана выступали с проектом «Они хотят жить» на 3 городской научно – практической конференции учащихся «Шаг в науку» в апреле 2010 года. Участники проекта были награждены дипломом 3 степени. Эта же работа была представлена на региональный этап 8-го Всероссийского конкурса учебно – исследовательских проектов «Человек на Земле». Итог – 1 место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Содержимое 3" descr="D:\Documents and Settings\МаксиМ\Мои документы\Мои рисунки\Изображение\Изображение 018.jpg"/>
          <p:cNvPicPr/>
          <p:nvPr/>
        </p:nvPicPr>
        <p:blipFill>
          <a:blip r:embed="rId1"/>
          <a:stretch/>
        </p:blipFill>
        <p:spPr>
          <a:xfrm>
            <a:off x="4643280" y="428760"/>
            <a:ext cx="400068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ксим</cp:lastModifiedBy>
  <dcterms:modified xsi:type="dcterms:W3CDTF">2014-11-01T15:57:07Z</dcterms:modified>
  <cp:revision>88</cp:revision>
  <dc:subject/>
  <dc:title>  «Влияние мирового культурного пространства на воспитание учащихся» </dc:title>
</cp:coreProperties>
</file>