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60F-30FB-4E5A-A2A3-3A3E6A1B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076-EF52-49A0-8617-D4DCCC61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634-3BD0-4748-984B-D5298314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4F0-57D4-4F92-89A1-F70212C1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6CF-C0B9-4537-A2EA-D2C384BC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9D1-C68E-4CB4-9018-4EE9E626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F3C-34E9-42F4-8B21-E58F3136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E98-3362-4639-AB5F-AB1392D1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6AE-D2D8-4308-B958-5A518363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E70-3A75-48DE-B528-BECD2543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F7F-DA86-4249-B9EA-D402ED48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FA1-9F60-4401-831A-780AC0FE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199E-A6C1-45E2-9D85-1DB17A33D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3672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ма уро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9360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нализ стихотвор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.С. Пушкина «19 октября» (1825 г.)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0" y="148428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ели урока: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179280" y="256536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609480" indent="-6094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истематизировать и углубить знания по теме : «Лицейский период в жизни А.С.Пушкина».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609480" indent="-6094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овершенствовать навыки устной речи по данной теме.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1835280" y="4076640"/>
            <a:ext cx="73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ой вопрос: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1908000" y="4653000"/>
            <a:ext cx="72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оль Лицея в жизни А. С. Пушкина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7" name="Picture 8" descr="pushkin"/>
          <p:cNvPicPr/>
          <p:nvPr/>
        </p:nvPicPr>
        <p:blipFill>
          <a:blip r:embed="rId1"/>
          <a:stretch/>
        </p:blipFill>
        <p:spPr>
          <a:xfrm>
            <a:off x="395280" y="4508640"/>
            <a:ext cx="952560" cy="1361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Михайловское1.jpg"/>
          <p:cNvPicPr/>
          <p:nvPr/>
        </p:nvPicPr>
        <p:blipFill>
          <a:blip r:embed="rId1"/>
          <a:stretch/>
        </p:blipFill>
        <p:spPr>
          <a:xfrm>
            <a:off x="749160" y="182520"/>
            <a:ext cx="3256200" cy="5413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572000" y="0"/>
            <a:ext cx="43578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Роняет лес багряный свой убор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ребрит мороз увянувшее поле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Проглянет день, как будто поневоле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скроется за край окружных гор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Пылай, камин, в моей пустынной келье;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ты, вино, осенней стужи друг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Пролей мне в грудь отрадное похмелье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Минутное забвенье горьких мук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Печален я: со мною друга нет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 кем долгую запил бы я разлуку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Кому бы мог пожать от сердца руку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пожелать весёлых много лет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Я пью один; вотще воображенье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Вокруг меня товарищей зовёт;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Знакомое не слышно приближенье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милого душа моя не ждёт.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Я пью один, и на брегах Невы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Меня друзья сегодня именуют…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Немногие ль из вас и там пируют?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Ещё кого не досчитались вы?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Кто изменил пленительной привычке?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Кого от вас увлёк холодный свет?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Чей глас умолк на братской перекличке?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Кто не пришёл? Кого меж вами нет?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111600" y="573264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11280" y="5661000"/>
            <a:ext cx="6913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акому событию, кому посвящено это стихотворение?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Почему стихотворение начинается с описания осеннего пейзажа?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В чём причина грусти поэта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огда (в каком году) стихотворение написано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Почему лирический герой не может быть на встрече лицеистов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0" y="213372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onstantia"/>
              </a:rPr>
              <a:t>Н. Корсаков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0" y="458136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onstantia"/>
              </a:rPr>
              <a:t>Ф.Матюшкин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4" name="Picture 4" descr="pic5"/>
          <p:cNvPicPr/>
          <p:nvPr/>
        </p:nvPicPr>
        <p:blipFill>
          <a:blip r:embed="rId1"/>
          <a:stretch/>
        </p:blipFill>
        <p:spPr>
          <a:xfrm>
            <a:off x="0" y="2421000"/>
            <a:ext cx="1476360" cy="21333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8"/>
          <p:cNvSpPr/>
          <p:nvPr/>
        </p:nvSpPr>
        <p:spPr>
          <a:xfrm>
            <a:off x="250920" y="4797360"/>
            <a:ext cx="5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0" y="5732640"/>
            <a:ext cx="75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Только ли лирический герой не может быть на праздновании Дня Лицея? 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1476360" y="189000"/>
            <a:ext cx="3600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Он не пришёл, кудрявый наш певец,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С огнём в очах, с гитарой сладкогласной;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Под миртами Италии прекрасной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Он тихо спит, и дружеский резец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Не начертал над русскою могилой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Слов несколько на языке родном,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Чтоб некогда нашёл привет унылый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Сын севера, бродя в краю чужом.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Сидишь ли ты в кругу своих друзей,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Чужих небес любовник беспокойный?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Иль снова ты проходишь тропик знойный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И вечный лёд полуночных морей?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Счастливый путь!.. С лицейского порога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Ты на корабль перешагнул шутя,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И с той поры в морях твоя дорога,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О волн и бурь любимое дитя!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Ты сохранил в блуждающей судьбе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Прекрасных лет первоначальны нравы: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Лицейский шум, лицейские забавы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Средь бурных волн мечталися тебе;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Ты простирал из-за моря нам руку,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Ты нас одних в младой душе носил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И повторял: «На долгую разлуку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Нас тайный рок, быть может, осудил!»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0" y="5950080"/>
            <a:ext cx="78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аковы причины их отсутствия?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аким вы увидели Корсакова? 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Почему Матюшкин появляется вслед за Корсаковым?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акие строки обращают на себя внимание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9" name="Picture 5" descr="Корсаков"/>
          <p:cNvPicPr/>
          <p:nvPr/>
        </p:nvPicPr>
        <p:blipFill>
          <a:blip r:embed="rId2"/>
          <a:stretch/>
        </p:blipFill>
        <p:spPr>
          <a:xfrm>
            <a:off x="0" y="0"/>
            <a:ext cx="147636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5724360" y="1989000"/>
            <a:ext cx="331164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Друзья мои, прекрасен наш союз!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Он как душа неразделим и вечен –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Неколебим, свободен и беспечен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Срастался он под сенью дружных муз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 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Куда бы нас ни бросила судьбина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И счастие куда б ни повело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Все те же мы: нам целый мир чужбина;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Отечество нам Царское Село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5724360" y="260280"/>
            <a:ext cx="341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Ты сохранил в блуждающей судьбе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Прекрасных лет первоначальны нравы: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Лицейский шум, лицейские забавы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Средь бурных волн мечталися тебе;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Ты простирал из-за моря нам руку,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Ты нас одних в младой душе носил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И повторял: «На долгую разлуку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onstantia"/>
              </a:rPr>
              <a:t>Нас тайный рок, быть может, осудил!»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5796000" y="422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Прямоугольник 12"/>
          <p:cNvSpPr/>
          <p:nvPr/>
        </p:nvSpPr>
        <p:spPr>
          <a:xfrm>
            <a:off x="6227640" y="439884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Можно ли эти строчки считать гимном “лицейскому братству”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аким чувством наполнены эти строки? 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4572000" y="0"/>
            <a:ext cx="4357800" cy="70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з края в край, преследуем грозой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Запутанный в сетях судьбы суровой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Я с трепетом на лоно дружбы новой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Устав,  приник ласкающей главой…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 мольбой моей, печальной и мятежной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 доверчивой надеждой первых лет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Друзьям иным душой предался нежной;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Но горек был небратский их привет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ныне здесь, в забытой сей глуши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В обители пустынных вьюг и хлада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Мне сладкая готовилась отрада: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Троих из вас, друзей моей души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Здесь обнял я. Поэта дом опальный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О Пущин мой, ты первый посетил;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Ты усладил изгнанья день печальный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Ты в день его Лицея превратил..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Ты, Горчаков, счастливец с первых дней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Хвала тебе – фортуны блеск холодный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Не изменил души твоей свободной: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Всё тот же ты для чести и друзей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Нам разный путь судьбой назначен строгой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тупая в жизнь, мы быстро разошлись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Но невзначай просёлочной дорогой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Мы встретились и братски обнялись…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3744720" cy="1800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826920" y="4653000"/>
            <a:ext cx="127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onstantia"/>
              </a:rPr>
              <a:t>И. Пущин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2484360" y="465300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onstantia"/>
              </a:rPr>
              <a:t>А.Горчаков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8" name="Picture 4" descr="Gorcakov"/>
          <p:cNvPicPr/>
          <p:nvPr/>
        </p:nvPicPr>
        <p:blipFill>
          <a:blip r:embed="rId2"/>
          <a:stretch/>
        </p:blipFill>
        <p:spPr>
          <a:xfrm>
            <a:off x="2556000" y="227664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pic12"/>
          <p:cNvPicPr/>
          <p:nvPr/>
        </p:nvPicPr>
        <p:blipFill>
          <a:blip r:embed="rId3"/>
          <a:stretch/>
        </p:blipFill>
        <p:spPr>
          <a:xfrm>
            <a:off x="826920" y="2276640"/>
            <a:ext cx="1441440" cy="2376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8"/>
          <p:cNvSpPr/>
          <p:nvPr/>
        </p:nvSpPr>
        <p:spPr>
          <a:xfrm>
            <a:off x="4680" y="56610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468360" y="5516640"/>
            <a:ext cx="867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Расставшись с лицейскими друзьями, лирический герой находит других друзей, но можно ли их назвать друзьями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О ком из лицейских друзей говорит Пушкин в следующих строфах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ого Пушкин называет "мой первый друг, мой друг бесценный"?  Почему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акова была цель поездки Пущина в Михайловское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ого Пушкин именует "счастливцем с первых дней"?  Почему?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7"/>
          <p:cNvSpPr/>
          <p:nvPr/>
        </p:nvSpPr>
        <p:spPr>
          <a:xfrm>
            <a:off x="3995640" y="115920"/>
            <a:ext cx="5000760" cy="58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Когда постиг меня судьбины гнев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Для всех чужой, как сирота бездомный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Под бурею главой поник я томной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ждал тебя, певец пермесских дев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ты пришёл, сын лени вдохновенный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О Дельвиг мой: твой голос пробудил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ердечный жар, так долго усыпленный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бодро я судьбу благословил.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 младенчества дух песен в нас горел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дивное волненье мы познали;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 младенчества две музы к нам летали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сладок был их лаской наш удел: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Но я любил уже рукоплесканья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Ты, гордый, пел для муз и для души;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вой дар, как жизнь, я тратил без вниманья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Ты гений свой воспитывал в тиши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луженье муз не терпит суеты;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Прекрасное должно быть величаво: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Но юность нам советует лукаво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шумные нас радуют мечты…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Опомнимся - но поздно! и уныло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Глядим назад, следов не видя там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Скажи, Вильгельм, не то ль и с нами было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Мой брат родной по музе, по судьбам?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611280" y="270828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cc"/>
                </a:solidFill>
                <a:uFillTx/>
                <a:latin typeface="Constantia"/>
              </a:rPr>
              <a:t>А.Дельвиг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539640" y="558972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onstantia"/>
              </a:rPr>
              <a:t>В.Кюхельбекер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5" name="Picture 4" descr="Delvig"/>
          <p:cNvPicPr/>
          <p:nvPr/>
        </p:nvPicPr>
        <p:blipFill>
          <a:blip r:embed="rId1"/>
          <a:stretch/>
        </p:blipFill>
        <p:spPr>
          <a:xfrm>
            <a:off x="539640" y="115920"/>
            <a:ext cx="208764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K"/>
          <p:cNvPicPr/>
          <p:nvPr/>
        </p:nvPicPr>
        <p:blipFill>
          <a:blip r:embed="rId2"/>
          <a:stretch/>
        </p:blipFill>
        <p:spPr>
          <a:xfrm>
            <a:off x="539640" y="2997360"/>
            <a:ext cx="2087640" cy="2592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4680" y="573264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68360" y="5805360"/>
            <a:ext cx="867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ого Пушкин называет "певцом пермесских дев", "ленивцем вдохновенным"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Почему вслед за Пущиным и Горчаковым поэт говорит о Дельвиге? 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акую роль в жизни Пушкина сыграл Дельвиг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О ком поэт говорит "мой брат родной по музе, по судьбам"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TextBox 7"/>
          <p:cNvGrpSpPr/>
          <p:nvPr/>
        </p:nvGrpSpPr>
        <p:grpSpPr>
          <a:xfrm>
            <a:off x="103320" y="109440"/>
            <a:ext cx="3682800" cy="4575960"/>
            <a:chOff x="103320" y="109440"/>
            <a:chExt cx="3682800" cy="4575960"/>
          </a:xfrm>
        </p:grpSpPr>
        <p:pic>
          <p:nvPicPr>
            <p:cNvPr id="80" name="TextBox 7" descr=""/>
            <p:cNvPicPr/>
            <p:nvPr/>
          </p:nvPicPr>
          <p:blipFill>
            <a:blip r:embed="rId1"/>
            <a:stretch/>
          </p:blipFill>
          <p:spPr>
            <a:xfrm>
              <a:off x="103320" y="109440"/>
              <a:ext cx="368280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8000" y="115920"/>
              <a:ext cx="367200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Пора, пора! Душевных наших мук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Не стоит мир; оставим заблужденья!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Сокроем жизнь под сень уединенья!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Я жду тебя, мой запоздалый друг –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Приди; огнём волшебного рассказа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Сердечные преданья оживи;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Поговорим о бурных днях Кавказа,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О Шиллере, о славе, о любви.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Пора и мне… пируйте, о друзья!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Предчувствую отрадное свиданье;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Запомните ж поэта предсказанье: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Промчится год, и с вами снова я,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Исполнится завет моих мечтаний;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Промчится год, и я явлюся к вам!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О сколько слёз и сколько восклицаний, 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И сколько чаш, подъятых к небесам!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82" name="Прямоугольник 4"/>
          <p:cNvSpPr/>
          <p:nvPr/>
        </p:nvSpPr>
        <p:spPr>
          <a:xfrm>
            <a:off x="108000" y="378936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539640" y="4005360"/>
            <a:ext cx="36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Почему поэт вспоминает Кюхельбекера?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Во что перерождаются воспоминания? 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140360" y="1844640"/>
            <a:ext cx="50036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первую полней, друзья, полней!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И всю до дна в честь нашего союза!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Благослови, ликующая муза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Благослови: да здравствует лицей!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Наставникам, хранившим юность нашу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Всем честию, и мёртвым и живым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К устам подъяв признательную чашу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Не помня зла, за благо воздадим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Полней, полней! И, сердцем возгоря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Опять до дна, до капли выпивайте!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Но за кого? О други, угадайте…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Ура, наш царь! Так! Выпьем за царя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Он человек! Им властвует мгновенье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Он раб молвы, сомнений и страстей;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Простим ему неправое гоненье: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onstantia"/>
              </a:rPr>
              <a:t>Он взял Париж, он основал лицей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5" name="Picture 7" descr="aleksandr1"/>
          <p:cNvPicPr/>
          <p:nvPr/>
        </p:nvPicPr>
        <p:blipFill>
          <a:blip r:embed="rId2"/>
          <a:stretch/>
        </p:blipFill>
        <p:spPr>
          <a:xfrm>
            <a:off x="4356000" y="115920"/>
            <a:ext cx="1224000" cy="1441440"/>
          </a:xfrm>
          <a:prstGeom prst="rect">
            <a:avLst/>
          </a:prstGeom>
          <a:ln w="3816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Прямоугольник 8"/>
          <p:cNvSpPr/>
          <p:nvPr/>
        </p:nvSpPr>
        <p:spPr>
          <a:xfrm>
            <a:off x="4356000" y="1557360"/>
            <a:ext cx="12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мператор Александр 1 </a:t>
            </a:r>
            <a:endParaRPr b="0" lang="en-US" sz="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867280" y="115920"/>
            <a:ext cx="1152720" cy="14414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5867280" y="155736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силий Федорович Малиновский.</a:t>
            </a:r>
            <a:endParaRPr b="0" lang="en-US" sz="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7380360" y="115920"/>
            <a:ext cx="1152360" cy="14414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2"/>
          <p:cNvSpPr/>
          <p:nvPr/>
        </p:nvSpPr>
        <p:spPr>
          <a:xfrm>
            <a:off x="7451640" y="1628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гор Антонович Энгельгардт</a:t>
            </a:r>
            <a:endParaRPr b="0" lang="en-US" sz="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Прямоугольник 13"/>
          <p:cNvSpPr/>
          <p:nvPr/>
        </p:nvSpPr>
        <p:spPr>
          <a:xfrm>
            <a:off x="539640" y="4398840"/>
            <a:ext cx="585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За кого поднимает кубок лирический герой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539640" y="4813200"/>
            <a:ext cx="631836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Почему  звучит тост за царя?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Почему Пушкин прощает своего гонителя?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Чем являются эти строки в канве стихотворения?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TextBox 7"/>
          <p:cNvGrpSpPr/>
          <p:nvPr/>
        </p:nvGrpSpPr>
        <p:grpSpPr>
          <a:xfrm>
            <a:off x="317520" y="615960"/>
            <a:ext cx="4906800" cy="3767040"/>
            <a:chOff x="317520" y="615960"/>
            <a:chExt cx="4906800" cy="3767040"/>
          </a:xfrm>
        </p:grpSpPr>
        <p:pic>
          <p:nvPicPr>
            <p:cNvPr id="94" name="TextBox 7" descr=""/>
            <p:cNvPicPr/>
            <p:nvPr/>
          </p:nvPicPr>
          <p:blipFill>
            <a:blip r:embed="rId1"/>
            <a:stretch/>
          </p:blipFill>
          <p:spPr>
            <a:xfrm>
              <a:off x="317520" y="615960"/>
              <a:ext cx="490680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24000" y="620640"/>
              <a:ext cx="4890960" cy="37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Пируйте же, пока ещё мы тут!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Увы, наш круг час от часу редеет;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Кто в гробе спит, кто, дальный, сиротеет;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Судьба глядит, мы вянем; дни бегут;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Невидимо склоняясь и хладея,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Мы близимся к началу своему…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Кому ж из нас под старость день лицея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Торжествовать придётся одному?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Несчастный друг! Средь новых поколений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Докучный гость и лишний, и чужой,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Он вспомнит нас во дни соединений,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Закрыв глаза дрожащею рукой…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Пускай же он с отрадой пусть печальной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Тогда сей день за чашей проведёт,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Как ныне я, затворник ваш опальный,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2060"/>
                  </a:solidFill>
                  <a:latin typeface="Constantia"/>
                </a:rPr>
                <a:t>Его провёл без горя и забот.</a:t>
              </a:r>
              <a:endParaRPr b="0" lang="en-US" sz="1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724360" y="115920"/>
            <a:ext cx="3143520" cy="53290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183960" y="48690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684360" y="4869000"/>
            <a:ext cx="82087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 кому испытывает чувство жалости Пушкин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Кто же окажется последним лицеистом пушкинского выпуска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Что в стихотворении «19 октября» вас удивляет, заставляет задуматься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В чём причина изменения настроения героя?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Что же такое дружба и друзья для Пушкина?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920" y="115920"/>
            <a:ext cx="41054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во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280" y="3141720"/>
            <a:ext cx="7201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ицей дал не только блестящее образование, но и научил по-настоящему дружить. Лицейскую дружбу его выпускники пронесли через всю жизнь. Именно в лицейский период формируется личность Пушкина, раскрывается его поэтический тал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[LI9RK_11-02]_[IL_05]-k"/>
          <p:cNvPicPr/>
          <p:nvPr/>
        </p:nvPicPr>
        <p:blipFill>
          <a:blip r:embed="rId1"/>
          <a:stretch/>
        </p:blipFill>
        <p:spPr>
          <a:xfrm>
            <a:off x="1258920" y="765000"/>
            <a:ext cx="5834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1599840"/>
            <a:ext cx="88567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отман Ю.М. Александр Сергеевич Пушкин. Биография писателя. СП.: Искусство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ыркова-Вильямс А.В. Жизнь Пушкина: в 2 Т. – М., Молодая гвардия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руайя А. Александр Пушкин: биография. – М.: Эксмо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 оформлении презентации использованы фрагменты картин художников: И. Репина, А. Тона, Ф. Алексеева, В. Боровиковского, С. Щедрина,  В. Петрова, С. Галактионова, А. Мартынова,  Н. Рушевой, Г. Траго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195640" y="4149720"/>
            <a:ext cx="496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зентацию подготовила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читель 1 категории                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КОУ «Кармановская СОШ»          Железногорского района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урской области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сманова Ирина Николаевна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7:57:08Z</dcterms:created>
  <dc:creator>123</dc:creator>
  <dc:description/>
  <dc:language>en-US</dc:language>
  <cp:lastModifiedBy>мой</cp:lastModifiedBy>
  <dcterms:modified xsi:type="dcterms:W3CDTF">2014-10-31T15:29:43Z</dcterms:modified>
  <cp:revision>174</cp:revision>
  <dc:subject/>
  <dc:title>Слайд 1</dc:title>
</cp:coreProperties>
</file>