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7.jpeg" ContentType="image/jpeg"/>
  <Override PartName="/ppt/media/image6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9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20.jpeg" ContentType="image/jpeg"/>
  <Override PartName="/ppt/media/image2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D4B8-6B4E-41B0-B89B-87C859C68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4239-CD40-4956-8917-5FCAF2A7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18F3-9D8F-4993-A36F-6CEE630C7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EA6E-12C4-4EA7-ADA3-76CD92E4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12FC-DE42-47E0-8CE1-781AEED2D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7D2A-3F28-4BAA-90B9-D0E62315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B984-E7BE-4243-9D1B-9BE11C4A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4745-3E33-46A0-99F9-385C9B05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CFC1-F7E2-4AEF-8D67-0E1E766A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3B31-40D3-49E7-949B-8C55504B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6363-04B2-4C2C-A5F9-7E3E037F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A1BF-5FBE-4F0E-AB89-2C3AE9E2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10C8-5A61-48DB-80DA-6D9FC16C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EDA5-5DE4-4DF3-97AC-0F9DBAAB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9030-0CEB-4719-8F1E-6B4567EE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D19F-B637-4CE4-A9D8-F78EF5A57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6AB1-6E4E-4E4A-A9FC-897A6F67A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8E6C9-8C01-4998-A3A3-458308C5E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76C34-0014-4AF7-8119-01601FE5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323F2-0745-48D9-B8EA-FA65E145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B6121-1F98-44E2-ACC3-74F447C5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C3ED5-C618-49D4-9A04-AC617077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8FC8-5A19-436A-B2E9-E73406D1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2C6D0-A2B2-4B19-9426-942F6A80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44D9B-65B8-449E-A636-F00BC10C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50D69-A5F8-4791-8AA2-734BAF43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5B5D1-39C6-464A-9910-FBD1F254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667EA-23EE-4CE4-A52E-1E773EF2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69455-C13F-47BB-ABC9-F5C9C5E54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A1048-62C8-4E95-9BB8-AEB5309FE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40C60-CEE8-4F13-A726-E5D56CD5F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D0C7A-C759-44AD-AB87-C49612E0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144B8-F972-4E0C-BF1A-AD5AC8F1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B09C-BCFC-4B76-BF46-E7DDE6A0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89700-BBF3-41B9-B9E4-2858E5CC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3C323-A9BA-4311-B0CD-E7D28480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AF2AA-2C91-410C-ABEE-F28C2429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56F9D-4AB1-4656-8894-B2BE3A1F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3C32F-DBBE-46BA-9540-F9790E96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5FFFF-CF2D-4A21-A262-46CCFEBD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00C43-29AF-4DE1-942A-B2D0DBE9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4D00A-6FF9-4C52-A8F8-617A4C31D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314FA-E1BF-44D9-9586-EAD59B207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68B0-499F-4F7F-B3F1-E3E5AAFC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00AA-6FF1-42C3-838D-36C894DB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CECC-56D2-4219-A616-9EDF09C7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B151-9770-4E62-8CCE-9F36787F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02FD-4B4D-4285-A6EC-9E20B6B9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35a6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35a6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35a6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7D89-D6DB-4DF6-8104-E75756C57B66}" type="slidenum">
              <a:rPr b="0" lang="ru-RU" sz="1200" spc="-1" strike="noStrike">
                <a:solidFill>
                  <a:srgbClr val="535a6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e89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3e89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e896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C1F1-30E0-43E4-8298-6A5692393E0A}" type="slidenum">
              <a:rPr b="0" lang="ru-RU" sz="1200" spc="-1" strike="noStrike">
                <a:solidFill>
                  <a:srgbClr val="f3e896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e89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3e89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e896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B241-311E-4566-999B-6158E1C42C34}" type="slidenum">
              <a:rPr b="0" lang="ru-RU" sz="1200" spc="-1" strike="noStrike">
                <a:solidFill>
                  <a:srgbClr val="f3e896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35a6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35a6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35a6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6886-8EFB-4DC6-8701-94E10E16A92A}" type="slidenum">
              <a:rPr b="0" lang="ru-RU" sz="1200" spc="-1" strike="noStrike">
                <a:solidFill>
                  <a:srgbClr val="535a6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7"/>
            </a:gs>
            <a:gs pos="100000">
              <a:srgbClr val="ffe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715160" cy="2217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THE WONDERS OF NATURE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The Great Barrier Reef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pic>
        <p:nvPicPr>
          <p:cNvPr id="216" name="Содержимое 3" descr="1238315783_340741348_b5b10bd512.jpg"/>
          <p:cNvPicPr/>
          <p:nvPr/>
        </p:nvPicPr>
        <p:blipFill>
          <a:blip r:embed="rId2"/>
          <a:stretch/>
        </p:blipFill>
        <p:spPr>
          <a:xfrm>
            <a:off x="468360" y="1935000"/>
            <a:ext cx="80643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575f6d"/>
              </a:solidFill>
              <a:latin typeface="Calibri"/>
            </a:endParaRPr>
          </a:p>
        </p:txBody>
      </p:sp>
      <p:pic>
        <p:nvPicPr>
          <p:cNvPr id="218" name="Содержимое 3" descr="buyuk-mercan-resifi.jpg"/>
          <p:cNvPicPr/>
          <p:nvPr/>
        </p:nvPicPr>
        <p:blipFill>
          <a:blip r:embed="rId2"/>
          <a:stretch/>
        </p:blipFill>
        <p:spPr>
          <a:xfrm>
            <a:off x="684360" y="2060640"/>
            <a:ext cx="7848360" cy="4065480"/>
          </a:xfrm>
          <a:prstGeom prst="rect">
            <a:avLst/>
          </a:prstGeom>
          <a:ln w="0">
            <a:noFill/>
          </a:ln>
        </p:spPr>
      </p:pic>
      <p:pic>
        <p:nvPicPr>
          <p:cNvPr id="219" name="Прямоугольник 4" descr=""/>
          <p:cNvPicPr/>
          <p:nvPr/>
        </p:nvPicPr>
        <p:blipFill>
          <a:blip r:embed="rId3"/>
          <a:stretch/>
        </p:blipFill>
        <p:spPr>
          <a:xfrm>
            <a:off x="438120" y="706320"/>
            <a:ext cx="814536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The Great Barrier Reef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pic>
        <p:nvPicPr>
          <p:cNvPr id="221" name="Содержимое 3" descr="Great_Barrier_Reef_Cairns_Australia.jpg"/>
          <p:cNvPicPr/>
          <p:nvPr/>
        </p:nvPicPr>
        <p:blipFill>
          <a:blip r:embed="rId2"/>
          <a:stretch/>
        </p:blipFill>
        <p:spPr>
          <a:xfrm>
            <a:off x="539640" y="1844640"/>
            <a:ext cx="81360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The Great Barrier Reef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pic>
        <p:nvPicPr>
          <p:cNvPr id="223" name="Содержимое 3" descr="great-barrier-reef.jpg"/>
          <p:cNvPicPr/>
          <p:nvPr/>
        </p:nvPicPr>
        <p:blipFill>
          <a:blip r:embed="rId2"/>
          <a:stretch/>
        </p:blipFill>
        <p:spPr>
          <a:xfrm>
            <a:off x="684360" y="1989000"/>
            <a:ext cx="7920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Niagara Falls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pic>
        <p:nvPicPr>
          <p:cNvPr id="198" name="Содержимое 5" descr="7593cf52995c.jpg"/>
          <p:cNvPicPr/>
          <p:nvPr/>
        </p:nvPicPr>
        <p:blipFill>
          <a:blip r:embed="rId2"/>
          <a:stretch/>
        </p:blipFill>
        <p:spPr>
          <a:xfrm>
            <a:off x="684360" y="1628640"/>
            <a:ext cx="806436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Niagara Falls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pic>
        <p:nvPicPr>
          <p:cNvPr id="200" name="Содержимое 3" descr="1253037552_03_niagara_47386.jpg"/>
          <p:cNvPicPr/>
          <p:nvPr/>
        </p:nvPicPr>
        <p:blipFill>
          <a:blip r:embed="rId2"/>
          <a:stretch/>
        </p:blipFill>
        <p:spPr>
          <a:xfrm>
            <a:off x="468360" y="1935000"/>
            <a:ext cx="82803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1" descr=""/>
          <p:cNvPicPr/>
          <p:nvPr/>
        </p:nvPicPr>
        <p:blipFill>
          <a:blip r:embed="rId2"/>
          <a:stretch/>
        </p:blipFill>
        <p:spPr>
          <a:xfrm>
            <a:off x="201600" y="285840"/>
            <a:ext cx="8491680" cy="1566720"/>
          </a:xfrm>
          <a:prstGeom prst="rect">
            <a:avLst/>
          </a:prstGeom>
          <a:ln w="0">
            <a:noFill/>
          </a:ln>
        </p:spPr>
      </p:pic>
      <p:pic>
        <p:nvPicPr>
          <p:cNvPr id="202" name="Содержимое 3" descr="i.jpeg"/>
          <p:cNvPicPr/>
          <p:nvPr/>
        </p:nvPicPr>
        <p:blipFill>
          <a:blip r:embed="rId3"/>
          <a:stretch/>
        </p:blipFill>
        <p:spPr>
          <a:xfrm>
            <a:off x="1042920" y="1844640"/>
            <a:ext cx="6985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575f6d"/>
              </a:solidFill>
              <a:latin typeface="Calibri"/>
            </a:endParaRPr>
          </a:p>
        </p:txBody>
      </p:sp>
      <p:pic>
        <p:nvPicPr>
          <p:cNvPr id="204" name="Содержимое 3" descr="коса.jpeg"/>
          <p:cNvPicPr/>
          <p:nvPr/>
        </p:nvPicPr>
        <p:blipFill>
          <a:blip r:embed="rId2"/>
          <a:stretch/>
        </p:blipFill>
        <p:spPr>
          <a:xfrm>
            <a:off x="611280" y="2276640"/>
            <a:ext cx="8137440" cy="4032000"/>
          </a:xfrm>
          <a:prstGeom prst="rect">
            <a:avLst/>
          </a:prstGeom>
          <a:ln w="0">
            <a:noFill/>
          </a:ln>
        </p:spPr>
      </p:pic>
      <p:pic>
        <p:nvPicPr>
          <p:cNvPr id="205" name="Прямоугольник 4" descr=""/>
          <p:cNvPicPr/>
          <p:nvPr/>
        </p:nvPicPr>
        <p:blipFill>
          <a:blip r:embed="rId3"/>
          <a:stretch/>
        </p:blipFill>
        <p:spPr>
          <a:xfrm>
            <a:off x="542880" y="542880"/>
            <a:ext cx="635148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The White Cliffs Of Dover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pic>
        <p:nvPicPr>
          <p:cNvPr id="207" name="Содержимое 3" descr="scogliere-Dover.jpg"/>
          <p:cNvPicPr/>
          <p:nvPr/>
        </p:nvPicPr>
        <p:blipFill>
          <a:blip r:embed="rId2"/>
          <a:stretch/>
        </p:blipFill>
        <p:spPr>
          <a:xfrm>
            <a:off x="468360" y="1989000"/>
            <a:ext cx="8207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The White Cliffs Of Dover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pic>
        <p:nvPicPr>
          <p:cNvPr id="209" name="Содержимое 3" descr="1329047982_dover2.jpg"/>
          <p:cNvPicPr/>
          <p:nvPr/>
        </p:nvPicPr>
        <p:blipFill>
          <a:blip r:embed="rId2"/>
          <a:stretch/>
        </p:blipFill>
        <p:spPr>
          <a:xfrm>
            <a:off x="539640" y="1916280"/>
            <a:ext cx="835344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575f6d"/>
              </a:solidFill>
              <a:latin typeface="Calibri"/>
            </a:endParaRPr>
          </a:p>
        </p:txBody>
      </p:sp>
      <p:pic>
        <p:nvPicPr>
          <p:cNvPr id="211" name="Содержимое 3" descr="tmpY3xj8t.jpeg"/>
          <p:cNvPicPr/>
          <p:nvPr/>
        </p:nvPicPr>
        <p:blipFill>
          <a:blip r:embed="rId2"/>
          <a:stretch/>
        </p:blipFill>
        <p:spPr>
          <a:xfrm>
            <a:off x="468360" y="2205000"/>
            <a:ext cx="8280360" cy="4319640"/>
          </a:xfrm>
          <a:prstGeom prst="rect">
            <a:avLst/>
          </a:prstGeom>
          <a:ln w="0">
            <a:noFill/>
          </a:ln>
        </p:spPr>
      </p:pic>
      <p:pic>
        <p:nvPicPr>
          <p:cNvPr id="212" name="Прямоугольник 4" descr=""/>
          <p:cNvPicPr/>
          <p:nvPr/>
        </p:nvPicPr>
        <p:blipFill>
          <a:blip r:embed="rId3"/>
          <a:stretch/>
        </p:blipFill>
        <p:spPr>
          <a:xfrm>
            <a:off x="268200" y="542880"/>
            <a:ext cx="867420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The Great Barrier Reef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pic>
        <p:nvPicPr>
          <p:cNvPr id="214" name="Содержимое 3" descr="914588.jpg"/>
          <p:cNvPicPr/>
          <p:nvPr/>
        </p:nvPicPr>
        <p:blipFill>
          <a:blip r:embed="rId2"/>
          <a:stretch/>
        </p:blipFill>
        <p:spPr>
          <a:xfrm>
            <a:off x="468360" y="1954080"/>
            <a:ext cx="828036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17:15:47Z</dcterms:created>
  <dc:creator>user</dc:creator>
  <dc:description/>
  <dc:language>en-US</dc:language>
  <cp:lastModifiedBy>user</cp:lastModifiedBy>
  <dcterms:modified xsi:type="dcterms:W3CDTF">2013-09-18T18:03:19Z</dcterms:modified>
  <cp:revision>5</cp:revision>
  <dc:subject/>
  <dc:title>Niagara Falls</dc:title>
</cp:coreProperties>
</file>