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amera.wav" ContentType="audio/x-wav"/>
  <Override PartName="/ppt/media/image6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8510-EA5B-439C-A770-40DC36C2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Monotype Corsiv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081-22BB-401D-B513-5AE655E0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Monotype Corsi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85B-0C51-43E6-9021-906E05F8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Monotype Corsi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1BE-2EEB-48E0-A3E4-BE7C1F8D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C6B0-FD19-4914-911E-4210A5D2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Monotype Corsiv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727F-0996-42D0-A2A0-5EB47978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Monotype Corsi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445D-B851-4B7C-A6E6-35484645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Monotype Corsiv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D8FA-6069-42CB-871E-6BFE2A57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1638-D8F8-43EC-8C54-A6563594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A2C0-A56F-463D-811E-D3731141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Monotype Corsiv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8BB5-71E9-4D6A-92D6-C835F7C6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Monotype Corsi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711-A576-4E41-A4CD-FFE20495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Monotype Corsiv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28D2-E051-447B-A077-55F5B610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Monotype Corsi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4993-5F0E-4A74-96A3-2B4BC716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Monotype Corsiv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89E7-722A-430B-82EB-73B8BB2F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Monotype Corsi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B19E-4642-4EA4-89C3-0CB588AE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Monotype Corsiv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AFF1-860E-409E-A902-59113128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Monotype Corsiv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3008-5B55-463D-A44A-BBAB091C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Monotype Corsi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F4EC-E684-4AE6-A91B-8AE5BC8F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CF29-D076-4054-9343-D885BA68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B045-692A-4126-ACCC-C81F8B31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Monotype Corsiv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03D-2DE9-412F-B032-0BF8AC88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Monotype Corsi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11E1-7CB2-4338-A089-0CF5F140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Monotype Corsiv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A17C-616F-41A1-A451-4331C7C7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1024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7" name="Group 10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Monotype Corsiva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876A-1125-414E-ACE1-4F3CC7F1FB42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5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21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1527120" y="3090960"/>
                <a:ext cx="7564320" cy="188640"/>
              </a:xfrm>
              <a:prstGeom prst="pie">
                <a:avLst/>
              </a:pr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63" name="Group 23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65" name="Group 2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6"/>
                <p:cNvSpPr/>
                <p:nvPr/>
              </p:nvSpPr>
              <p:spPr>
                <a:xfrm>
                  <a:off x="60480" y="65160"/>
                  <a:ext cx="1412640" cy="1454040"/>
                </a:xfrm>
                <a:prstGeom prst="pie">
                  <a:avLst/>
                </a:pr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68" name="Freeform 7"/>
                <p:cNvSpPr/>
                <p:nvPr/>
              </p:nvSpPr>
              <p:spPr>
                <a:xfrm>
                  <a:off x="9360" y="3313080"/>
                  <a:ext cx="1413000" cy="1454040"/>
                </a:xfrm>
                <a:prstGeom prst="pie">
                  <a:avLst/>
                </a:pr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69" name="Freeform 8"/>
                <p:cNvSpPr/>
                <p:nvPr/>
              </p:nvSpPr>
              <p:spPr>
                <a:xfrm>
                  <a:off x="9360" y="5016600"/>
                  <a:ext cx="1413000" cy="1454040"/>
                </a:xfrm>
                <a:prstGeom prst="pie">
                  <a:avLst/>
                </a:pr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Monotype Corsiva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Monotype Corsiv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87AC-A1AD-422E-A158-08441370E27A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otherreferats.allbest.ru/pedagogics/00178622_0.html" TargetMode="External"/><Relationship Id="rId3" Type="http://schemas.openxmlformats.org/officeDocument/2006/relationships/hyperlink" Target="http://tvorilife.com/tolstoy-lev-nikolaevich-biografiya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357200" y="3286080"/>
            <a:ext cx="4500720" cy="28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Monotype Corsiva"/>
              </a:rPr>
              <a:t>        </a:t>
            </a:r>
            <a:r>
              <a:rPr b="1" lang="ru-RU" sz="4800" spc="-1" strike="noStrike">
                <a:solidFill>
                  <a:srgbClr val="996633"/>
                </a:solidFill>
                <a:latin typeface="Monotype Corsiva"/>
              </a:rPr>
              <a:t>Лев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6633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996633"/>
                </a:solidFill>
                <a:latin typeface="Monotype Corsiva"/>
              </a:rPr>
              <a:t>Николаевич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6633"/>
                </a:solidFill>
                <a:latin typeface="Monotype Corsiva"/>
              </a:rPr>
              <a:t>    </a:t>
            </a:r>
            <a:r>
              <a:rPr b="1" lang="ru-RU" sz="4800" spc="-1" strike="noStrike">
                <a:solidFill>
                  <a:srgbClr val="996633"/>
                </a:solidFill>
                <a:latin typeface="Monotype Corsiva"/>
              </a:rPr>
              <a:t>Толстой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6633"/>
                </a:solidFill>
                <a:latin typeface="Monotype Corsiva"/>
              </a:rPr>
              <a:t>(1828 - 1910)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285920" y="0"/>
            <a:ext cx="6742080" cy="21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Monotype Corsiva"/>
              </a:rPr>
              <a:t>Педагогическая антропология</a:t>
            </a:r>
            <a:r>
              <a:rPr b="1" i="1" lang="ru-RU" sz="3200" spc="-1" strike="noStrike">
                <a:solidFill>
                  <a:srgbClr val="ff3300"/>
                </a:solidFill>
                <a:latin typeface="Monotype Corsiva"/>
              </a:rPr>
              <a:t> </a:t>
            </a:r>
            <a:endParaRPr b="0" i="1" lang="en-US" sz="3200" spc="-1" strike="noStrike">
              <a:solidFill>
                <a:srgbClr val="996633"/>
              </a:solidFill>
              <a:latin typeface="Monotype Corsiva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5072040" y="2214720"/>
            <a:ext cx="3429000" cy="4373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cc66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5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31640" y="2491920"/>
            <a:ext cx="8064360" cy="43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29 — 1910 гг.   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, русский писатель,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лен-корреспондент,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тный академик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ербургской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адемии Наук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Arial"/>
              </a:rPr>
              <a:t>Биография Л.Н. Толстого</a:t>
            </a:r>
            <a:endParaRPr b="0" i="1" lang="en-US" sz="4400" spc="-1" strike="noStrike">
              <a:solidFill>
                <a:srgbClr val="996633"/>
              </a:solidFill>
              <a:latin typeface="Monotype Corsiva"/>
            </a:endParaRPr>
          </a:p>
        </p:txBody>
      </p:sp>
      <p:pic>
        <p:nvPicPr>
          <p:cNvPr id="116" name="Picture 5" descr="29"/>
          <p:cNvPicPr/>
          <p:nvPr/>
        </p:nvPicPr>
        <p:blipFill>
          <a:blip r:embed="rId1"/>
          <a:stretch/>
        </p:blipFill>
        <p:spPr>
          <a:xfrm>
            <a:off x="6227640" y="2060640"/>
            <a:ext cx="27482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296720" y="260280"/>
            <a:ext cx="784692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1844 — 1847 гг.- учился на юридическом факультете.</a:t>
            </a:r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-2844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1851 год – Лев Толстой работает над повестью «Детство»;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обровольцем уезжает на Кавказ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-284400">
              <a:spcBef>
                <a:spcPts val="7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1852 год – в «Современнике» напечатано «Детство», первое из опубликованных произведений писателя.</a:t>
            </a:r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-284400">
              <a:spcBef>
                <a:spcPts val="7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1854 год – Толстой повышен в звании до прапорщика, он подает прошение о переводе в Крымскую армию.</a:t>
            </a:r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-284400">
              <a:spcBef>
                <a:spcPts val="7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1855 год – возвращение в Петербург. Лев Толстой входит в круг российских литераторов. </a:t>
            </a:r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-284400">
              <a:spcBef>
                <a:spcPts val="7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17760" y="188640"/>
            <a:ext cx="7626240" cy="64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В 1857 г. Толстой отправился в путешествие по Европе.</a:t>
            </a:r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-291600">
              <a:spcBef>
                <a:spcPts val="7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С 1853 по 1863 гг. пишет повесть «Казаки».</a:t>
            </a:r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-291600">
              <a:spcBef>
                <a:spcPts val="7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С 1862 Толстой стал издавать педагогический журнал "Ясная Поляна". </a:t>
            </a:r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-291600">
              <a:spcBef>
                <a:spcPts val="7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1862 Толстой женился на восемнадцатилетней дочери врача Софье Андреевне Берс .</a:t>
            </a:r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-291600">
              <a:spcBef>
                <a:spcPts val="7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В 1863—1869 гг. написал свое фундаментальное произведение «Война и мир». </a:t>
            </a:r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-291600">
              <a:spcBef>
                <a:spcPts val="7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В1873—1877 гг. создал роман «Анна Каренина».</a:t>
            </a:r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-291600">
              <a:spcBef>
                <a:spcPts val="7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1910  7(20) ноября Лев Николаевич Толстой умер. </a:t>
            </a:r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571760" y="142920"/>
            <a:ext cx="7286400" cy="1457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cc6600">
                <a:alpha val="50000"/>
              </a:srgbClr>
            </a:outerShdw>
          </a:effectLst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428840" y="1500120"/>
            <a:ext cx="4163760" cy="34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246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«Как скоро ребенок утратил всю независимость и самостоятельность, как только проявляются в нем различные симптомы болезни – лицемерие, бесцельная ложь, тупик и т. п., так он уже не составляет диспарат в школе, он попал в колею, и учитель начинает быть им доволен. Тогда самый глупый ребенок делается лучшим учеником и самый умный – худшим учеником… Школа учреждается не так, чтобы детям было удобно учиться, но так, чтобы учителям было удобно учить» 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479600" y="571320"/>
            <a:ext cx="7664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Monotype Corsiva"/>
              </a:rPr>
              <a:t>Теория свободного воспитания</a:t>
            </a:r>
            <a:endParaRPr b="0" i="1" lang="en-US" sz="4400" spc="-1" strike="noStrike">
              <a:solidFill>
                <a:srgbClr val="996633"/>
              </a:solidFill>
              <a:latin typeface="Monotype Corsiva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5786280" y="2214720"/>
            <a:ext cx="3019680" cy="3857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cc66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571760" y="142920"/>
            <a:ext cx="7286400" cy="1457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cc6600">
                <a:alpha val="50000"/>
              </a:srgbClr>
            </a:outerShdw>
          </a:effectLst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17760" y="1928880"/>
            <a:ext cx="7626240" cy="32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Monotype Corsiva"/>
              </a:rPr>
              <a:t>Теория свободного воспитания</a:t>
            </a:r>
            <a:endParaRPr b="0" i="1" lang="en-US" sz="4400" spc="-1" strike="noStrike">
              <a:solidFill>
                <a:srgbClr val="996633"/>
              </a:solidFill>
              <a:latin typeface="Monotype Corsiva"/>
            </a:endParaRPr>
          </a:p>
        </p:txBody>
      </p:sp>
      <p:cxnSp>
        <p:nvCxnSpPr>
          <p:cNvPr id="126" name="Прямая со стрелкой 6"/>
          <p:cNvCxnSpPr/>
          <p:nvPr/>
        </p:nvCxnSpPr>
        <p:spPr>
          <a:xfrm flipH="1">
            <a:off x="3571200" y="2571840"/>
            <a:ext cx="786600" cy="429120"/>
          </a:xfrm>
          <a:prstGeom prst="straightConnector1">
            <a:avLst/>
          </a:prstGeom>
          <a:ln w="38160">
            <a:solidFill>
              <a:srgbClr val="ff9933"/>
            </a:solidFill>
            <a:miter/>
            <a:tailEnd len="med" type="arrow" w="med"/>
          </a:ln>
        </p:spPr>
      </p:cxnSp>
      <p:cxnSp>
        <p:nvCxnSpPr>
          <p:cNvPr id="127" name="Прямая со стрелкой 7"/>
          <p:cNvCxnSpPr/>
          <p:nvPr/>
        </p:nvCxnSpPr>
        <p:spPr>
          <a:xfrm>
            <a:off x="6071760" y="2571480"/>
            <a:ext cx="786600" cy="500760"/>
          </a:xfrm>
          <a:prstGeom prst="straightConnector1">
            <a:avLst/>
          </a:prstGeom>
          <a:ln w="38160">
            <a:solidFill>
              <a:srgbClr val="ff9933"/>
            </a:solidFill>
            <a:miter/>
            <a:tailEnd len="med" type="arrow" w="med"/>
          </a:ln>
        </p:spPr>
      </p:cxnSp>
      <p:sp>
        <p:nvSpPr>
          <p:cNvPr id="128" name="TextBox 11"/>
          <p:cNvSpPr/>
          <p:nvPr/>
        </p:nvSpPr>
        <p:spPr>
          <a:xfrm>
            <a:off x="1714680" y="3143160"/>
            <a:ext cx="2857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царское правительство не должно лишать крестьян права свободно устраивать свои школы и самим выбирать учителей и предметы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5715000" y="3143160"/>
            <a:ext cx="3000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вобода выбора как основополагающий принцип, определяющий сущность воспитания и обучения, взаимоотношения учителя и учащихся в школе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0" name="Левая фигурная скобка 13"/>
          <p:cNvSpPr/>
          <p:nvPr/>
        </p:nvSpPr>
        <p:spPr>
          <a:xfrm rot="16200000">
            <a:off x="5000400" y="1642680"/>
            <a:ext cx="428760" cy="728640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7286400"/>
              <a:gd name="textAreaBottom" fmla="*/ 7275240 h 728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"/>
                  <a:pt x="10800" y="106"/>
                </a:cubicBezTo>
                <a:lnTo>
                  <a:pt x="10800" y="10694"/>
                </a:lnTo>
                <a:cubicBezTo>
                  <a:pt x="10800" y="10747"/>
                  <a:pt x="5400" y="10800"/>
                  <a:pt x="0" y="10800"/>
                </a:cubicBezTo>
                <a:cubicBezTo>
                  <a:pt x="5400" y="10800"/>
                  <a:pt x="10800" y="10853"/>
                  <a:pt x="10800" y="10906"/>
                </a:cubicBezTo>
                <a:lnTo>
                  <a:pt x="10800" y="21494"/>
                </a:lnTo>
                <a:cubicBezTo>
                  <a:pt x="10800" y="2154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e2b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1" name="TextBox 14"/>
          <p:cNvSpPr/>
          <p:nvPr/>
        </p:nvSpPr>
        <p:spPr>
          <a:xfrm>
            <a:off x="1714680" y="5572080"/>
            <a:ext cx="714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“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Критериум свободы” выражал в педагогике Л.Н. Толстого новый тип общения и подхода к личности ребенка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571760" y="142920"/>
            <a:ext cx="7286400" cy="1457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cc6600">
                <a:alpha val="50000"/>
              </a:srgbClr>
            </a:outerShdw>
          </a:effectLst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4200" y="2286000"/>
            <a:ext cx="8786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221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Цель - формирование самосознательной личности, высоко духовного человека на основе религиозного понимания жизни;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1221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ринцип - свобода (отсутствие планомерности в педагогическом процессе, контроля со стороны учителя, организация благоприятной воспитательной среды);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1221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етоды - личный пример, как ведущий метод воспитания и целый ряд дидактических приемов: разнообразные виды чтения, счета, совместное с учителем сочинение рассказов, коллективные ответы и т.д.;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1221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редства - труд, игра, общение, естественная дисциплина;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1221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убъект - учитель, сочетающий в себе любовь к детям, науке и педагогическому труду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1221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ебенок - центр педагогического процесс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Monotype Corsiva"/>
              </a:rPr>
              <a:t>Теория свободного воспитания</a:t>
            </a:r>
            <a:endParaRPr b="0" i="1" lang="en-US" sz="4400" spc="-1" strike="noStrike">
              <a:solidFill>
                <a:srgbClr val="9966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296720" y="404280"/>
            <a:ext cx="7846920" cy="561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«Все нравственное воспитание детей сводится к доброму примеру. Живите хорошо или хоть старайтесь жить хорошо, и вы по мере вашего успеха в хорошей жизни хорошо воспитаете детей». </a:t>
            </a:r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Л. Н. Толстой</a:t>
            </a:r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«Толстой рассказал нам о русской жизни почти столько же, как и вся остальная наша литература».                 </a:t>
            </a:r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М. Горький.</a:t>
            </a:r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571760" y="142920"/>
            <a:ext cx="7286400" cy="1457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cc6600">
                <a:alpha val="50000"/>
              </a:srgbClr>
            </a:outerShdw>
          </a:effectLst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17760" y="1143000"/>
            <a:ext cx="7626240" cy="36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1. </a:t>
            </a:r>
            <a:r>
              <a:rPr b="0" lang="ru-RU" sz="2000" spc="-1" strike="noStrike" u="sng">
                <a:solidFill>
                  <a:srgbClr val="cc9900"/>
                </a:solidFill>
                <a:uFillTx/>
                <a:latin typeface="Monotype Corsiva"/>
                <a:hlinkClick r:id="rId2"/>
              </a:rPr>
              <a:t>http://otherreferats.allbest.ru/pedagogics/00178622_0.html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- Дидактические идеи Льва Николаевича Толстого. Идея свободы выбора содержания в образовании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2. Кузьмина Е.И. Психология свободы: теория и практика. СПб.: Питер, 2007. 336 с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3. </a:t>
            </a:r>
            <a:r>
              <a:rPr b="0" lang="ru-RU" sz="2000" spc="-1" strike="noStrike" u="sng">
                <a:solidFill>
                  <a:srgbClr val="cc9900"/>
                </a:solidFill>
                <a:uFillTx/>
                <a:latin typeface="Monotype Corsiva"/>
                <a:hlinkClick r:id="rId3"/>
              </a:rPr>
              <a:t>http://tvorilife.com/tolstoy-lev-nikolaevich-biografiya.html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- Творчетво и жизнь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Monotype Corsiva"/>
              </a:rPr>
              <a:t>Список литературы</a:t>
            </a:r>
            <a:endParaRPr b="0" i="1" lang="en-US" sz="4400" spc="-1" strike="noStrike">
              <a:solidFill>
                <a:srgbClr val="9966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12:27:56Z</dcterms:created>
  <dc:creator>Новикова Наталья Григорьевна</dc:creator>
  <dc:description/>
  <dc:language>en-US</dc:language>
  <cp:lastModifiedBy>Admin</cp:lastModifiedBy>
  <dcterms:modified xsi:type="dcterms:W3CDTF">2012-10-23T15:05:03Z</dcterms:modified>
  <cp:revision>54</cp:revision>
  <dc:subject/>
  <dc:title>180 лет со дня рождения Л.Н. Толстого</dc:title>
</cp:coreProperties>
</file>