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16.jpeg" ContentType="image/jpeg"/>
  <Override PartName="/ppt/media/image15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8.gif" ContentType="image/gif"/>
  <Override PartName="/ppt/media/image13.jpeg" ContentType="image/jpe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8D11-7502-48C9-A062-BAEBE3A8E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DF2A-8F9F-43A2-8798-7B246D832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AC39-8D5B-4102-A385-4CE47E441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B18E-ABAB-4E7E-960E-4E38FE7D9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53A78-C226-48A1-B96D-0BAE836EE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537E6-D854-452D-A97C-DF5786D9E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7BF4F-BA43-41B9-906F-9F4DF14F9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2AB96-287E-4640-A10B-B3650E5E2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6E218-FFC0-4635-AA2B-2A5959B39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E96B5-6ACD-4E58-B032-0E2514F42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F7575-DA3E-45F1-A7D1-9C630D8B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A8E8-BB4F-4DF8-B029-EA2C919D8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91DC3-3E70-46CA-9E94-17D728BE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43F97-E40C-479E-A814-2AE37EA8B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F46E2-305F-4794-9CA4-90505A84F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FA179-DAC3-494A-90E8-76362ACCC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9164D-7642-4B30-9142-6244B3E94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98F4D-E618-4957-AEF0-02427F000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18D8E-BB68-41B7-A811-FB98B3B00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EF2D8-C665-4F17-981D-600ED4FFA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CFD42-05B2-4C34-896B-A7072F18D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18182-1170-44C7-87ED-D207C80C1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4087-A6C8-4986-97AD-81346D2CF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20890-83EF-46CB-99E1-41B066568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C0F89-A89F-4EB7-B5AF-A60EEA46B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4D3ED-9C11-44CE-84FC-18BCAE66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2B794-83AE-4CDB-AAF2-86E36C50F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FCE0B-5D46-4377-9869-14C467D21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22E1E-62F1-40DB-BCA9-484192597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7BA9B-C0D7-470A-8241-24D122AE5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D1D39-E0A0-48E8-BC6B-ECD8BB76D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D875C-BC73-44DA-BD1C-DEFF49D82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E4BBB-F0B5-4CC8-8647-90CA917DF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B959-F911-4512-AA49-8DB1FCB60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9C1E5-4ACA-488E-91CC-F6496ACA4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8AE27-4E24-453A-B3D5-A22311B94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EFB7C-A439-4F20-8990-9E4F7EAC1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2B89D-312F-4DF9-A0D8-BE7C39FE9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7222B-75CB-4FC4-9713-52FF8E96B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CAE5B-E175-41C4-921F-3F29BA2EC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7AE98-FD91-45E8-9B26-AFEF4C6A2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5501F-321E-409B-939E-FA1C71ACB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38AB4-9D37-4058-95D1-12A479EEB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C389-1D61-43EE-BC95-CF63249DE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E888-96D9-4C90-92D1-550311A09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B368-D7F8-4D7F-8AEF-D7F12673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1DF2-A572-4736-A6A6-04A8C5656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0C84-569C-49F2-97B1-D6B3779CB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5020D-DA42-40D0-BC6E-F167CA278F56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A0AA7-2892-4FEF-A6BE-A3785AD8D37D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5A547-70FB-4331-9464-5C84C37376E6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F62CF-96DC-4608-806A-720E4ECADCEA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8.gif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2642760" y="5000400"/>
            <a:ext cx="4467240" cy="9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МКОУ «ТООШ»  начальные классы      2014 год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5" name="Заголовок 2" descr=""/>
          <p:cNvPicPr/>
          <p:nvPr/>
        </p:nvPicPr>
        <p:blipFill>
          <a:blip r:embed="rId1"/>
          <a:stretch/>
        </p:blipFill>
        <p:spPr>
          <a:xfrm>
            <a:off x="811080" y="281160"/>
            <a:ext cx="7186680" cy="4651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793520" y="6143760"/>
            <a:ext cx="651204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57120" y="285480"/>
            <a:ext cx="84297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 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 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Применение ИКТ в образовательном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процессе, позволяет решать одну из важных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задач обучения – </a:t>
            </a: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повышение уровня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знаний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 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Информационные технологии только для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ищущих, любящих осваивать новое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учителей. Они для тех, кому небезразличен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уровень своей профессиональной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компетентности, кого беспокоит, насколько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он, педагог современной российской школы,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соответствует требованиям века грядущего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Мини –сайты у учителей Титовой Г.С.,Похожаловой З. В. Чепель О.А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WordArt 2"/>
          <p:cNvSpPr txBox="1"/>
          <p:nvPr/>
        </p:nvSpPr>
        <p:spPr>
          <a:xfrm>
            <a:off x="611280" y="1928880"/>
            <a:ext cx="8175600" cy="28573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48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0">
                  <a:noFill/>
                </a:ln>
                <a:solidFill>
                  <a:srgbClr val="000000"/>
                </a:solidFill>
                <a:latin typeface="Tahoma"/>
              </a:rPr>
              <a:t> </a:t>
            </a:r>
            <a:endParaRPr b="0" lang="en-US" sz="6600" spc="1" strike="noStrike">
              <a:ln w="0">
                <a:noFill/>
              </a:ln>
              <a:solidFill>
                <a:srgbClr val="000000"/>
              </a:solidFill>
              <a:latin typeface="Tahoma"/>
              <a:ea typeface="Tahoma"/>
            </a:endParaRPr>
          </a:p>
        </p:txBody>
      </p:sp>
      <p:pic>
        <p:nvPicPr>
          <p:cNvPr id="240" name="Picture 5" descr="e4404eced2f23a5fde3f48c7232c2b30 - копия"/>
          <p:cNvPicPr/>
          <p:nvPr/>
        </p:nvPicPr>
        <p:blipFill>
          <a:blip r:embed="rId1"/>
          <a:stretch/>
        </p:blipFill>
        <p:spPr>
          <a:xfrm>
            <a:off x="5076720" y="2349360"/>
            <a:ext cx="1238400" cy="17146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6" descr="e4404eced2f23a5fde3f48c7232c2b30 - копия"/>
          <p:cNvPicPr/>
          <p:nvPr/>
        </p:nvPicPr>
        <p:blipFill>
          <a:blip r:embed="rId2"/>
          <a:stretch/>
        </p:blipFill>
        <p:spPr>
          <a:xfrm>
            <a:off x="179280" y="0"/>
            <a:ext cx="1238400" cy="17146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7" descr="e4404eced2f23a5fde3f48c7232c2b30 - копия"/>
          <p:cNvPicPr/>
          <p:nvPr/>
        </p:nvPicPr>
        <p:blipFill>
          <a:blip r:embed="rId3"/>
          <a:stretch/>
        </p:blipFill>
        <p:spPr>
          <a:xfrm>
            <a:off x="2916360" y="1125360"/>
            <a:ext cx="1238040" cy="17146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8" descr="e4404eced2f23a5fde3f48c7232c2b30 - копия"/>
          <p:cNvPicPr/>
          <p:nvPr/>
        </p:nvPicPr>
        <p:blipFill>
          <a:blip r:embed="rId4"/>
          <a:stretch/>
        </p:blipFill>
        <p:spPr>
          <a:xfrm>
            <a:off x="900000" y="1197000"/>
            <a:ext cx="1238400" cy="17143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e4404eced2f23a5fde3f48c7232c2b30 - копия"/>
          <p:cNvPicPr/>
          <p:nvPr/>
        </p:nvPicPr>
        <p:blipFill>
          <a:blip r:embed="rId5"/>
          <a:stretch/>
        </p:blipFill>
        <p:spPr>
          <a:xfrm>
            <a:off x="7380360" y="4653000"/>
            <a:ext cx="1238040" cy="17143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0" descr="e4404eced2f23a5fde3f48c7232c2b30 - копия"/>
          <p:cNvPicPr/>
          <p:nvPr/>
        </p:nvPicPr>
        <p:blipFill>
          <a:blip r:embed="rId6"/>
          <a:stretch/>
        </p:blipFill>
        <p:spPr>
          <a:xfrm>
            <a:off x="5500800" y="785880"/>
            <a:ext cx="1238040" cy="17143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1" descr="e4404eced2f23a5fde3f48c7232c2b30 - копия"/>
          <p:cNvPicPr/>
          <p:nvPr/>
        </p:nvPicPr>
        <p:blipFill>
          <a:blip r:embed="rId7"/>
          <a:stretch/>
        </p:blipFill>
        <p:spPr>
          <a:xfrm>
            <a:off x="5364000" y="4221000"/>
            <a:ext cx="1238400" cy="17146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2" descr="e4404eced2f23a5fde3f48c7232c2b30 - копия"/>
          <p:cNvPicPr/>
          <p:nvPr/>
        </p:nvPicPr>
        <p:blipFill>
          <a:blip r:embed="rId8"/>
          <a:stretch/>
        </p:blipFill>
        <p:spPr>
          <a:xfrm>
            <a:off x="7093080" y="2924280"/>
            <a:ext cx="1238040" cy="1714320"/>
          </a:xfrm>
          <a:prstGeom prst="rect">
            <a:avLst/>
          </a:prstGeom>
          <a:ln w="0">
            <a:noFill/>
          </a:ln>
        </p:spPr>
      </p:pic>
      <p:sp>
        <p:nvSpPr>
          <p:cNvPr id="248" name="TextBox 12"/>
          <p:cNvSpPr/>
          <p:nvPr/>
        </p:nvSpPr>
        <p:spPr>
          <a:xfrm>
            <a:off x="0" y="57168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Все уроки, как люди, похожи и разные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Если к ним приглядеться с различных сторон: Ведь бывают уроки, как радостный праздник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А бывают они, как мучительный сон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Прямоугольник 13"/>
          <p:cNvSpPr/>
          <p:nvPr/>
        </p:nvSpPr>
        <p:spPr>
          <a:xfrm>
            <a:off x="428760" y="2940120"/>
            <a:ext cx="7858080" cy="16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меть учиться вместе со своими учениками, самостоятельно закрывая свои «образовательные дыры»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Прямоугольник 1"/>
          <p:cNvSpPr/>
          <p:nvPr/>
        </p:nvSpPr>
        <p:spPr>
          <a:xfrm>
            <a:off x="1143000" y="1928880"/>
            <a:ext cx="728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d0d0d"/>
                </a:solidFill>
                <a:latin typeface="Cambria"/>
              </a:rPr>
              <a:t>СПАСИБО  ЗА  ВНИМАНИЕ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472760" y="5428800"/>
            <a:ext cx="563724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pic>
        <p:nvPicPr>
          <p:cNvPr id="217" name="Заголовок 2" descr=""/>
          <p:cNvPicPr/>
          <p:nvPr/>
        </p:nvPicPr>
        <p:blipFill>
          <a:blip r:embed="rId1"/>
          <a:stretch/>
        </p:blipFill>
        <p:spPr>
          <a:xfrm>
            <a:off x="706320" y="493560"/>
            <a:ext cx="7188480" cy="5085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472760" y="5656680"/>
            <a:ext cx="563724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212745"/>
              </a:solidFill>
              <a:latin typeface="Trebuchet MS"/>
            </a:endParaRPr>
          </a:p>
        </p:txBody>
      </p:sp>
      <p:pic>
        <p:nvPicPr>
          <p:cNvPr id="219" name="Заголовок 2" descr=""/>
          <p:cNvPicPr/>
          <p:nvPr/>
        </p:nvPicPr>
        <p:blipFill>
          <a:blip r:embed="rId1"/>
          <a:stretch/>
        </p:blipFill>
        <p:spPr>
          <a:xfrm>
            <a:off x="853920" y="304920"/>
            <a:ext cx="7296480" cy="5578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793520" y="5929200"/>
            <a:ext cx="651204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143000" y="731880"/>
            <a:ext cx="64008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Учителя нашей школы уже не являются единственным источником правильных знаний, а их  мнение существует на уроке наряду с мнениями учащихся. 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        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Урок литературного чтения   1 класс                              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2" name="Рисунок 3" descr="P1050439.JPG"/>
          <p:cNvPicPr/>
          <p:nvPr/>
        </p:nvPicPr>
        <p:blipFill>
          <a:blip r:embed="rId1"/>
          <a:stretch/>
        </p:blipFill>
        <p:spPr>
          <a:xfrm>
            <a:off x="1785960" y="2714760"/>
            <a:ext cx="5572080" cy="3714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793520" y="6357960"/>
            <a:ext cx="651204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713880" y="731520"/>
            <a:ext cx="785844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Педагоги нашей школы организовывают обучение таким образом, чтобы оно стимулировало интерес, желание вместе думать и дискутировать, ставить оригинальные вопросы, проявлять независимое мышление, формулирование идей, высказывание разнообразных точек зрения. Чтобы оно мотивировало бы учащихся к более высоким достижениям и интеллектуальному росту.         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Работа в парах,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     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группах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5" name="Picture 14" descr="H:\2 класс\фото урок\P1050551.JPG"/>
          <p:cNvPicPr/>
          <p:nvPr/>
        </p:nvPicPr>
        <p:blipFill>
          <a:blip r:embed="rId1"/>
          <a:stretch/>
        </p:blipFill>
        <p:spPr>
          <a:xfrm>
            <a:off x="3500280" y="3143160"/>
            <a:ext cx="5369040" cy="3122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f1b57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071360" y="500040"/>
            <a:ext cx="70722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rebuchet MS"/>
              </a:rPr>
              <a:t>    </a:t>
            </a:r>
            <a:r>
              <a:rPr b="0" lang="ru-RU" sz="3600" spc="-1" strike="noStrike">
                <a:solidFill>
                  <a:srgbClr val="404040"/>
                </a:solidFill>
                <a:latin typeface="Trebuchet MS"/>
              </a:rPr>
              <a:t>«</a:t>
            </a:r>
            <a:r>
              <a:rPr b="0" i="1" lang="ru-RU" sz="3600" spc="-1" strike="noStrike">
                <a:solidFill>
                  <a:srgbClr val="404040"/>
                </a:solidFill>
                <a:latin typeface="Trebuchet MS"/>
              </a:rPr>
              <a:t>Научить человека жить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04040"/>
                </a:solidFill>
                <a:latin typeface="Trebuchet MS"/>
              </a:rPr>
              <a:t>  </a:t>
            </a:r>
            <a:r>
              <a:rPr b="0" i="1" lang="ru-RU" sz="3600" spc="-1" strike="noStrike">
                <a:solidFill>
                  <a:srgbClr val="404040"/>
                </a:solidFill>
                <a:latin typeface="Trebuchet MS"/>
              </a:rPr>
              <a:t>в информационном мире –    важнейшая задача  современной школы»</a:t>
            </a:r>
            <a:r>
              <a:rPr b="0" lang="ru-RU" sz="3600" spc="-1" strike="noStrike">
                <a:solidFill>
                  <a:srgbClr val="404040"/>
                </a:solidFill>
                <a:latin typeface="Trebuchet MS"/>
              </a:rPr>
              <a:t> 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04040"/>
                </a:solidFill>
                <a:latin typeface="Trebuchet MS"/>
              </a:rPr>
              <a:t>     </a:t>
            </a:r>
            <a:r>
              <a:rPr b="0" i="1" lang="ru-RU" sz="3600" spc="-1" strike="noStrike" u="sng">
                <a:solidFill>
                  <a:srgbClr val="404040"/>
                </a:solidFill>
                <a:uFillTx/>
                <a:latin typeface="Trebuchet MS"/>
              </a:rPr>
              <a:t>Академик  А.П. Семенов</a:t>
            </a:r>
            <a:br>
              <a:rPr sz="3600"/>
            </a:br>
            <a:br>
              <a:rPr sz="2200"/>
            </a:b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" name="Прямоугольник 4"/>
          <p:cNvSpPr/>
          <p:nvPr/>
        </p:nvSpPr>
        <p:spPr>
          <a:xfrm>
            <a:off x="500040" y="4714920"/>
            <a:ext cx="835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Наряду с обучением навыкам чтения, письма и счета важно учить детей использованию цифровой техник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793520" y="6214680"/>
            <a:ext cx="651204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f1b57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13840" y="642600"/>
            <a:ext cx="85726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80000"/>
              </a:lnSpc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ru-RU" sz="2600" spc="-1" strike="noStrike">
                <a:solidFill>
                  <a:srgbClr val="404040"/>
                </a:solidFill>
                <a:latin typeface="Trebuchet MS"/>
              </a:rPr>
              <a:t>«Мы живем в эпоху, когда расстояние от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04040"/>
                </a:solidFill>
                <a:latin typeface="Trebuchet MS"/>
              </a:rPr>
              <a:t>самых безумных фантазий до совершенно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04040"/>
                </a:solidFill>
                <a:latin typeface="Trebuchet MS"/>
              </a:rPr>
              <a:t>реальной действительности сокращается с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04040"/>
                </a:solidFill>
                <a:latin typeface="Trebuchet MS"/>
              </a:rPr>
              <a:t>невероятной быстротой», - писал в свое время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04040"/>
                </a:solidFill>
                <a:latin typeface="Trebuchet MS"/>
              </a:rPr>
              <a:t>М. Горький. И сейчас, в век сплошной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04040"/>
                </a:solidFill>
                <a:latin typeface="Trebuchet MS"/>
              </a:rPr>
              <a:t>компьютеризации, когда техника шагнула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04040"/>
                </a:solidFill>
                <a:latin typeface="Trebuchet MS"/>
              </a:rPr>
              <a:t>далеко вперед, когда компьютер в каждом доме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04040"/>
                </a:solidFill>
                <a:latin typeface="Trebuchet MS"/>
              </a:rPr>
              <a:t>стал привычной вещью, особенно актуально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04040"/>
                </a:solidFill>
                <a:latin typeface="Trebuchet MS"/>
              </a:rPr>
              <a:t>звучат другие его слова: «В карете прошлого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04040"/>
                </a:solidFill>
                <a:latin typeface="Trebuchet MS"/>
              </a:rPr>
              <a:t>никуда не уедешь…».  Современный учитель должен шагать в ногу со  временем.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04040"/>
                </a:solidFill>
                <a:latin typeface="Trebuchet MS"/>
              </a:rPr>
              <a:t>Остановившегося обгонит время!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4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Rectangle 2" descr=""/>
          <p:cNvPicPr/>
          <p:nvPr/>
        </p:nvPicPr>
        <p:blipFill>
          <a:blip r:embed="rId1"/>
          <a:stretch/>
        </p:blipFill>
        <p:spPr>
          <a:xfrm>
            <a:off x="-6480" y="-182520"/>
            <a:ext cx="9156960" cy="17431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0" y="428400"/>
            <a:ext cx="885816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1825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411120" indent="-18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-   Повышает качество знаний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11120" indent="-18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- Продвигает ребёнка в общем развитии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11120" indent="-18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- Помогает преодолеть трудности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11120" indent="-18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- Вносит радость в жизнь ребёнка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11120" indent="-182520">
              <a:lnSpc>
                <a:spcPct val="9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43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3" name="Picture 2" descr="H:\2 класс\фото урок\P1050552.JPG"/>
          <p:cNvPicPr/>
          <p:nvPr/>
        </p:nvPicPr>
        <p:blipFill>
          <a:blip r:embed="rId2"/>
          <a:stretch/>
        </p:blipFill>
        <p:spPr>
          <a:xfrm>
            <a:off x="1857240" y="3000240"/>
            <a:ext cx="5254920" cy="3500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-360" y="0"/>
            <a:ext cx="889308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18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- Создает благоприятные условия для лучшего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11120" indent="-18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   </a:t>
            </a: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взаимопонимания учителя и учащихся и их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11120" indent="-18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   </a:t>
            </a: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сотрудничества в учебном процессе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11120" indent="-18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- Раскрывает творческий потенциал обучающихс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11120" indent="-18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(участие в конкурсах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11120" indent="-18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-  Способствует формированию информационно-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11120" indent="-18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коммуникативной компетентности обучающихся, повышает их активность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11120" indent="-18252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6" name="Picture 4" descr="I:\DSC00174.JPG"/>
          <p:cNvPicPr/>
          <p:nvPr/>
        </p:nvPicPr>
        <p:blipFill>
          <a:blip r:embed="rId1"/>
          <a:stretch/>
        </p:blipFill>
        <p:spPr>
          <a:xfrm>
            <a:off x="2340000" y="3429000"/>
            <a:ext cx="4897440" cy="3313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12:50:32Z</dcterms:created>
  <dc:creator>Аким</dc:creator>
  <dc:description/>
  <dc:language>en-US</dc:language>
  <cp:lastModifiedBy>Общий</cp:lastModifiedBy>
  <cp:lastPrinted>2014-04-21T09:09:16Z</cp:lastPrinted>
  <dcterms:modified xsi:type="dcterms:W3CDTF">2014-11-01T15:29:16Z</dcterms:modified>
  <cp:revision>77</cp:revision>
  <dc:subject/>
  <dc:title>ИСПОЛЬЗОВАНИЕ ИКТ НА УРОКАХ В НАЧАЛЬНОЙ ШКОЛЕ</dc:title>
</cp:coreProperties>
</file>