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B07-4025-41ED-B7B6-E52BB0F9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D77-16DD-4F56-B61E-0B8E239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00A-DC44-430A-B15F-50CA8025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978-992F-481A-8DEF-09CBED33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196-7A74-4CEA-AC59-587B903E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D82-9936-4208-98B0-43CD0F3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523-1549-4184-B444-D914477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DA0-0110-4FD9-A327-65F2CB5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322-131F-4660-93A2-B41F5CB3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1BA-B325-4837-BFA8-34D4B1A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606-330F-49BE-B2A9-1C2574E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FA8-8CF6-4079-A50B-9CB0E2B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1F24-A3A2-47D2-A00A-9EF25C7B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&#1082;&#1072;&#1088;&#1090;&#1080;&#1085;&#1082;&#1080;-&#1082;&#1085;&#1080;&#1075;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 класс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Орфографическая разминка</a:t>
            </a:r>
            <a:br>
              <a:rPr sz="4400"/>
            </a:b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к уроку русского языка</a:t>
            </a:r>
            <a:br>
              <a:rPr sz="4000"/>
            </a:b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по теме: «Связь слов – названий и слов - призн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подготовила Михайлова Надежда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октябрь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3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торить изученные орфограммы; вспомнить части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Технолог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заимного диалог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след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цени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0" descr="http://klub-drug.ru/wp-content/uploads/2011/04/картинки-книг1-150x15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573360"/>
            <a:ext cx="27972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78560" y="4105440"/>
            <a:ext cx="3565440" cy="2752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Спишите слова. Поставьте знак ударения, устно подберите проверочны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590544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…да, м…ря, сн…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берите к данным именам существительным подходящие по смыслу имена прилага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Что вы знаете об именах существитель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Что вы знаете об именах прилагатель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23306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Разделите на слоги и для переноса имена прилаг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Чистый, школьные, золотая, си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К каким именам существительным можно подобрать эти имена прилагатель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пишите предложение.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йдите имена существительные и имена прилаг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Летом Ольга и Игорь ж…ли у кр…сивой р…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5013360"/>
            <a:ext cx="5256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Спишите предложение. Подчеркните основу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На скотном дв…ре заб…лел малень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ий жеребё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Выпишите словосочетания сущ. + пр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916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Что же вы уже знаете о частях ре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Имя существитель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Имя прилагатель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593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одолжим урок, совершая новые открыт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3056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5938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9:58:52Z</dcterms:created>
  <dc:creator>Школа</dc:creator>
  <dc:description/>
  <dc:language>en-US</dc:language>
  <cp:lastModifiedBy>Школа</cp:lastModifiedBy>
  <dcterms:modified xsi:type="dcterms:W3CDTF">2014-10-26T10:35:12Z</dcterms:modified>
  <cp:revision>2</cp:revision>
  <dc:subject/>
  <dc:title>2 класс Орфографическая разминка к уроку русского языка по теме: «Связь слов – названий и слов - признаков</dc:title>
</cp:coreProperties>
</file>