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457E-4EB5-4984-9537-F211377D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9ADE-FAF7-4178-A99B-3AB78DFE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A382-9B44-47E7-AED5-FE1F363C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57DC-2765-42F7-9522-0672B1A52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29EA-D181-42DA-B0A6-590EA9EC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E638-8CB6-4C25-A160-849BFE2C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A7D6-0FA9-421B-BFBF-2AA8CD77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A249-ADE9-4248-85F0-4C6907E6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B98A-10FD-411B-9849-0DE92737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35DA-C348-4427-86C0-94479845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940D-9B88-4176-A82A-DA71512D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F929-3704-461F-8EFF-5A3BEFB7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7F8F-BDAE-4B80-9AFF-65BCCDC52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klub-drug.ru/wp-content/uploads/2011/04/&#1082;&#1072;&#1088;&#1090;&#1080;&#1085;&#1082;&#1080;-&#1082;&#1085;&#1080;&#1075;1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025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2 класс</a:t>
            </a:r>
            <a:br>
              <a:rPr sz="4400"/>
            </a:b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Орфографическая разминка</a:t>
            </a:r>
            <a:br>
              <a:rPr sz="4400"/>
            </a:b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к уроку русского языка</a:t>
            </a:r>
            <a:br>
              <a:rPr sz="4000"/>
            </a:b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по теме: «Связь слов – названий и слов - призна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подготовила Михайлова Надежда Юрьев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октябрь 2014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2472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53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Цель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вторить изученные орфограммы; вспомнить части реч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Технологи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заимного диалог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сследовани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ценив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0" descr="http://klub-drug.ru/wp-content/uploads/2011/04/картинки-книг1-150x150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3573360"/>
            <a:ext cx="279720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78560" y="4105440"/>
            <a:ext cx="3565440" cy="2752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Спишите слова. Поставьте знак ударения, устно подберите проверочные сло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2491920"/>
            <a:ext cx="590544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В…да, м…ря, сн…г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дберите к данным именам существительным подходящие по смыслу имена прилагательны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Что вы знаете об именах существительны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Что вы знаете об именах прилагательны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708360" y="4005360"/>
            <a:ext cx="233064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Разделите на слоги и для переноса имена прилагате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Чистый, школьные, золотая, сине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К каким именам существительным можно подобрать эти имена прилагательны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Спишите предложение.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Найдите имена существительные и имена прилагате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328428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Летом Ольга и Игорь ж…ли у кр…сивой р…к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56000" y="5013360"/>
            <a:ext cx="5256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"/>
              </a:rPr>
              <a:t>Спишите предложение. Подчеркните основу предлож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На скотном дв…ре заб…лел малень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кий жеребёно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Arial"/>
              </a:rPr>
              <a:t>Выпишите словосочетания сущ. + при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227640" y="1916280"/>
            <a:ext cx="2916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Что же вы уже знаете о частях реч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Имя существительно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Имя прилагательно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03640" y="4005360"/>
            <a:ext cx="25938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Продолжим урок, совершая новые открыти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184720" cy="3056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740720" y="530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59382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6T09:58:52Z</dcterms:created>
  <dc:creator>Школа</dc:creator>
  <dc:description/>
  <dc:language>en-US</dc:language>
  <cp:lastModifiedBy>Школа</cp:lastModifiedBy>
  <dcterms:modified xsi:type="dcterms:W3CDTF">2014-10-26T10:35:12Z</dcterms:modified>
  <cp:revision>2</cp:revision>
  <dc:subject/>
  <dc:title>2 класс Орфографическая разминка к уроку русского языка по теме: «Связь слов – названий и слов - признаков</dc:title>
</cp:coreProperties>
</file>