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078F-F657-4B10-82BC-CDC4A0B27E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3B9E-73B7-4835-8E97-548E5B559D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F6BC-6F90-4B41-9434-A908C8FF3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AD29-ECD1-4621-808B-A0034BBB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F080-89DC-4692-9D30-DA818E721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7DB4-960C-418E-AF8B-F0A0B3B2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D098-3708-4ADA-B54C-A27DBDF01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7C79-B55E-4BD3-9240-308FE28A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E3DE-4451-4CDE-AD98-99C434BF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210D-08BF-4B93-A207-7B1399E0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A73D-855B-450E-BED2-34161EED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AB44-759B-4AA7-BF4B-DDC6AE61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8D3D-6B7E-408E-ADD4-B59C3841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9545-23F6-4D96-8295-3E4381E9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7666-0945-4BF8-80A3-C87749FC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9E41-BC18-424D-9359-F8576F6E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BCA3-813F-4C34-A332-3151BE58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F552-FD25-4054-92FA-5D9836F01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3A47-AA4B-4171-80CC-8B948E93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FD79-AF42-480D-AAD8-00823872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F68F-B896-45E5-8F70-D948130D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4D49-D42E-444B-941D-26D78E8C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E3A1-F1B7-43FE-B114-AFD67FE0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FDFD-54F8-4AE8-BA88-6EA055CD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477D-06A3-4A6D-8FE6-AF9F4CE7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34BC-1828-46C3-90D2-7AEE6E0B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3757-E4B4-4DB1-95D9-FD293B308F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FBB6-8599-495A-A1A9-EDB733069F8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24000" y="333360"/>
            <a:ext cx="94680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7"/>
                </a:solidFill>
                <a:latin typeface="Arial Black"/>
              </a:rPr>
              <a:t>МОБУ «Сясьстройская средняя общеобразовательная школа №1»</a:t>
            </a:r>
            <a:br>
              <a:rPr sz="1600"/>
            </a:br>
            <a:r>
              <a:rPr b="1" lang="ru-RU" sz="1600" spc="-1" strike="noStrike">
                <a:solidFill>
                  <a:srgbClr val="ffffb7"/>
                </a:solidFill>
                <a:latin typeface="Arial Black"/>
              </a:rPr>
              <a:t>Волховского района Ленинградской области </a:t>
            </a:r>
            <a:br>
              <a:rPr sz="16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«Кто нас защищает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0" y="4508640"/>
            <a:ext cx="914400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Meiryo UI"/>
              </a:rPr>
              <a:t>Выполнила: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Meiryo UI"/>
              </a:rPr>
              <a:t>ученица 3Б класса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Meiryo UI"/>
              </a:rPr>
              <a:t>Сидорова Елизавета Дмитриевна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Meiryo UI"/>
              </a:rPr>
              <a:t>                Преподаватель: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Meiryo UI"/>
              </a:rPr>
              <a:t>                                           Алексеева Наталья Владими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Meiryo UI"/>
              </a:rPr>
              <a:t>20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&amp;Pcy;&amp;ocy;&amp;zhcy;&amp;acy;&amp;rcy;&amp;ncy;&amp;ycy;&amp;iecy; &amp;ocy;&amp;dcy;&amp;iecy;&amp;tcy;&amp;ycy; &amp;vcy; &amp;scy;&amp;pcy;&amp;iecy;&amp;tscy;&amp;icy;&amp;acy;&amp;lcy;&amp;softcy;&amp;ncy;&amp;ycy;&amp;iecy; &amp;ocy;&amp;gcy;&amp;ncy;&amp;iecy;&amp;ucy;&amp;pcy;&amp;ocy;&amp;rcy;&amp;ncy;&amp;ycy;&amp;iecy; &amp;kcy;&amp;ocy;&amp;scy;&amp;tcy;&amp;yucy;&amp;mcy;&amp;ycy;, &amp;acy; &amp;gcy;&amp;ocy;&amp;lcy;&amp;ocy;&amp;vcy;&amp;ucy; &amp;zcy;&amp;acy;&amp;shchcy;&amp;icy;&amp;shchcy;&amp;acy;&amp;iecy;&amp;tcy;"/>
          <p:cNvPicPr/>
          <p:nvPr/>
        </p:nvPicPr>
        <p:blipFill>
          <a:blip r:embed="rId1"/>
          <a:stretch/>
        </p:blipFill>
        <p:spPr>
          <a:xfrm>
            <a:off x="2050920" y="1484280"/>
            <a:ext cx="5400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ывод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случился пожар, сразу вызывайте пожар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и самоотверженные отважные люди помогут вам в чрезвычайной ситу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&amp;Bcy;&amp;ycy;&amp;tcy;&amp;softcy; &amp;pcy;&amp;ocy;&amp;zhcy;&amp;acy;&amp;rcy;&amp;ncy;&amp;icy;&amp;kcy;&amp;ocy;&amp;mcy; – &amp;ocy;&amp;chcy;&amp;iecy;&amp;ncy;&amp;softcy; &amp;ocy;&amp;pcy;&amp;acy;&amp;scy;&amp;ncy;&amp;acy;&amp;yacy; &amp;icy; &amp;rcy;&amp;icy;&amp;scy;&amp;kcy;&amp;ocy;&amp;vcy;&amp;acy;&amp;ncy;&amp;ncy;&amp;acy;&amp;yacy; &amp;pcy;&amp;rcy;&amp;ocy;&amp;fcy;&amp;iecy;&amp;scy;&amp;scy;&amp;icy;&amp;yacy;"/>
          <p:cNvPicPr/>
          <p:nvPr/>
        </p:nvPicPr>
        <p:blipFill>
          <a:blip r:embed="rId1"/>
          <a:stretch/>
        </p:blipFill>
        <p:spPr>
          <a:xfrm>
            <a:off x="539640" y="733320"/>
            <a:ext cx="828036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5496"/>
          <p:cNvPicPr/>
          <p:nvPr/>
        </p:nvPicPr>
        <p:blipFill>
          <a:blip r:embed="rId1"/>
          <a:stretch/>
        </p:blipFill>
        <p:spPr>
          <a:xfrm>
            <a:off x="762120" y="928800"/>
            <a:ext cx="77706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8510"/>
          <p:cNvPicPr/>
          <p:nvPr/>
        </p:nvPicPr>
        <p:blipFill>
          <a:blip r:embed="rId1"/>
          <a:stretch/>
        </p:blipFill>
        <p:spPr>
          <a:xfrm>
            <a:off x="826920" y="433440"/>
            <a:ext cx="741708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1366549358_9f6907e1ebcaed31ac93bc75dc9db3fe"/>
          <p:cNvPicPr/>
          <p:nvPr/>
        </p:nvPicPr>
        <p:blipFill>
          <a:blip r:embed="rId1"/>
          <a:stretch/>
        </p:blipFill>
        <p:spPr>
          <a:xfrm>
            <a:off x="684360" y="512640"/>
            <a:ext cx="763272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http://mignews.com.ua/files/galleries/201211/126204/13540992789274.jpg"/>
          <p:cNvPicPr/>
          <p:nvPr/>
        </p:nvPicPr>
        <p:blipFill>
          <a:blip r:embed="rId1"/>
          <a:stretch/>
        </p:blipFill>
        <p:spPr>
          <a:xfrm>
            <a:off x="2700360" y="404640"/>
            <a:ext cx="38592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потез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58400" y="2530440"/>
            <a:ext cx="7216920" cy="13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жарные помогают людям в случае возникновения пожа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Цел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знать, как пожарные защищают на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Ход исследов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ая одежда пожарно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пожарные тушат пожа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чные качества пожарно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ая машина у пожар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мер юного помощника пожарно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539640" y="1971720"/>
            <a:ext cx="842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пожарных есть одежда, которая  сделана из специальной ткани. Она почти не горит. На голове у них стальная каска, на ногах — прочные и удобные сапоги. Ведь пожарный бесстрашно идет в огонь!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жар заливают водой из специальных шлангов-рукавов. Воду в шланги накачивает насос, который есть на пожарной машине. Кроме того, используют специальную пену, которая есть  в огнетушителях. Пожарные бесстрашно пробираются в горящие здания, спасают людей. Помогает им высокая складная лестница, по которой они проникают внутрь горящего дома через окна и балконы. Иногда к делу подключаются и пожарные вертолеты, они помогают спасать людей из горящих многоэтажных здан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жарный должен быт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рабрым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ыносливым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ловким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ильным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быстро принимать решения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уметь оказать первую медицинскую помощ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обладать этими навыками и умениями, пожарные постоянно проводят специальные учения, занимаются в спортивных залах. Они отрабатывают возможные во время пожара ситуации. Например, закинуть спасательную верёвку на подоконник и забраться по ней в течение шести секун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9528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У пожарных есть специальные машины. Они снабжены цистерной с водой, баком со специальной пеной, длинными шлангами – рукавами, складной лестницей. Ещё у пожарной машины есть сирена. Когда машина мчится по улице ей все уступают дорогу. На пожаре  оценивается  сложность ситуации, и, при необходимости, вызывается ещё несколько машин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5880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3-летний Алексей Киселев спас двоих детей от верной смерти и получил медаль "За отвагу на пожаре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феврале  в поселке Лесное Ленинградской области случился пожар. Алексей вместе с двумя младшими детьми в этот момент находился в квартире. Там же был и взрослый мужчина, знакомый их родителей, все спали. От дыма и гари мальчик проснулся и, не растерявшись, вынес из горящей квартиры шестимесячного ребёнка. Потом вернулся за двухлетним. Устроив детей в безопасном месте, он вновь вернулся в горящую квартиру, чтобы спасти из огня взрослого. Но добраться до мужчины ему не удалось, гость погиб. За мужественный и самоотверженный поступок Леша награжден медалью "За отвагу на пожаре»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9T08:58:55Z</dcterms:created>
  <dc:creator>Admin</dc:creator>
  <dc:description/>
  <dc:language>en-US</dc:language>
  <cp:lastModifiedBy>Наталья Алексеева</cp:lastModifiedBy>
  <dcterms:modified xsi:type="dcterms:W3CDTF">2014-08-21T16:48:36Z</dcterms:modified>
  <cp:revision>12</cp:revision>
  <dc:subject/>
  <dc:title>Тема: Кто нас защищает</dc:title>
</cp:coreProperties>
</file>