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B4F-1ACE-4492-8D37-BA2FC7DD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4AE-9E29-4FDF-B898-89639FDB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0C7-45A2-48C6-93D1-D118E2FF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07D-AB01-42C3-A2D4-D436F455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B8E-0E14-40F4-A849-A89FD23E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975-0CAC-4CDE-A755-96E07683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577-A8B7-465C-A9E7-BA75847F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168-D5D6-4B43-B518-8EAF863D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273-66D6-4ABF-8FE8-AFC3B6E9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4A3-8201-49B6-A6BE-75EA99E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755-0C3F-4F03-A44E-2F2B8C48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248-0F12-4644-BAD1-277AE21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B088-E803-49B2-82E3-2F184EADCD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Барельеф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Если изображение возвышается на половину своего объёма – это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барельеф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олее чем на половину –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горельеф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7775640" cy="316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49600" y="3573360"/>
            <a:ext cx="46944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24000" y="259920"/>
            <a:ext cx="46861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епим слой пластилина около 1 с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рисуем контур изобр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епим на него кусочки пластилина, хорошо их примаж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делаем, где надо, украшения, подрежем по кр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5705640"/>
            <a:ext cx="331164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45600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3456000" cy="143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3382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Ваза для цвет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384720" cy="43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25938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140360" y="3933720"/>
            <a:ext cx="47448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7:03:57Z</dcterms:created>
  <dc:creator>Admin</dc:creator>
  <dc:description/>
  <dc:language>en-US</dc:language>
  <cp:lastModifiedBy>Admin</cp:lastModifiedBy>
  <dcterms:modified xsi:type="dcterms:W3CDTF">2009-11-02T17:17:04Z</dcterms:modified>
  <cp:revision>3</cp:revision>
  <dc:subject/>
  <dc:title>Барельеф </dc:title>
</cp:coreProperties>
</file>