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898-ADBE-44C8-B21F-E310DCF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CFC-B41B-48AE-B358-FFFEC33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DF5-ACBE-4756-8B5F-16286397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D09-FBC5-42D2-9F78-AB0C2DF5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DE4-5378-4C9A-BEBD-47071F8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B26-0A52-47A0-8243-753DD58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839-69BF-4076-BDA2-B414F9C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E02-B2E6-4334-B383-34C7D768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F71-9D6D-48D1-B24D-B22ED53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CFD-09A4-4CC7-B7AE-7BB385EB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E82-15C9-4394-AE33-B96106F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7ED-9026-4120-99B7-B1DEB4A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C0B-34CE-4CA8-BD15-873F985644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Что такое симметрия?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6264360" cy="2911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73360"/>
            <a:ext cx="51516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Симметрия и асимметрия в композиции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002200" cy="309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49197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Более сложные формы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064360" cy="58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8:02:38Z</dcterms:created>
  <dc:creator>Admin</dc:creator>
  <dc:description/>
  <dc:language>en-US</dc:language>
  <cp:lastModifiedBy>Admin</cp:lastModifiedBy>
  <dcterms:modified xsi:type="dcterms:W3CDTF">2009-10-12T18:12:40Z</dcterms:modified>
  <cp:revision>1</cp:revision>
  <dc:subject/>
  <dc:title>Что такое симметрия?</dc:title>
</cp:coreProperties>
</file>