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7.jpeg" ContentType="image/jpeg"/>
  <Override PartName="/ppt/media/image9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888C-63B7-4402-8213-E88B1BF2A2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992E-E8B6-4064-80D3-7D38733DB8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A03-AFAD-45DD-8497-238FF403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692-B111-4C6C-AB99-F9509957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259-BA2B-4123-9F5D-69148EAD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F88-8408-47CD-915A-7E53336E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786-4001-4E83-BF1C-13D86136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07F-5BD5-462B-A596-3D94BF2B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663-6A7B-46D7-8F04-7F696905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92E-28F7-4F7C-8FFC-28D9BD0A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B66-BC20-4CD1-8BB5-7E71172B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94C-5733-4F71-B5FE-F3F0A9F4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1B6-45DF-4C05-8236-B1E567A7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497-CBFD-4991-AEEB-BAF86637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EF38-A257-4AA2-90D2-4E1253FA2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2349360"/>
            <a:ext cx="77724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втор: Азимов Дмитр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ченик 3г класса МБОУ СОШ №34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. Ижевска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 проекта: Юферова Г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онсультант: Азимова И.И. – м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жевск 2013-2014 учебн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_6579_.jpeg"/>
          <p:cNvPicPr/>
          <p:nvPr/>
        </p:nvPicPr>
        <p:blipFill>
          <a:blip r:embed="rId1"/>
          <a:stretch/>
        </p:blipFill>
        <p:spPr>
          <a:xfrm>
            <a:off x="428760" y="1571760"/>
            <a:ext cx="4956120" cy="331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4360" y="40464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а проекта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Достопримечательности Итал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995280" y="764640"/>
            <a:ext cx="496908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уристы со всего мира приезжают в Рим посмотреть на местные достопримечательности, которыми славится этот удивительный город Итал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ременный Рим просто пропитан духом старины и в наши дни миллионы туристов не прекращают восхищаться его непостижимой ис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достопримечательности Рима являются не просто национальной гордостью итальянцев, это — памятники миров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даром до сих пор в ходу популярна фраза: «Все дороги ведут в Рим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68360" y="-458640"/>
            <a:ext cx="8242200" cy="1231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3691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125360"/>
            <a:ext cx="8229600" cy="49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Вступлени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стория древнего Рим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Достопримечательност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Фонтан Трев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Пантеон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Ватикан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Собор Святого Пет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2195640" y="-171360"/>
            <a:ext cx="5803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уп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им — один из старейших городов мира, древняя столица Римской импери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Рим называют «городом на семи холм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ан в 753 г. до нашей э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еление  2 761 477 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609588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989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й Рим — одна из самых могущественных древних цивилизаций, получившая название от её столицы — 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 был основан одним из братьев, внуков законного царя Нумитора, Ромулом, который в ссоре убил законного брата Р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аявшись, Ромул заложил город и назвал своим име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1187280" y="0"/>
            <a:ext cx="5969160" cy="13525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рим герб др.png"/>
          <p:cNvPicPr/>
          <p:nvPr/>
        </p:nvPicPr>
        <p:blipFill>
          <a:blip r:embed="rId2"/>
          <a:stretch/>
        </p:blipFill>
        <p:spPr>
          <a:xfrm>
            <a:off x="7093080" y="174600"/>
            <a:ext cx="15112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из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мятник архитектуры Древнего Рима. Строительство началось в 72 г. н.э. императором  Васпасиа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540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рим кол6.jpg"/>
          <p:cNvPicPr/>
          <p:nvPr/>
        </p:nvPicPr>
        <p:blipFill>
          <a:blip r:embed="rId2"/>
          <a:stretch/>
        </p:blipFill>
        <p:spPr>
          <a:xfrm>
            <a:off x="1332000" y="2637000"/>
            <a:ext cx="67435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3" descr="рим фонт.jpg"/>
          <p:cNvPicPr/>
          <p:nvPr/>
        </p:nvPicPr>
        <p:blipFill>
          <a:blip r:embed="rId1"/>
          <a:stretch/>
        </p:blipFill>
        <p:spPr>
          <a:xfrm>
            <a:off x="1523880" y="1774800"/>
            <a:ext cx="6096240" cy="4322880"/>
          </a:xfrm>
          <a:prstGeom prst="rect">
            <a:avLst/>
          </a:prstGeom>
          <a:ln w="0">
            <a:noFill/>
          </a:ln>
        </p:spPr>
      </p:pic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298440" y="212760"/>
            <a:ext cx="84614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4" descr="panteon.jpg"/>
          <p:cNvPicPr/>
          <p:nvPr/>
        </p:nvPicPr>
        <p:blipFill>
          <a:blip r:embed="rId1"/>
          <a:stretch/>
        </p:blipFill>
        <p:spPr>
          <a:xfrm>
            <a:off x="1144440" y="1673280"/>
            <a:ext cx="6855120" cy="4424400"/>
          </a:xfrm>
          <a:prstGeom prst="rect">
            <a:avLst/>
          </a:prstGeom>
          <a:ln w="0">
            <a:noFill/>
          </a:ln>
        </p:spPr>
      </p:pic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334800" y="255600"/>
            <a:ext cx="838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римвати.jpg"/>
          <p:cNvPicPr/>
          <p:nvPr/>
        </p:nvPicPr>
        <p:blipFill>
          <a:blip r:embed="rId1"/>
          <a:srcRect l="0" t="0" r="0" b="6791"/>
          <a:stretch/>
        </p:blipFill>
        <p:spPr>
          <a:xfrm>
            <a:off x="952560" y="1844640"/>
            <a:ext cx="7238880" cy="4091040"/>
          </a:xfrm>
          <a:prstGeom prst="rect">
            <a:avLst/>
          </a:prstGeom>
          <a:ln w="0">
            <a:noFill/>
          </a:ln>
        </p:spPr>
      </p:pic>
      <p:pic>
        <p:nvPicPr>
          <p:cNvPr id="66" name="Заголовок 1" descr=""/>
          <p:cNvPicPr/>
          <p:nvPr/>
        </p:nvPicPr>
        <p:blipFill>
          <a:blip r:embed="rId2"/>
          <a:stretch/>
        </p:blipFill>
        <p:spPr>
          <a:xfrm>
            <a:off x="324000" y="19080"/>
            <a:ext cx="836928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одержимое 3" descr="рим петр.jpeg"/>
          <p:cNvPicPr/>
          <p:nvPr/>
        </p:nvPicPr>
        <p:blipFill>
          <a:blip r:embed="rId1"/>
          <a:stretch/>
        </p:blipFill>
        <p:spPr>
          <a:xfrm>
            <a:off x="762120" y="1854360"/>
            <a:ext cx="7619760" cy="4240080"/>
          </a:xfrm>
          <a:prstGeom prst="rect">
            <a:avLst/>
          </a:prstGeom>
          <a:ln w="0">
            <a:noFill/>
          </a:ln>
        </p:spPr>
      </p:pic>
      <p:pic>
        <p:nvPicPr>
          <p:cNvPr id="68" name="Заголовок 1" descr=""/>
          <p:cNvPicPr/>
          <p:nvPr/>
        </p:nvPicPr>
        <p:blipFill>
          <a:blip r:embed="rId2"/>
          <a:stretch/>
        </p:blipFill>
        <p:spPr>
          <a:xfrm>
            <a:off x="324000" y="212760"/>
            <a:ext cx="83692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19:54:41Z</dcterms:created>
  <dc:creator>ADMIN</dc:creator>
  <dc:description/>
  <dc:language>en-US</dc:language>
  <cp:lastModifiedBy>ADMIN</cp:lastModifiedBy>
  <dcterms:modified xsi:type="dcterms:W3CDTF">2014-05-14T20:00:00Z</dcterms:modified>
  <cp:revision>3</cp:revision>
  <dc:subject/>
  <dc:title>Слайд 1</dc:title>
</cp:coreProperties>
</file>