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398-B6C9-44F5-942F-75EF1669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0D0-BAF5-4EB4-A21F-F64E7956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8CB-4FBD-461D-9ADA-FFB69963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C5E-C338-4A05-B611-0CD648EA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7F0-09A2-47A2-8FB2-680326F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575-0EE8-46C1-8041-73E92C0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FAC-F56A-419E-B827-B4D913B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1CB-B46B-4952-B279-93F1CDF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038-4976-4E1B-B992-38F66D47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DAE-5EEB-4278-830F-9463735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DA3-0E36-43DB-A336-47BBBD2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393-FE0F-4F7C-A952-73D0D84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605-16E3-4918-9647-A5CF79AD5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7858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жданская война на территории Мордов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6 учеб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Documents and Settings\Администратор\Рабочий стол\Изображение 010.jpg"/>
          <p:cNvPicPr/>
          <p:nvPr/>
        </p:nvPicPr>
        <p:blipFill>
          <a:blip r:embed="rId1"/>
          <a:stretch/>
        </p:blipFill>
        <p:spPr>
          <a:xfrm>
            <a:off x="2071800" y="0"/>
            <a:ext cx="56037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840" y="4071960"/>
            <a:ext cx="832968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 июля белочехи захватили Симбирск, а 7 августа – Каза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6000840" y="3000240"/>
            <a:ext cx="214200" cy="2145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Выноска 1 4"/>
          <p:cNvSpPr/>
          <p:nvPr/>
        </p:nvSpPr>
        <p:spPr>
          <a:xfrm>
            <a:off x="7358040" y="2571840"/>
            <a:ext cx="1785960" cy="1000080"/>
          </a:xfrm>
          <a:prstGeom prst="borderCallout1">
            <a:avLst>
              <a:gd name="adj1" fmla="val 18750"/>
              <a:gd name="adj2" fmla="val -8333"/>
              <a:gd name="adj3" fmla="val 50194"/>
              <a:gd name="adj4" fmla="val -71175"/>
            </a:avLst>
          </a:prstGeom>
          <a:solidFill>
            <a:srgbClr val="fcd5b5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бирс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Выноска 1 5"/>
          <p:cNvSpPr/>
          <p:nvPr/>
        </p:nvSpPr>
        <p:spPr>
          <a:xfrm>
            <a:off x="7715160" y="785880"/>
            <a:ext cx="1428840" cy="857160"/>
          </a:xfrm>
          <a:prstGeom prst="borderCallout1">
            <a:avLst>
              <a:gd name="adj1" fmla="val 18750"/>
              <a:gd name="adj2" fmla="val -8333"/>
              <a:gd name="adj3" fmla="val 45199"/>
              <a:gd name="adj4" fmla="val -70333"/>
            </a:avLst>
          </a:prstGeom>
          <a:solidFill>
            <a:srgbClr val="fcd5b5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з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6"/>
          <p:cNvSpPr/>
          <p:nvPr/>
        </p:nvSpPr>
        <p:spPr>
          <a:xfrm>
            <a:off x="6572160" y="1071720"/>
            <a:ext cx="214560" cy="2142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571680" y="285840"/>
            <a:ext cx="832932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бирский комитет партии переехал в Алатыр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8"/>
          <p:cNvSpPr/>
          <p:nvPr/>
        </p:nvSpPr>
        <p:spPr>
          <a:xfrm>
            <a:off x="4500720" y="2214720"/>
            <a:ext cx="214200" cy="2142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Выноска 1 9"/>
          <p:cNvSpPr/>
          <p:nvPr/>
        </p:nvSpPr>
        <p:spPr>
          <a:xfrm>
            <a:off x="1571760" y="1571760"/>
            <a:ext cx="1785960" cy="1000080"/>
          </a:xfrm>
          <a:prstGeom prst="borderCallout1">
            <a:avLst>
              <a:gd name="adj1" fmla="val 18750"/>
              <a:gd name="adj2" fmla="val -8333"/>
              <a:gd name="adj3" fmla="val 70875"/>
              <a:gd name="adj4" fmla="val 167152"/>
            </a:avLst>
          </a:prstGeom>
          <a:solidFill>
            <a:srgbClr val="fcd5b5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аты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357120" y="142920"/>
            <a:ext cx="8329680" cy="185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рикрытия станций Инза и Майна создана группа войск из рабочих и крестьян Алатыря и Ардатова. На помощь к ним пришла группа красноармейцев под командованием Г.Д.Га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4214880" y="3643200"/>
            <a:ext cx="214200" cy="2145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Выноска 1 12"/>
          <p:cNvSpPr/>
          <p:nvPr/>
        </p:nvSpPr>
        <p:spPr>
          <a:xfrm>
            <a:off x="6858000" y="3071880"/>
            <a:ext cx="1785960" cy="1000080"/>
          </a:xfrm>
          <a:prstGeom prst="borderCallout1">
            <a:avLst>
              <a:gd name="adj1" fmla="val 18750"/>
              <a:gd name="adj2" fmla="val -8333"/>
              <a:gd name="adj3" fmla="val 67611"/>
              <a:gd name="adj4" fmla="val -140050"/>
            </a:avLst>
          </a:prstGeom>
          <a:solidFill>
            <a:srgbClr val="fcd5b5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E:\Documents and Settings\Администратор\Рабочий стол\Gayk_Bzhishkyan.jpg"/>
          <p:cNvPicPr/>
          <p:nvPr/>
        </p:nvPicPr>
        <p:blipFill>
          <a:blip r:embed="rId2"/>
          <a:stretch/>
        </p:blipFill>
        <p:spPr>
          <a:xfrm>
            <a:off x="142920" y="2357280"/>
            <a:ext cx="1727280" cy="25401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4"/>
          <p:cNvSpPr/>
          <p:nvPr/>
        </p:nvSpPr>
        <p:spPr>
          <a:xfrm>
            <a:off x="142920" y="5143680"/>
            <a:ext cx="1714320" cy="57132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Д.Га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3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3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3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2920" y="0"/>
            <a:ext cx="88581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аранске размещался мобилизационный отдел 1-й арм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ездах были военные комиссариа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918 г.мобилизованы 35 тыс. человек, свыше 80 тыс. человек прошли военную подготов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годы гражданской войны мобилизовано из местного населения около 74 тыс. челов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E:\Documents and Settings\Администратор\Рабочий стол\Изображение 011.jpg"/>
          <p:cNvPicPr/>
          <p:nvPr/>
        </p:nvPicPr>
        <p:blipFill>
          <a:blip r:embed="rId1"/>
          <a:stretch/>
        </p:blipFill>
        <p:spPr>
          <a:xfrm>
            <a:off x="1785960" y="3019320"/>
            <a:ext cx="5929200" cy="3838680"/>
          </a:xfrm>
          <a:prstGeom prst="rect">
            <a:avLst/>
          </a:prstGeom>
          <a:ln w="0">
            <a:noFill/>
          </a:ln>
        </p:spPr>
      </p:pic>
      <p:sp>
        <p:nvSpPr>
          <p:cNvPr id="76" name="Содержимое 2"/>
          <p:cNvSpPr/>
          <p:nvPr/>
        </p:nvSpPr>
        <p:spPr>
          <a:xfrm>
            <a:off x="142920" y="3214800"/>
            <a:ext cx="86439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енью 1919 г. В Саранске шло укрепление 1-й Кубанской Советской кавалерийской бригады, 1-й и 2-й кавалерийские полки Восточного фро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214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е приведены две точки зрения на причины победы «красных» в Гражданской войн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3840" y="157140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а «красных» была объективно предопределена лучшей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ованностью и поддержкой большинства на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а «красных» объясняется не их силой, а слабостью и ошибками их противн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ажите, какая из названных точек зрения вам представляется более предпочтительной. Приведите не менее трех фактов, положений, которые могут служить аргументами, подтверждающими избранную вами точку з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00040" y="142920"/>
            <a:ext cx="8229600" cy="7142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ыборе первой точки зре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000080"/>
            <a:ext cx="84726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гая     партийная дисциплина делали большевиков сильнее их политических оппон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вики  склонили  на  свою  сторону  большую  часть  населения страны - крестьян, предоставив им зем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  большевиков   были   рабочие,   что   обеспечило   им   поддержку промышленных центр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датская масса и часть населения были благодарны большевикам за окончание тяжелой войны с Германи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интернационализма привлекал к «красным» представителей нерусских   национальностей,   обеспечивал   поддержку   национальных окра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расные» удерживали в своих руках более развитый центр страны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457200" y="0"/>
            <a:ext cx="8229600" cy="7858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ыборе второй точки зре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214200" y="928800"/>
            <a:ext cx="86439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агере противников «красных» отсутствовало единство взглядов и програм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лые»   оттолкнули   от   себя   крестьян,   начав   возвращать   земли помещик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лые» генералы соперничали друг с другом за влас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ая помощь иностранных интервентов, «белые» ставили под вопрос свою патриотичнос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зунгом восстановления «единой России» «белые» настраивали против себя национальные окраины, представителей нерусских национальност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лое» движение зарождалось на окраинах империи, слабо развитых в промышленном отношен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0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3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6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2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3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3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3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6 учебника, вопросы и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Установление советской власти на территории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циально-экономические преобразования со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рестьянские восс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Боевые действия Восточного фронта на территории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ление советской власти на территории кра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весне 1918 г. Процесс смены власти в уездах и волостях края был заверше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заевке советская власть установилась в октябре 191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аранске, Инсаре, Краснослободске – в январе 1918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мникове и Ардатове – в марте 1918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са  на выборах в Учредительное собрание распределились следующим образом: эсеры – 78,3%, большевики – 9,5%, национальные организации – 4,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-экономические преобразования советской в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480" y="1071720"/>
            <a:ext cx="86439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вики провели ряд преобразований в интересах беднейших слоев обще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уществлялась национализация промышле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законен 8-часовой рабочий ден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а зарплата рабочим и служащи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 рабочий контроль на предприят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Декрета о земле привела к отмене частной собственности на землю, ликвидации помещичьего землевладения, уравнительному землепользованию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ел земли закончился в 1918 г., в результате которого крестьянство Мордовии получило 300 тыс. дес. зем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ной 1918 г. Резко ухудшилась экономическая ситуация в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ская власть установила продовольственную диктатуру, организовала продовольственные отряды, которые насильно изымали хлеб у крестья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целью оказания помощи по изъятию хлеба были созданы комитеты бедноты (комбед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беды осуществляли власть в деревн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значало, что большевики взяли курс на разжигание гражданской войны в дерев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стьянские восс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071720"/>
            <a:ext cx="57150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естьянские мятежи охватили мордовский край весной и летом 1918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сильные волнения произошли в с.Яковщина, Баранчеевка, Лада. Пятина, Гумны, Старое Синдров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м крупным выступлением в 1918г. был мятеж в с. Лада. Чтобы остановить крестьян, Анна Лусс выстрелила в крестьян, ранив одного. Разъяренные жители учинили самосуд. Были убиты 8 человек, в том числе и 21-летняя Анна Лус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Documents and Settings\Администратор\Рабочий стол\Изображение 008.jpg"/>
          <p:cNvPicPr/>
          <p:nvPr/>
        </p:nvPicPr>
        <p:blipFill>
          <a:blip r:embed="rId1"/>
          <a:stretch/>
        </p:blipFill>
        <p:spPr>
          <a:xfrm>
            <a:off x="5975280" y="1714680"/>
            <a:ext cx="31687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еврале 1919г. произошли восстания  в Киржеманской и Большеигнатовской волостях Ардатовского уезда. Действовал отряд бывшего офицера Невск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чале марта крупное выступление произошло в Краснослободском уезде. Восстание носило религиозно-монархическую окраску. Его организатором являлся Дмитрий Фок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арте проходило «чапанное движение», получило название по верхней одежде крестьян – чапа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 сильными были волнения в селах Кайбичевской,  Шугуровской, Тазинской, Большеберезниковской,  Неклюдовской, Пичеурской и Медаевской вол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3840" y="428400"/>
            <a:ext cx="5000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оруженные винтовками, а также топорами, вилами крестьяне жестоко расправлялись с советскими и партийными работн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концу марта восстания были подавл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давления крестьянского движения во всех уездах Мордовии весной 1919 г. были созданы части особого назна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E:\Documents and Settings\Администратор\Рабочий стол\Изображение 009.jpg"/>
          <p:cNvPicPr/>
          <p:nvPr/>
        </p:nvPicPr>
        <p:blipFill>
          <a:blip r:embed="rId1"/>
          <a:stretch/>
        </p:blipFill>
        <p:spPr>
          <a:xfrm>
            <a:off x="5429160" y="714240"/>
            <a:ext cx="35625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евые действия Восточного фронта на территории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357200"/>
            <a:ext cx="6543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борьбы с белочехами был образован Восточный фро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йоне Пенза-Самара-Саранск создавалась 1-я армия Восточного фро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таб и политотдел армии находились в с. Пайгарма Рузаевского уезда, в здании монасты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ё командующим являлся М.Н. Тухачевск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E:\Documents and Settings\Администратор\Рабочий стол\24783-0.jpg"/>
          <p:cNvPicPr/>
          <p:nvPr/>
        </p:nvPicPr>
        <p:blipFill>
          <a:blip r:embed="rId1"/>
          <a:stretch/>
        </p:blipFill>
        <p:spPr>
          <a:xfrm>
            <a:off x="6500880" y="1857240"/>
            <a:ext cx="2525760" cy="39103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6572160" y="6000840"/>
            <a:ext cx="2428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хачевский Миха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09-10-11T11:49:03Z</dcterms:modified>
  <cp:revision>39</cp:revision>
  <dc:subject/>
  <dc:title>Урок 6</dc:title>
</cp:coreProperties>
</file>