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1.png" ContentType="image/png"/>
  <Override PartName="/ppt/media/image3.gif" ContentType="image/gif"/>
  <Override PartName="/ppt/media/image6.wmf" ContentType="image/x-wmf"/>
  <Override PartName="/ppt/media/image12.png" ContentType="image/png"/>
  <Override PartName="/ppt/media/image4.gif" ContentType="image/gif"/>
  <Override PartName="/ppt/media/image13.png" ContentType="image/png"/>
  <Override PartName="/ppt/media/image7.gif" ContentType="image/gif"/>
  <Override PartName="/ppt/media/image8.gif" ContentType="image/gi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438-A43E-4AB2-AC64-0FEA064C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3C4-9485-45A4-8F72-66160CD4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A5A-765A-4198-B7F4-9F744D71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066-75D6-40F5-B1AB-341DEB4C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67C7-1862-473E-A427-4A7E650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1964-9F29-44AD-B849-64A5B75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529A-5CC5-4A5F-B42B-BEDEC30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C37-EDB7-46C0-8438-057385A1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DCBD-AC31-4F29-9F40-0449655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C60-3A3E-4A50-8C9B-65A49BB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8C81-D493-4F79-90BA-ECD3860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C88-8312-4EBE-A36A-D61E4117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4B2-ACB0-4AD3-B933-68C62B6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F33-8A9F-4528-86D3-D8A52C7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B14-68F6-4C78-A4C8-E438860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6DC5-17A9-4EE3-A943-B83EC032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A17-2555-4AC4-873F-3026A485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BDF-DB5F-46A9-B3BB-F08C0E2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2BD-9CDD-43C5-86B2-AFA9F54D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BA8-7CAF-4E4B-9C33-D7F18FA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47C-5D79-47C3-8E10-0A857B3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CD3-F601-4B51-9CB2-263F677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BD6-1A1A-4066-B3DF-1590AD5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2D4-4CBA-4C4B-B619-92E52A7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AEB-5BDF-4AC1-B816-F5348C0BBE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4220-A190-4481-9A99-1134B4113B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bcbcb"/>
                </a:solidFill>
                <a:latin typeface="Times New Roman"/>
              </a:rPr>
              <a:t>ИКТ в работе учителя классов КРО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риалы к городскому семинару «Информатизация учебного процесс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«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peech Viewer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» (Видимая речь)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IBM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, США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ет и корригирует произносительную сторону устной речи детей, начиная с 2-х летнего возра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22"/>
          <p:cNvPicPr/>
          <p:nvPr/>
        </p:nvPicPr>
        <p:blipFill>
          <a:blip r:embed="rId1"/>
          <a:stretch/>
        </p:blipFill>
        <p:spPr>
          <a:xfrm>
            <a:off x="6443640" y="4437000"/>
            <a:ext cx="771480" cy="95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Тренажеры серии «Дэльфа» (ООО «Дэльфа М», Россия, Москва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рдологопед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нажер «Дэльфа-30» корригиру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евое дыхани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омкость и высоту голос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тмико-интонационную сторону ре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гопед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нажер «Дэльфа-42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 соб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у п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ции раз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рон ре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екстовые редактор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крываю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еобразие письменной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ктивные способы ее развития у 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оинства и недостатки традиционных средств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лектронное учебное пособие (ЭУП) «Математика и конструирование»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465200" y="2562120"/>
            <a:ext cx="6211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ир информати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313080" cy="2495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4211640" y="17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носятся к категор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о-методических комплек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6007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ирода, человек, общество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72200" cy="29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971640" y="5229360"/>
            <a:ext cx="774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ОР представляет из себя учебно-методический комплекс, по своей структуре абсолютно идентичный ЦОРу  «Математика и конструирова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КС (начальная школа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83272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6335640" y="191628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ставляет собой среду для подготовки и проведения урок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и тестов, ведения базы данных на учащихся, имеет возможности выхода в другие электронные библиотеки, в том числе и через в Интернет. С помощью этой среды можно создавать поурочное планирование, импортировать готовые учебные матери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имущества исполь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владение умениями и навыками работы с различными источниками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т познавательной ак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мение соотносить тип источника информации с уровнем его достовер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лассификация ЦОР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циклопедии и справоч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тические библиотеки и колле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теводит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тельные комплек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титоры и тренаж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ные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оэлементное» использ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омпьютерные программы для детей с отклонениями в развити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 за твоим окн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 числа, версия 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 сл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ивающие игры в среде «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g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я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икл программ «Картина мир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нта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ородском дв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ech Viewer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(Видимая речь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енажеры серии «Дельфа» (ООО «Дельфа М», Россия, Москв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кстовые редакторы – новое средство развития письменной речи у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Звукослоговой анализ слов» (Н.П.Вальчук, В.С. Вальчу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.В. Шампу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ир за твоим окно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ыре времени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еваемся по пог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казы о временах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лендарь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j0149407"/>
          <p:cNvPicPr/>
          <p:nvPr/>
        </p:nvPicPr>
        <p:blipFill>
          <a:blip r:embed="rId1"/>
          <a:stretch/>
        </p:blipFill>
        <p:spPr>
          <a:xfrm>
            <a:off x="6443640" y="4149720"/>
            <a:ext cx="19717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остав числа, версия 3.0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ет базовые математические предст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могает освоить умение представлять любое число в виде суммы двух слагаемых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79"/>
          <p:cNvPicPr/>
          <p:nvPr/>
        </p:nvPicPr>
        <p:blipFill>
          <a:blip r:embed="rId1"/>
          <a:stretch/>
        </p:blipFill>
        <p:spPr>
          <a:xfrm>
            <a:off x="3132000" y="5445000"/>
            <a:ext cx="506736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остав слов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ляет собой набор тематических кроссвор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для уточнения буквенного состава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134"/>
          <p:cNvPicPr/>
          <p:nvPr/>
        </p:nvPicPr>
        <p:blipFill>
          <a:blip r:embed="rId1"/>
          <a:stretch/>
        </p:blipFill>
        <p:spPr>
          <a:xfrm>
            <a:off x="6443640" y="4581360"/>
            <a:ext cx="13716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Развивающие игры в среде «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Logo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могают устанавливать связи между словом и действием, словом и образ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ируют использование речи в ее важнейших функциях – побуждение к действию и описание уже произошедшего действия или наглядного обр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162"/>
          <p:cNvPicPr/>
          <p:nvPr/>
        </p:nvPicPr>
        <p:blipFill>
          <a:blip r:embed="rId1"/>
          <a:stretch/>
        </p:blipFill>
        <p:spPr>
          <a:xfrm>
            <a:off x="7020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я жизн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обытия важные и неважны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обытия приятные и неприятны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обытия и настро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j0216724"/>
          <p:cNvPicPr/>
          <p:nvPr/>
        </p:nvPicPr>
        <p:blipFill>
          <a:blip r:embed="rId1"/>
          <a:stretch/>
        </p:blipFill>
        <p:spPr>
          <a:xfrm>
            <a:off x="6588000" y="4221000"/>
            <a:ext cx="145116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Цикл программ «Картина мира»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нта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 умения детей соотносить образные картины окружающего мира с временами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ородском дво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алейдоскоп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Размышляе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Моделируе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Читаем и додумывае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j0090386"/>
          <p:cNvPicPr/>
          <p:nvPr/>
        </p:nvPicPr>
        <p:blipFill>
          <a:blip r:embed="rId1"/>
          <a:stretch/>
        </p:blipFill>
        <p:spPr>
          <a:xfrm>
            <a:off x="1476360" y="4005360"/>
            <a:ext cx="2698920" cy="23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421"/>
          <p:cNvPicPr/>
          <p:nvPr/>
        </p:nvPicPr>
        <p:blipFill>
          <a:blip r:embed="rId2"/>
          <a:stretch/>
        </p:blipFill>
        <p:spPr>
          <a:xfrm>
            <a:off x="6877080" y="4941720"/>
            <a:ext cx="13906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1:48:19Z</dcterms:created>
  <dc:creator>Егор</dc:creator>
  <dc:description/>
  <dc:language>en-US</dc:language>
  <cp:lastModifiedBy>Андрей</cp:lastModifiedBy>
  <dcterms:modified xsi:type="dcterms:W3CDTF">2014-11-01T20:53:40Z</dcterms:modified>
  <cp:revision>6</cp:revision>
  <dc:subject/>
  <dc:title>ИКТ в работе учителя классов КРО</dc:title>
</cp:coreProperties>
</file>