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CEC-1305-49C4-99C9-1307BC16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02B-0AD2-44F1-B9A8-6F335F12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C89-65FE-4171-840E-4EEA51A5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844-7A91-44B4-B1AB-72D0431C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110-3C3E-4D59-B2A1-B340BF15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8AA-4E1B-446A-B210-301325A1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014-5C29-474F-AB20-22F4FCB0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275-8D91-441E-99FF-0FAFCFC1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091-CF34-43AE-8591-0CC07869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2DE-1B99-42F9-B648-8804B92B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E90-A146-4D2C-9BC3-300F0E10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764-8856-4010-B93E-909E1CA3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2840-2767-4E46-A1AF-91D3A39C58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fd293"/>
                </a:solidFill>
                <a:latin typeface="Arial"/>
              </a:rPr>
              <a:t>Композиция</a:t>
            </a:r>
            <a:br>
              <a:rPr sz="9600"/>
            </a:br>
            <a:endParaRPr b="0" lang="en-US" sz="9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омпозиция – как рассказ, в котором все части связаны между собо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4678200" cy="1773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716360" y="1052640"/>
            <a:ext cx="4105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fd293"/>
                </a:solidFill>
                <a:latin typeface="Arial"/>
              </a:rPr>
              <a:t>Ошибки при составлении композиции.</a:t>
            </a:r>
            <a:endParaRPr b="0" lang="en-US" sz="9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24000" y="836640"/>
            <a:ext cx="52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зображение слишком мелкое или сдвинуто (в сторону, вниз ). Много лишней бумаги, её хочется срезат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2808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68480" y="155736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место картины – отдельные элементы, плохо связанные между соб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032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560" y="4005360"/>
            <a:ext cx="810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Изображение слишком велико для фона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4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4:55:18Z</dcterms:created>
  <dc:creator>Admin</dc:creator>
  <dc:description/>
  <dc:language>en-US</dc:language>
  <cp:lastModifiedBy>Admin</cp:lastModifiedBy>
  <dcterms:modified xsi:type="dcterms:W3CDTF">2009-09-21T15:13:26Z</dcterms:modified>
  <cp:revision>2</cp:revision>
  <dc:subject/>
  <dc:title>Композиция </dc:title>
</cp:coreProperties>
</file>