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.png" ContentType="image/png"/>
  <Override PartName="/ppt/media/image13.gif" ContentType="image/gif"/>
  <Override PartName="/ppt/media/image6.jpeg" ContentType="image/jpeg"/>
  <Override PartName="/ppt/media/image8.png" ContentType="image/png"/>
  <Override PartName="/ppt/media/image20.png" ContentType="image/png"/>
  <Override PartName="/ppt/media/image15.gif" ContentType="image/gif"/>
  <Override PartName="/ppt/media/image9.png" ContentType="image/png"/>
  <Override PartName="/ppt/media/image11.gif" ContentType="image/gif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25.png" ContentType="image/png"/>
  <Override PartName="/ppt/media/image32.gif" ContentType="image/gif"/>
  <Override PartName="/ppt/media/image10.png" ContentType="image/png"/>
  <Override PartName="/ppt/media/image1.jpeg" ContentType="image/jpeg"/>
  <Override PartName="/ppt/media/image14.gif" ContentType="image/gif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BD6-89BC-4C74-9E05-0348F226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22A-1524-4634-A34D-559D262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5EE-099D-45F2-8695-FB0A2EBB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FCE-5CD0-44E7-8EFF-8E0B070B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BB4-7F8E-4429-BF96-3C4215B0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1FFF-BAD9-4362-9752-421DCBE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BA0C-12EA-48F2-A15A-7920E5B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D360-0565-4F05-8D4C-AD232AB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DC50-0A51-4D1B-9A81-52F9079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616-4702-409C-B4C6-5FEE62D3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FFC-7CD2-4265-9395-24046AB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173-FD80-4FF9-B4BF-C3321FB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66A6-C2BF-4A48-860B-2850D33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D681-93DF-4392-8C1B-28CB8A4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2205-3035-4055-8081-C9D25E2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F1A4-DF71-40EE-8B77-D18BAF37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D59D-CACD-4F24-8444-A00DD97C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49E-6040-4CA5-9477-B0965A45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FB6-D9C4-41D6-B964-624C8C8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4FA-8AB5-438A-A910-8645A24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E3C-B4C2-4960-A54B-7D8E616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80D-9378-4FDD-B893-865D5D6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CFD-C7FA-454D-8C55-4760482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854-5B23-4ED7-ABC7-7F9CAD7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A6F-C869-4CB9-99E2-744B1DC458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20A-5649-4F55-9658-EBD69DC622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ятно 2 1"/>
          <p:cNvSpPr/>
          <p:nvPr/>
        </p:nvSpPr>
        <p:spPr>
          <a:xfrm>
            <a:off x="152280" y="76320"/>
            <a:ext cx="1981440" cy="15238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0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ятно 2 4"/>
          <p:cNvSpPr/>
          <p:nvPr/>
        </p:nvSpPr>
        <p:spPr>
          <a:xfrm>
            <a:off x="117360" y="4073400"/>
            <a:ext cx="1981440" cy="152424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∫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6"/>
          <p:cNvSpPr/>
          <p:nvPr/>
        </p:nvSpPr>
        <p:spPr>
          <a:xfrm>
            <a:off x="-82440" y="1509840"/>
            <a:ext cx="2382840" cy="167616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ʤ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но 2 7"/>
          <p:cNvSpPr/>
          <p:nvPr/>
        </p:nvSpPr>
        <p:spPr>
          <a:xfrm>
            <a:off x="2286000" y="0"/>
            <a:ext cx="1981080" cy="15238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[</a:t>
            </a: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d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но 2 9"/>
          <p:cNvSpPr/>
          <p:nvPr/>
        </p:nvSpPr>
        <p:spPr>
          <a:xfrm>
            <a:off x="6400800" y="0"/>
            <a:ext cx="1981080" cy="15238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ятно 2 12"/>
          <p:cNvSpPr/>
          <p:nvPr/>
        </p:nvSpPr>
        <p:spPr>
          <a:xfrm>
            <a:off x="76320" y="2743200"/>
            <a:ext cx="1981080" cy="15238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∫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ятно 2 13"/>
          <p:cNvSpPr/>
          <p:nvPr/>
        </p:nvSpPr>
        <p:spPr>
          <a:xfrm>
            <a:off x="4440240" y="14400"/>
            <a:ext cx="1981080" cy="15238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2162160" y="200196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, bri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d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p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l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1757520" y="3151080"/>
            <a:ext cx="69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d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dren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ir, kit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1817640" y="4481640"/>
            <a:ext cx="70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ep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t, fi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lf, wi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ятно 1 20"/>
          <p:cNvSpPr/>
          <p:nvPr/>
        </p:nvSpPr>
        <p:spPr>
          <a:xfrm>
            <a:off x="1828800" y="5334120"/>
            <a:ext cx="1905120" cy="1523880"/>
          </a:xfrm>
          <a:prstGeom prst="irregularSeal1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[</a:t>
            </a:r>
            <a:r>
              <a:rPr b="0" lang="en-US" sz="4800" spc="-1" strike="noStrike">
                <a:solidFill>
                  <a:srgbClr val="002060"/>
                </a:solidFill>
                <a:latin typeface="Comic Sans MS"/>
              </a:rPr>
              <a:t>ŋ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3796920" y="5742000"/>
            <a:ext cx="46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stro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30720" cy="3168720"/>
          </a:xfrm>
          <a:prstGeom prst="rect">
            <a:avLst/>
          </a:prstGeom>
          <a:ln w="0">
            <a:noFill/>
          </a:ln>
        </p:spPr>
      </p:pic>
      <p:pic>
        <p:nvPicPr>
          <p:cNvPr id="214" name="Объект 6" descr=""/>
          <p:cNvPicPr/>
          <p:nvPr/>
        </p:nvPicPr>
        <p:blipFill>
          <a:blip r:embed="rId2"/>
          <a:stretch/>
        </p:blipFill>
        <p:spPr>
          <a:xfrm>
            <a:off x="5562720" y="1593720"/>
            <a:ext cx="2819160" cy="31640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066680" y="457200"/>
            <a:ext cx="1067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Равнобедренный треугольник 5"/>
          <p:cNvSpPr/>
          <p:nvPr/>
        </p:nvSpPr>
        <p:spPr>
          <a:xfrm>
            <a:off x="2495520" y="457200"/>
            <a:ext cx="100980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750120" y="590400"/>
            <a:ext cx="29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bigger </a:t>
            </a:r>
            <a:r>
              <a:rPr b="0" lang="en-US" sz="4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6858000" y="457200"/>
            <a:ext cx="99072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9"/>
          <p:cNvCxnSpPr/>
          <p:nvPr/>
        </p:nvCxnSpPr>
        <p:spPr>
          <a:xfrm>
            <a:off x="2580840" y="1093320"/>
            <a:ext cx="839160" cy="1080"/>
          </a:xfrm>
          <a:prstGeom prst="straightConnector1">
            <a:avLst/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TextBox 12"/>
          <p:cNvSpPr/>
          <p:nvPr/>
        </p:nvSpPr>
        <p:spPr>
          <a:xfrm>
            <a:off x="1771920" y="5464080"/>
            <a:ext cx="65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A bear is big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an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a 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43440" cy="2957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Виктория\Desktop\ВИКА\Уроки\НАГЛЯДНОСТЬ\tomandjerry003.jpg"/>
          <p:cNvPicPr/>
          <p:nvPr/>
        </p:nvPicPr>
        <p:blipFill>
          <a:blip r:embed="rId2"/>
          <a:stretch/>
        </p:blipFill>
        <p:spPr>
          <a:xfrm>
            <a:off x="5410080" y="1344600"/>
            <a:ext cx="2624400" cy="33336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" descr=""/>
          <p:cNvPicPr/>
          <p:nvPr/>
        </p:nvPicPr>
        <p:blipFill>
          <a:blip r:embed="rId3"/>
          <a:stretch/>
        </p:blipFill>
        <p:spPr>
          <a:xfrm>
            <a:off x="1122480" y="30240"/>
            <a:ext cx="6557760" cy="1523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205640" y="48736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on stronge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mou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1" descr=""/>
          <p:cNvPicPr/>
          <p:nvPr/>
        </p:nvPicPr>
        <p:blipFill>
          <a:blip r:embed="rId1"/>
          <a:stretch/>
        </p:blipFill>
        <p:spPr>
          <a:xfrm>
            <a:off x="2109960" y="262080"/>
            <a:ext cx="4638600" cy="15238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990720" y="1981080"/>
            <a:ext cx="12189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Равнобедренный треугольник 3"/>
          <p:cNvSpPr/>
          <p:nvPr/>
        </p:nvSpPr>
        <p:spPr>
          <a:xfrm>
            <a:off x="2514600" y="1905120"/>
            <a:ext cx="1523880" cy="1218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5"/>
          <p:cNvCxnSpPr/>
          <p:nvPr/>
        </p:nvCxnSpPr>
        <p:spPr>
          <a:xfrm>
            <a:off x="2742840" y="276984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229" name="Прямоугольник 7" descr=""/>
          <p:cNvPicPr/>
          <p:nvPr/>
        </p:nvPicPr>
        <p:blipFill>
          <a:blip r:embed="rId2"/>
          <a:stretch/>
        </p:blipFill>
        <p:spPr>
          <a:xfrm>
            <a:off x="3919680" y="2004840"/>
            <a:ext cx="2358720" cy="1524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6234120" y="1870200"/>
            <a:ext cx="1295280" cy="1218960"/>
          </a:xfrm>
          <a:prstGeom prst="rect">
            <a:avLst/>
          </a:prstGeom>
          <a:solidFill>
            <a:srgbClr val="00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cold – col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– (the) cold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hot - hot</a:t>
            </a:r>
            <a:r>
              <a:rPr b="1" lang="en-US" sz="4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– (the) hot</a:t>
            </a:r>
            <a:r>
              <a:rPr b="1" lang="en-US" sz="4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larg</a:t>
            </a:r>
            <a:r>
              <a:rPr b="1" lang="en-US" sz="4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e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 - lar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– (the) lar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happ</a:t>
            </a:r>
            <a:r>
              <a:rPr b="1" lang="en-US" sz="4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y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 - happ</a:t>
            </a:r>
            <a:r>
              <a:rPr b="1" lang="en-US" sz="4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– (the)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happ</a:t>
            </a:r>
            <a:r>
              <a:rPr b="1" lang="en-US" sz="4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80880" y="0"/>
            <a:ext cx="7239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восход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сокая – выше - самая высок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elka12"/>
          <p:cNvPicPr/>
          <p:nvPr/>
        </p:nvPicPr>
        <p:blipFill>
          <a:blip r:embed="rId1"/>
          <a:stretch/>
        </p:blipFill>
        <p:spPr>
          <a:xfrm>
            <a:off x="1523880" y="3505320"/>
            <a:ext cx="1467000" cy="3019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elka12"/>
          <p:cNvPicPr/>
          <p:nvPr/>
        </p:nvPicPr>
        <p:blipFill>
          <a:blip r:embed="rId2"/>
          <a:stretch/>
        </p:blipFill>
        <p:spPr>
          <a:xfrm>
            <a:off x="6629400" y="1828800"/>
            <a:ext cx="2133720" cy="4800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elka12"/>
          <p:cNvPicPr/>
          <p:nvPr/>
        </p:nvPicPr>
        <p:blipFill>
          <a:blip r:embed="rId3"/>
          <a:stretch/>
        </p:blipFill>
        <p:spPr>
          <a:xfrm>
            <a:off x="3886200" y="2743200"/>
            <a:ext cx="2133720" cy="3857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Рисунок49"/>
          <p:cNvPicPr/>
          <p:nvPr/>
        </p:nvPicPr>
        <p:blipFill>
          <a:blip r:embed="rId4"/>
          <a:stretch/>
        </p:blipFill>
        <p:spPr>
          <a:xfrm>
            <a:off x="2743200" y="533412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228600" y="457200"/>
            <a:ext cx="2362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819520" y="457200"/>
            <a:ext cx="2361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tall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5410080" y="457200"/>
            <a:ext cx="2971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the tall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4041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4" descr="Рисунок53"/>
          <p:cNvPicPr/>
          <p:nvPr/>
        </p:nvPicPr>
        <p:blipFill>
          <a:blip r:embed="rId1"/>
          <a:stretch/>
        </p:blipFill>
        <p:spPr>
          <a:xfrm>
            <a:off x="914400" y="373392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Рисунок65"/>
          <p:cNvPicPr/>
          <p:nvPr/>
        </p:nvPicPr>
        <p:blipFill>
          <a:blip r:embed="rId2"/>
          <a:stretch/>
        </p:blipFill>
        <p:spPr>
          <a:xfrm>
            <a:off x="6400800" y="2438280"/>
            <a:ext cx="1542960" cy="2648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Рисунок160"/>
          <p:cNvPicPr/>
          <p:nvPr/>
        </p:nvPicPr>
        <p:blipFill>
          <a:blip r:embed="rId3"/>
          <a:stretch/>
        </p:blipFill>
        <p:spPr>
          <a:xfrm>
            <a:off x="3657600" y="3352680"/>
            <a:ext cx="1828800" cy="17049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228600" y="457200"/>
            <a:ext cx="2362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2743200" y="457200"/>
            <a:ext cx="2362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ig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5410080" y="533520"/>
            <a:ext cx="3429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the big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2382480"/>
            <a:ext cx="76960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omic Sans MS"/>
              </a:rPr>
              <a:t>Состоящее из трех и более слогов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beautiful, interest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457200" y="274680"/>
            <a:ext cx="73152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лагательно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447560" y="2209680"/>
            <a:ext cx="701028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beautifu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interest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usefu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457200" y="274680"/>
            <a:ext cx="731520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ожитель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beautiful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– more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 beauti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interesting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– more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 interest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useful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– more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use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457200" y="274680"/>
            <a:ext cx="822960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итель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beautiful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–the most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beauti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interesting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– the most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          interest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useful –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he most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use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457200" y="274680"/>
            <a:ext cx="8229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восход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5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ятно 2 1"/>
          <p:cNvSpPr/>
          <p:nvPr/>
        </p:nvSpPr>
        <p:spPr>
          <a:xfrm>
            <a:off x="1371600" y="4956120"/>
            <a:ext cx="2860560" cy="22096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70c0"/>
                </a:solidFill>
                <a:latin typeface="Verdana"/>
                <a:ea typeface="Verdana"/>
              </a:rPr>
              <a:t>ə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ятно 2 3"/>
          <p:cNvSpPr/>
          <p:nvPr/>
        </p:nvSpPr>
        <p:spPr>
          <a:xfrm>
            <a:off x="-152280" y="1447920"/>
            <a:ext cx="2286000" cy="19540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[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ei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ятно 2 4"/>
          <p:cNvSpPr/>
          <p:nvPr/>
        </p:nvSpPr>
        <p:spPr>
          <a:xfrm>
            <a:off x="-152280" y="4052880"/>
            <a:ext cx="2590560" cy="20080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au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ятно 2 5"/>
          <p:cNvSpPr/>
          <p:nvPr/>
        </p:nvSpPr>
        <p:spPr>
          <a:xfrm>
            <a:off x="-152280" y="2819520"/>
            <a:ext cx="2452680" cy="198108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Verdana"/>
              </a:rPr>
              <a:t>əu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ятно 2 6"/>
          <p:cNvSpPr/>
          <p:nvPr/>
        </p:nvSpPr>
        <p:spPr>
          <a:xfrm>
            <a:off x="-114480" y="-6480"/>
            <a:ext cx="2321280" cy="1828800"/>
          </a:xfrm>
          <a:prstGeom prst="irregularSeal2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ai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1795320" y="5540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, 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, k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d, 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, l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2014920" y="2098800"/>
            <a:ext cx="568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, pl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, f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, c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950120" y="3402000"/>
            <a:ext cx="650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, cl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,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en, r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, 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1839240" y="4668840"/>
            <a:ext cx="69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t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, br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, n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3542400" y="5853240"/>
            <a:ext cx="53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ai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sh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wh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e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46748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eautiful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– more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beautiful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–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s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eautiful</a:t>
            </a:r>
            <a:br>
              <a:rPr sz="3200"/>
            </a:b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расивый - более красивый- 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самый красив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5" descr="Рисунок289"/>
          <p:cNvPicPr/>
          <p:nvPr/>
        </p:nvPicPr>
        <p:blipFill>
          <a:blip r:embed="rId1"/>
          <a:stretch/>
        </p:blipFill>
        <p:spPr>
          <a:xfrm>
            <a:off x="533520" y="2666880"/>
            <a:ext cx="2361960" cy="266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Рисунок244"/>
          <p:cNvPicPr/>
          <p:nvPr/>
        </p:nvPicPr>
        <p:blipFill>
          <a:blip r:embed="rId2"/>
          <a:stretch/>
        </p:blipFill>
        <p:spPr>
          <a:xfrm>
            <a:off x="2895480" y="19051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Рисунок245"/>
          <p:cNvPicPr/>
          <p:nvPr/>
        </p:nvPicPr>
        <p:blipFill>
          <a:blip r:embed="rId3"/>
          <a:stretch/>
        </p:blipFill>
        <p:spPr>
          <a:xfrm>
            <a:off x="6248520" y="2362320"/>
            <a:ext cx="2152440" cy="27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Good – better – the b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Bad – worse - the wo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Many/much – more – the mo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Little – less - the lea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143000" y="2286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лючения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1" descr=""/>
          <p:cNvPicPr/>
          <p:nvPr/>
        </p:nvPicPr>
        <p:blipFill>
          <a:blip r:embed="rId1"/>
          <a:stretch/>
        </p:blipFill>
        <p:spPr>
          <a:xfrm>
            <a:off x="1243080" y="96840"/>
            <a:ext cx="6273720" cy="156672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2"/>
          <a:stretch/>
        </p:blipFill>
        <p:spPr>
          <a:xfrm>
            <a:off x="42840" y="1523880"/>
            <a:ext cx="8753400" cy="3614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Заголовок 1"/>
          <p:cNvSpPr/>
          <p:nvPr/>
        </p:nvSpPr>
        <p:spPr>
          <a:xfrm>
            <a:off x="304920" y="1371600"/>
            <a:ext cx="82296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It lives in Africa. It’s the biggest animal. It has a very big no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2" descr=""/>
          <p:cNvPicPr/>
          <p:nvPr/>
        </p:nvPicPr>
        <p:blipFill>
          <a:blip r:embed="rId1"/>
          <a:stretch/>
        </p:blipFill>
        <p:spPr>
          <a:xfrm>
            <a:off x="1292400" y="-42840"/>
            <a:ext cx="658332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"/>
          <p:cNvPicPr/>
          <p:nvPr/>
        </p:nvPicPr>
        <p:blipFill>
          <a:blip r:embed="rId2"/>
          <a:stretch/>
        </p:blipFill>
        <p:spPr>
          <a:xfrm>
            <a:off x="34920" y="270180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4" descr=""/>
          <p:cNvPicPr/>
          <p:nvPr/>
        </p:nvPicPr>
        <p:blipFill>
          <a:blip r:embed="rId3"/>
          <a:stretch/>
        </p:blipFill>
        <p:spPr>
          <a:xfrm>
            <a:off x="4237200" y="3780000"/>
            <a:ext cx="4724280" cy="152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1"/>
          <p:cNvSpPr/>
          <p:nvPr/>
        </p:nvSpPr>
        <p:spPr>
          <a:xfrm>
            <a:off x="331920" y="76212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It’s the smallest animal. It has a long tail. It likes che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2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286520" cy="428616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3" descr=""/>
          <p:cNvPicPr/>
          <p:nvPr/>
        </p:nvPicPr>
        <p:blipFill>
          <a:blip r:embed="rId2"/>
          <a:stretch/>
        </p:blipFill>
        <p:spPr>
          <a:xfrm>
            <a:off x="4145040" y="3413160"/>
            <a:ext cx="3627360" cy="145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Заголовок 1"/>
          <p:cNvSpPr/>
          <p:nvPr/>
        </p:nvSpPr>
        <p:spPr>
          <a:xfrm>
            <a:off x="304920" y="533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It lives in Australia. It’s the fastest animal. It has a front pocket for a bab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2" descr=""/>
          <p:cNvPicPr/>
          <p:nvPr/>
        </p:nvPicPr>
        <p:blipFill>
          <a:blip r:embed="rId1"/>
          <a:stretch/>
        </p:blipFill>
        <p:spPr>
          <a:xfrm>
            <a:off x="0" y="1981080"/>
            <a:ext cx="5079960" cy="43545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4127400" y="3713040"/>
            <a:ext cx="4578480" cy="152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2023920" y="262080"/>
            <a:ext cx="4383360" cy="152388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-128520" y="1481040"/>
            <a:ext cx="9369360" cy="152424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3" descr=""/>
          <p:cNvPicPr/>
          <p:nvPr/>
        </p:nvPicPr>
        <p:blipFill>
          <a:blip r:embed="rId3"/>
          <a:stretch/>
        </p:blipFill>
        <p:spPr>
          <a:xfrm>
            <a:off x="1378080" y="2548080"/>
            <a:ext cx="6418080" cy="152388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4" descr=""/>
          <p:cNvPicPr/>
          <p:nvPr/>
        </p:nvPicPr>
        <p:blipFill>
          <a:blip r:embed="rId4"/>
          <a:stretch/>
        </p:blipFill>
        <p:spPr>
          <a:xfrm>
            <a:off x="2036880" y="3693960"/>
            <a:ext cx="5016240" cy="152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685800" y="1752480"/>
            <a:ext cx="71629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by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Picture 6" descr="Рисунок192"/>
          <p:cNvPicPr/>
          <p:nvPr/>
        </p:nvPicPr>
        <p:blipFill>
          <a:blip r:embed="rId1"/>
          <a:stretch/>
        </p:blipFill>
        <p:spPr>
          <a:xfrm>
            <a:off x="0" y="-533520"/>
            <a:ext cx="2533680" cy="357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1865160" y="30240"/>
            <a:ext cx="5437440" cy="1523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-52560" y="1600200"/>
            <a:ext cx="927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omic Sans MS"/>
              </a:rPr>
              <a:t>shelf, town, large, nice, chair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omic Sans MS"/>
              </a:rPr>
              <a:t>close, sheep, bridge, long, cow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omic Sans MS"/>
              </a:rPr>
              <a:t>children, small, dark, strong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omic Sans MS"/>
              </a:rPr>
              <a:t>kind, short, h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Объект 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3072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6" descr=""/>
          <p:cNvPicPr/>
          <p:nvPr/>
        </p:nvPicPr>
        <p:blipFill>
          <a:blip r:embed="rId2"/>
          <a:stretch/>
        </p:blipFill>
        <p:spPr>
          <a:xfrm>
            <a:off x="5562720" y="1593720"/>
            <a:ext cx="2819160" cy="316404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3"/>
          <a:stretch/>
        </p:blipFill>
        <p:spPr>
          <a:xfrm>
            <a:off x="42840" y="109440"/>
            <a:ext cx="8729640" cy="152424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1700280" y="5257800"/>
            <a:ext cx="68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e00"/>
                </a:solidFill>
                <a:latin typeface="Comic Sans MS"/>
              </a:rPr>
              <a:t>Медведь больше чем за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 rot="393600">
            <a:off x="914040" y="1371600"/>
            <a:ext cx="8001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И СРАВН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ЛАГАТЕЛЬ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280" y="152280"/>
          <a:ext cx="8839440" cy="67089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8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олож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сравн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ревосх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2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71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240080" y="54468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7247880" y="54468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4090680" y="108576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951000" y="163188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rm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4020120" y="21826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3983760" y="26449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4100040" y="316872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3945600" y="37339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n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4141440" y="42670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t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713640" y="115236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606360" y="16318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639480" y="21938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6721920" y="26449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6773760" y="31701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1"/>
          <p:cNvSpPr/>
          <p:nvPr/>
        </p:nvSpPr>
        <p:spPr>
          <a:xfrm>
            <a:off x="6743880" y="374796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6771600" y="425772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r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286920" y="478008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3138120" y="480528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6298560" y="4826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6"/>
          <p:cNvSpPr/>
          <p:nvPr/>
        </p:nvSpPr>
        <p:spPr>
          <a:xfrm>
            <a:off x="287640" y="548640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7"/>
          <p:cNvSpPr/>
          <p:nvPr/>
        </p:nvSpPr>
        <p:spPr>
          <a:xfrm>
            <a:off x="3139200" y="551340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6163560" y="54864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9"/>
          <p:cNvSpPr/>
          <p:nvPr/>
        </p:nvSpPr>
        <p:spPr>
          <a:xfrm>
            <a:off x="753840" y="62420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0"/>
          <p:cNvSpPr/>
          <p:nvPr/>
        </p:nvSpPr>
        <p:spPr>
          <a:xfrm>
            <a:off x="3680640" y="62895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1"/>
          <p:cNvSpPr/>
          <p:nvPr/>
        </p:nvSpPr>
        <p:spPr>
          <a:xfrm>
            <a:off x="6181920" y="624204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omic Sans MS"/>
              </a:rPr>
              <a:t>Состоящее из одного или двух слогов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cold, hot, large, happ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685800" y="533520"/>
            <a:ext cx="687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лагательно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2320920"/>
            <a:ext cx="769608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old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larg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happ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066680" y="228600"/>
            <a:ext cx="7191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ожитель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81080" y="2260080"/>
            <a:ext cx="640080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cold - col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hot - hot</a:t>
            </a: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large - larg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happ</a:t>
            </a:r>
            <a:r>
              <a:rPr b="1" lang="en-US" sz="5400" spc="-1" strike="noStrike" u="sng">
                <a:solidFill>
                  <a:srgbClr val="0033cc"/>
                </a:solidFill>
                <a:uFillTx/>
                <a:latin typeface="Comic Sans MS"/>
              </a:rPr>
              <a:t>y</a:t>
            </a: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 - happ</a:t>
            </a:r>
            <a:r>
              <a:rPr b="1" lang="en-US" sz="5400" spc="-1" strike="noStrike" u="sng">
                <a:solidFill>
                  <a:srgbClr val="0033cc"/>
                </a:solidFill>
                <a:uFillTx/>
                <a:latin typeface="Comic Sans MS"/>
              </a:rPr>
              <a:t>i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304920" y="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итель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ь 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тория</dc:creator>
  <dc:description/>
  <dc:language>en-US</dc:language>
  <cp:lastModifiedBy>Виктория</cp:lastModifiedBy>
  <dcterms:modified xsi:type="dcterms:W3CDTF">2014-11-02T09:00:37Z</dcterms:modified>
  <cp:revision>24</cp:revision>
  <dc:subject>Степени сравнения прилагательных</dc:subject>
  <dc:title>Презентация по англий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