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33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39.jpeg" ContentType="image/jpeg"/>
  <Override PartName="/ppt/media/image8.png" ContentType="image/pn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B4F-F49D-461A-A587-ADFBB027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3D5-0489-404C-B9FC-B19DB100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04EFAC-1205-4DAC-B163-ED310618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C080BA-0F40-4E9D-BE33-4539980B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852CC2-F849-48E0-9EDC-0FF37AD3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A05B70-DEE6-4194-9864-C9A6FC4C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715954-F0AF-4CE4-9792-C7852AC5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0F35BD-3EAA-4DBB-B3A8-34518CAA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778E4A-DD6C-4933-8C9E-50BBA005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954691-7366-49EB-B14E-6510C1AB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F18526-D752-4086-9D73-DFCFFF4A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9A0-61C6-42A1-966D-F8A10D21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AFA-585B-4548-A480-9A9B5A5D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EE218-C4C9-475F-B38A-710FBA21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300E6-8374-439E-96DE-16356AC7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2B472-66FB-4302-B525-15052081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6683A-BD33-42EE-A19B-A7DF3F81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38629-2A89-4521-82DB-501278FC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20F11-845E-4C7C-B2A8-E05AC179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121A8-0502-4E6F-931C-B7E8C01C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331-5C9F-4824-B13C-FB873923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5D100-B2AB-4D95-AD6E-CD4F05CA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D2EB6-E155-44EA-BC73-93E6C197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2E5EB-4719-4A60-9D1E-04991092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327E8-8FED-4459-82C7-E2176A12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04145-3FBE-4225-BFFA-A8C26213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7C3D9-995A-490A-A168-47DB8DC0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1487-3954-42C9-9EC1-73A82298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00CA-1318-4D73-AC1A-3C8274DD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5B24-B53B-4974-8C28-FD34388E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95AAB-A8B8-44AF-914B-DB5A8458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91A-9B85-4339-B5C1-ABE43705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F67A-185E-4DCC-9BBC-1E5098F3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5429-BDED-41A9-82D7-2C036BD5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3466-1A81-4E04-9D16-C0CB44C7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36B17-B8FA-4DA8-9C9E-0F288BA4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7467-F6AD-46CB-B06A-5F5038D6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4152-32FE-4C76-A56A-03D6D46F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C4063-76FB-4788-B127-C0DCF606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BBBB3-BBCE-472A-BF40-7778DEB4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4FD64-6028-49B9-88E4-F1235C70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438D6B-1402-4F79-9D75-EF599856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B21-5210-4CB1-BA1B-90AA0076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D744C-0779-42BD-B61B-EA446D2A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CC5FB-15EB-48DE-BA9B-CE159AB2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05C7F-D70C-49B8-A124-46C7B082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1BB53-58F0-4193-B29B-22390FB4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69419-99FD-4A20-A828-3E8C830D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AAD6C-7C8B-4C7A-8A48-DF5483F7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577A1F-1B58-4F88-BCD2-1E96D35F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59341-A3D9-4A47-AA01-E1C0C82C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17D26-E352-44BB-AA47-2C5646B7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A72BC-9BFE-4819-8AB0-4A0FE54E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994-40FF-4400-BBD5-39269A3B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8EEF0-3AAE-4606-8095-F8AD0551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D214-DF48-4DC0-A0CB-A277712C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98639-BF0A-4012-B78F-B872B637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F9AD8-4CAB-40CF-85A6-E6171379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B3E80-AA98-4FCA-B923-6C66F84A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BA228-B0E9-4E5C-8311-228566B0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2A5CD-A232-48F9-AF77-AD3F9BF8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A79EF-E155-4B81-943B-C5728989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3487E-AB5F-41AD-B32D-8B45CE04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289C3-5810-4880-91CF-C890AE54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99C-AA60-4485-B4F4-69E8EA97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CC7A6-FE21-489C-9EFA-15DBF8AE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CF55F-57B3-4D71-81C7-9A62FD4F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96847-E9A8-4C96-ADB7-12F8488F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90A62-EB7F-48FE-A92B-F240B121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7AE76-8364-4D3E-B5DD-14E08A04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6CDB2-FAA2-447E-A2A9-2F7B3B6A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13DBE-2CB4-4260-9AE1-5A19A47D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021E6-DC00-4404-B6F7-B1DCE5D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90FC0-DE0F-4C08-8E80-E531A0D4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E7766-52CD-4D3F-9A2A-2DFDA2F4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D15-4E30-4E50-9790-98A970BE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A1B24-694F-4EB5-B830-EC7AC323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DFF50-ABA9-46B5-B19A-D78592B3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6630B-2F2A-4064-BFDC-AC667FB1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E2D77-8A25-404A-8485-73BDA844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4BBF0-D6D5-479D-9487-A790B7C8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4BE94-B79B-40C1-A0C5-D6816D49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4E508-CF39-4797-AEFE-E7C4E443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B798A-5C92-471F-AF69-0AAF1E57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C461F-BC9F-421A-80E2-EF69D75A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C869-E6CD-44D6-8635-B094D935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AB5-1630-4067-8CB5-D2C31692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77422-8662-4FF0-B2AD-B0BFAEE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31E1-8764-48FA-9D4F-798EFCD8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B6C9B-F5CB-47EB-8DC3-E1E32EC1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B8EFC-9757-42A3-A35E-C0E789B0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D802A-E00B-4236-BE9A-37670C45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A787A-3154-42B4-9DBF-E6C39FD3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E3BBFA-406E-4640-B0A5-51DBCA80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EC6325-2167-4F80-8D70-EE6B57D9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3821CB-2533-4C8C-9F6C-D4091B19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9DEF5C-BAA0-4E41-BC09-15B85DE8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3AE-BC62-47C1-AB20-31D901E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2BF873-9F45-4D63-A818-E4D37954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FE16F7-C191-4412-B087-C0E0D27B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728A1-C5FF-4CFB-A6A2-5C224368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49B3C-A39F-4DEF-8DE9-E64EFBD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70E085-0F22-43D6-9F5F-08F2E8CF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8A5F4B-1324-44D2-85A5-192B5E03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794A3B-AF29-4C27-894C-3622BD01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88F43E-4407-4490-A71B-F0E66FD6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E18D3-58AA-4BDE-8F8D-36847096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DDB27-86C0-4BDC-9660-ED86BB04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B1E5-571F-40D2-BBFA-993D807E597A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2AE5-5AB3-4320-98A6-EDC7BD80CF25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3469-E3B9-4E32-ADFD-66D1EC0E9116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B652-8411-434A-9E34-EC040CDD968A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3ED2-EA30-41D0-8560-DA345A1C735C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CC57-9C7A-40B0-BEA3-638E14CFF029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F8D4-0A5F-4F18-8B17-E806D3B97AEF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9532-26EC-4834-B968-CBD6404C4DED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E2D7-5170-4345-B05A-59C6E42197A7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77;&#1083;&#1086;&#1089;&#1090;&#1086;&#1082;&#1089;&#1082;&#1086;-&#1052;&#1080;&#1085;&#1089;&#1082;&#1086;&#1077;_&#1089;&#1088;&#1072;&#1078;&#1077;&#1085;&#1080;&#1077;" TargetMode="External"/><Relationship Id="rId3" Type="http://schemas.openxmlformats.org/officeDocument/2006/relationships/hyperlink" Target="http://ru.wikipedia.org/wiki/&#1041;&#1077;&#1083;&#1086;&#1089;&#1090;&#1086;&#1082;&#1089;&#1082;&#1086;-&#1052;&#1080;&#1085;&#1089;&#1082;&#1086;&#1077;_&#1089;&#1088;&#1072;&#1078;&#1077;&#1085;&#1080;&#1077;" TargetMode="External"/><Relationship Id="rId4" Type="http://schemas.openxmlformats.org/officeDocument/2006/relationships/hyperlink" Target="http://ru.wikipedia.org/wiki/&#1041;&#1077;&#1083;&#1086;&#1089;&#1090;&#1086;&#1082;&#1089;&#1082;&#1086;-&#1052;&#1080;&#1085;&#1089;&#1082;&#1086;&#1077;_&#1089;&#1088;&#1072;&#1078;&#1077;&#1085;&#1080;&#1077;" TargetMode="External"/><Relationship Id="rId5" Type="http://schemas.openxmlformats.org/officeDocument/2006/relationships/hyperlink" Target="http://ru.wikipedia.org/wiki/&#1041;&#1080;&#1090;&#1074;&#1072;_&#1079;&#1072;_&#1044;&#1091;&#1073;&#1085;&#1086;_&#8212;_&#1051;&#1091;&#1094;&#1082;_&#8212;_&#1041;&#1088;&#1086;&#1076;&#1099;_(1941)" TargetMode="External"/><Relationship Id="rId6" Type="http://schemas.openxmlformats.org/officeDocument/2006/relationships/hyperlink" Target="http://ru.wikipedia.org/wiki/&#1057;&#1084;&#1086;&#1083;&#1077;&#1085;&#1089;&#1082;&#1086;&#1077;_&#1089;&#1088;&#1072;&#1078;&#1077;&#1085;&#1080;&#1077;_(1941)" TargetMode="External"/><Relationship Id="rId7" Type="http://schemas.openxmlformats.org/officeDocument/2006/relationships/hyperlink" Target="http://ru.wikipedia.org/wiki/&#1041;&#1080;&#1090;&#1074;&#1072;_&#1087;&#1086;&#1076;_&#1059;&#1084;&#1072;&#1085;&#1100;&#1102;" TargetMode="External"/><Relationship Id="rId8" Type="http://schemas.openxmlformats.org/officeDocument/2006/relationships/hyperlink" Target="http://ru.wikipedia.org/wiki/&#1050;&#1080;&#1077;&#1074;&#1089;&#1082;&#1072;&#1103;_&#1086;&#1087;&#1077;&#1088;&#1072;&#1094;&#1080;&#1103;_(1941)" TargetMode="External"/><Relationship Id="rId9" Type="http://schemas.openxmlformats.org/officeDocument/2006/relationships/hyperlink" Target="http://ru.wikipedia.org/wiki/&#1051;&#1077;&#1085;&#1080;&#1085;&#1075;&#1088;&#1072;&#1076;&#1089;&#1082;&#1072;&#1103;_&#1086;&#1073;&#1086;&#1088;&#1086;&#1085;&#1080;&#1090;&#1077;&#1083;&#1100;&#1085;&#1072;&#1103;_&#1086;&#1087;&#1077;&#1088;&#1072;&#1094;&#1080;&#1103;" TargetMode="External"/><Relationship Id="rId10" Type="http://schemas.openxmlformats.org/officeDocument/2006/relationships/hyperlink" Target="http://ru.wikipedia.org/wiki/&#1041;&#1083;&#1086;&#1082;&#1072;&#1076;&#1072;_&#1051;&#1077;&#1085;&#1080;&#1085;&#1075;&#1088;&#1072;&#1076;&#1072;" TargetMode="External"/><Relationship Id="rId11" Type="http://schemas.openxmlformats.org/officeDocument/2006/relationships/hyperlink" Target="http://ru.wikipedia.org/wiki/&#1054;&#1076;&#1077;&#1089;&#1089;&#1082;&#1072;&#1103;_&#1086;&#1073;&#1086;&#1088;&#1086;&#1085;&#1072;_(1941)" TargetMode="External"/><Relationship Id="rId12" Type="http://schemas.openxmlformats.org/officeDocument/2006/relationships/hyperlink" Target="http://ru.wikipedia.org/wiki/&#1057;&#1077;&#1074;&#1072;&#1089;&#1090;&#1086;&#1087;&#1086;&#1083;&#1100;&#1089;&#1082;&#1072;&#1103;_&#1086;&#1073;&#1086;&#1088;&#1086;&#1085;&#1072;_(1941&#8212;1942)" TargetMode="External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C:\Users\Лидия\Desktop\вторая мировая война\5.jpg"/>
          <p:cNvPicPr/>
          <p:nvPr/>
        </p:nvPicPr>
        <p:blipFill>
          <a:blip r:embed="rId2"/>
          <a:stretch/>
        </p:blipFill>
        <p:spPr>
          <a:xfrm>
            <a:off x="357120" y="214200"/>
            <a:ext cx="4714920" cy="64836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5715000" y="1214280"/>
            <a:ext cx="2714760" cy="228744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4f1919"/>
                </a:solidFill>
                <a:latin typeface="Rockwell"/>
              </a:rPr>
              <a:t>I</a:t>
            </a:r>
            <a:r>
              <a:rPr b="1" i="1" lang="ru-RU" sz="4800" spc="-1" strike="noStrike">
                <a:solidFill>
                  <a:srgbClr val="4f1919"/>
                </a:solidFill>
                <a:latin typeface="Cambria"/>
              </a:rPr>
              <a:t> период вой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2" descr="C:\Users\Лидия\Desktop\вторая мировая война\21.gif"/>
          <p:cNvPicPr/>
          <p:nvPr/>
        </p:nvPicPr>
        <p:blipFill>
          <a:blip r:embed="rId3"/>
          <a:stretch/>
        </p:blipFill>
        <p:spPr>
          <a:xfrm>
            <a:off x="500040" y="2500200"/>
            <a:ext cx="785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Лидия\Desktop\вторая мировая война\28.jpg"/>
          <p:cNvPicPr/>
          <p:nvPr/>
        </p:nvPicPr>
        <p:blipFill>
          <a:blip r:embed="rId2"/>
          <a:stretch/>
        </p:blipFill>
        <p:spPr>
          <a:xfrm>
            <a:off x="3714840" y="357120"/>
            <a:ext cx="5025960" cy="6143760"/>
          </a:xfrm>
          <a:prstGeom prst="rect">
            <a:avLst/>
          </a:prstGeom>
          <a:ln w="0">
            <a:noFill/>
          </a:ln>
        </p:spPr>
      </p:pic>
      <p:sp>
        <p:nvSpPr>
          <p:cNvPr id="438" name="TextBox 2"/>
          <p:cNvSpPr/>
          <p:nvPr/>
        </p:nvSpPr>
        <p:spPr>
          <a:xfrm>
            <a:off x="571680" y="357120"/>
            <a:ext cx="3000240" cy="13737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Отступление Красной Ар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571680" y="1643040"/>
            <a:ext cx="2857320" cy="3753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За три недели боев немецкие войска овладели всей Прибалтикой и Белоруссией, Правобережной Украиной, к осени блокировали Ленинград, взяли Киев и развернули наступление на Донбасс и Кр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"/>
          <p:cNvSpPr/>
          <p:nvPr/>
        </p:nvSpPr>
        <p:spPr>
          <a:xfrm>
            <a:off x="2786040" y="428760"/>
            <a:ext cx="3786120" cy="52056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Катастрофа 1941г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69000" y="1371960"/>
            <a:ext cx="7407360" cy="2770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db5353"/>
                </a:solidFill>
                <a:uFillTx/>
                <a:latin typeface="Calibri"/>
                <a:ea typeface="Times New Roman"/>
                <a:hlinkClick r:id="rId2"/>
              </a:rPr>
              <a:t>   </a:t>
            </a:r>
            <a:r>
              <a:rPr b="0" lang="ru-RU" sz="1600" spc="-1" strike="noStrike" u="sng">
                <a:solidFill>
                  <a:srgbClr val="db5353"/>
                </a:solidFill>
                <a:uFillTx/>
                <a:latin typeface="Calibri"/>
                <a:ea typeface="Times New Roman"/>
                <a:hlinkClick r:id="rId3"/>
              </a:rPr>
              <a:t>Белостокско-Минское</a:t>
            </a:r>
            <a:r>
              <a:rPr b="0" lang="ru-RU" sz="1600" spc="-1" strike="noStrike" u="sng">
                <a:solidFill>
                  <a:srgbClr val="db5353"/>
                </a:solidFill>
                <a:uFillTx/>
                <a:latin typeface="Calibri"/>
                <a:ea typeface="Times New Roman"/>
                <a:hlinkClick r:id="rId4"/>
              </a:rPr>
              <a:t> сражение</a:t>
            </a: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 (22 июня — 8 июля 1941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·  </a:t>
            </a:r>
            <a:r>
              <a:rPr b="0" lang="ru-RU" sz="1600" spc="-1" strike="noStrike" u="sng">
                <a:solidFill>
                  <a:srgbClr val="db5353"/>
                </a:solidFill>
                <a:uFillTx/>
                <a:latin typeface="Calibri"/>
                <a:ea typeface="Times New Roman"/>
                <a:hlinkClick r:id="rId5"/>
              </a:rPr>
              <a:t>Битва за Дубно — Луцк — Броды (1941)</a:t>
            </a: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 (24 июня — 30 июня 1941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·  </a:t>
            </a:r>
            <a:r>
              <a:rPr b="0" lang="ru-RU" sz="1600" spc="-1" strike="noStrike" u="sng">
                <a:solidFill>
                  <a:srgbClr val="db5353"/>
                </a:solidFill>
                <a:uFillTx/>
                <a:latin typeface="Calibri"/>
                <a:ea typeface="Times New Roman"/>
                <a:hlinkClick r:id="rId6"/>
              </a:rPr>
              <a:t>Смоленское сражение</a:t>
            </a: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 (10 июля — 10 сентября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·  </a:t>
            </a:r>
            <a:r>
              <a:rPr b="0" lang="ru-RU" sz="1600" spc="-1" strike="noStrike" u="sng">
                <a:solidFill>
                  <a:srgbClr val="db5353"/>
                </a:solidFill>
                <a:uFillTx/>
                <a:latin typeface="Calibri"/>
                <a:ea typeface="Times New Roman"/>
                <a:hlinkClick r:id="rId7"/>
              </a:rPr>
              <a:t>Битва под Уманью</a:t>
            </a: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 (конец июля — 8 августа 1941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·  </a:t>
            </a:r>
            <a:r>
              <a:rPr b="0" lang="ru-RU" sz="1600" spc="-1" strike="noStrike" u="sng">
                <a:solidFill>
                  <a:srgbClr val="db5353"/>
                </a:solidFill>
                <a:uFillTx/>
                <a:latin typeface="Calibri"/>
                <a:ea typeface="Times New Roman"/>
                <a:hlinkClick r:id="rId8"/>
              </a:rPr>
              <a:t>Сражение за Киев</a:t>
            </a: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 (7 августа — 26 сентября 1941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·  </a:t>
            </a:r>
            <a:r>
              <a:rPr b="0" lang="ru-RU" sz="1600" spc="-1" strike="noStrike" u="sng">
                <a:solidFill>
                  <a:srgbClr val="db5353"/>
                </a:solidFill>
                <a:uFillTx/>
                <a:latin typeface="Calibri"/>
                <a:ea typeface="Times New Roman"/>
                <a:hlinkClick r:id="rId9"/>
              </a:rPr>
              <a:t>Оборона Ленинграда</a:t>
            </a: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 и начало его </a:t>
            </a:r>
            <a:r>
              <a:rPr b="0" lang="ru-RU" sz="1600" spc="-1" strike="noStrike" u="sng">
                <a:solidFill>
                  <a:srgbClr val="db5353"/>
                </a:solidFill>
                <a:uFillTx/>
                <a:latin typeface="Calibri"/>
                <a:ea typeface="Times New Roman"/>
                <a:hlinkClick r:id="rId10"/>
              </a:rPr>
              <a:t>блокады</a:t>
            </a: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 (8 сентября 1941 — 27 января 1944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·  </a:t>
            </a:r>
            <a:r>
              <a:rPr b="0" lang="ru-RU" sz="1600" spc="-1" strike="noStrike" u="sng">
                <a:solidFill>
                  <a:srgbClr val="db5353"/>
                </a:solidFill>
                <a:uFillTx/>
                <a:latin typeface="Calibri"/>
                <a:ea typeface="Times New Roman"/>
                <a:hlinkClick r:id="rId11"/>
              </a:rPr>
              <a:t>Оборона Одессы</a:t>
            </a: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 (5 августа — 16 октября 1941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·  Начало </a:t>
            </a:r>
            <a:r>
              <a:rPr b="0" lang="ru-RU" sz="1600" spc="-1" strike="noStrike" u="sng">
                <a:solidFill>
                  <a:srgbClr val="db5353"/>
                </a:solidFill>
                <a:uFillTx/>
                <a:latin typeface="Calibri"/>
                <a:ea typeface="Times New Roman"/>
                <a:hlinkClick r:id="rId12"/>
              </a:rPr>
              <a:t>обороны Севастополя</a:t>
            </a: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 (4 октября 1941 — 4 июля 1942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·  Оборонительный период Битвы за Москву (30 сентября — 4 декабря 1941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·  Окружение 18-й армии Южного фронта (5—10 октября 1941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352a"/>
                </a:solidFill>
                <a:latin typeface="Calibri"/>
                <a:ea typeface="Times New Roman"/>
              </a:rPr>
              <a:t>·  Бои за Ростов (21—27 ноября 194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" descr="C:\Users\Лидия\Desktop\вторая мировая война\ноябрь 41 ростов.jpg"/>
          <p:cNvPicPr/>
          <p:nvPr/>
        </p:nvPicPr>
        <p:blipFill>
          <a:blip r:embed="rId13"/>
          <a:stretch/>
        </p:blipFill>
        <p:spPr>
          <a:xfrm>
            <a:off x="6786720" y="351000"/>
            <a:ext cx="2214360" cy="13716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443" name="TextBox 9"/>
          <p:cNvSpPr/>
          <p:nvPr/>
        </p:nvSpPr>
        <p:spPr>
          <a:xfrm>
            <a:off x="7072200" y="1714680"/>
            <a:ext cx="1785960" cy="520200"/>
          </a:xfrm>
          <a:prstGeom prst="rect">
            <a:avLst/>
          </a:prstGeom>
          <a:solidFill>
            <a:srgbClr val="8a8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Ростов -на –Дону. Ноябрь 1941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6" descr="C:\Users\Лидия\Desktop\вторая мировая война\пленные красноармейцы в минске.jpg"/>
          <p:cNvPicPr/>
          <p:nvPr/>
        </p:nvPicPr>
        <p:blipFill>
          <a:blip r:embed="rId14"/>
          <a:stretch/>
        </p:blipFill>
        <p:spPr>
          <a:xfrm>
            <a:off x="500040" y="4429080"/>
            <a:ext cx="2286000" cy="145584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sp>
        <p:nvSpPr>
          <p:cNvPr id="445" name="TextBox 11"/>
          <p:cNvSpPr/>
          <p:nvPr/>
        </p:nvSpPr>
        <p:spPr>
          <a:xfrm>
            <a:off x="357120" y="5929200"/>
            <a:ext cx="2643120" cy="520200"/>
          </a:xfrm>
          <a:prstGeom prst="rect">
            <a:avLst/>
          </a:prstGeom>
          <a:solidFill>
            <a:srgbClr val="8a8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Пленные красноармейцы в Минс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"/>
          <p:cNvSpPr/>
          <p:nvPr/>
        </p:nvSpPr>
        <p:spPr>
          <a:xfrm>
            <a:off x="1500120" y="357120"/>
            <a:ext cx="6215040" cy="947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Причины неудач Красной Ар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2"/>
          <p:cNvSpPr/>
          <p:nvPr/>
        </p:nvSpPr>
        <p:spPr>
          <a:xfrm>
            <a:off x="1500120" y="1143000"/>
            <a:ext cx="6357960" cy="558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Сталин верил, что Германия будет соблюдать договор о ненапад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Просчеты военного руководства и лично Сталина в определении главных  ударов агресс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Переоценка возможностей Красной Армии , ошибочная тактика действий в условиях обор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Низкий профессиональный уровень командного состава  армии вследствие репрессий 1930г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Преобладание устаревших образцов военной техники и воору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Отсутствие боевого опыта Красной Ар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За первые сутки войны было уничтожено более 1200 советских самолетов, разрушены аэродромы, скл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Неожиданная для советских войск немецкая тактика «танковых клеще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Германия имела значительный военный и экономический перевес, на армию гитлеровцев работала промышленность 14 стран Евро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1428840" y="428760"/>
            <a:ext cx="3286080" cy="5205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Битва за Москв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2"/>
          <a:stretch/>
        </p:blipFill>
        <p:spPr>
          <a:xfrm>
            <a:off x="5715000" y="142920"/>
            <a:ext cx="3254400" cy="64166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571680" y="1357200"/>
            <a:ext cx="3429000" cy="131364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Операция «Тайфун» – план немецкого командования по захвату 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4"/>
          <p:cNvSpPr/>
          <p:nvPr/>
        </p:nvSpPr>
        <p:spPr>
          <a:xfrm>
            <a:off x="1000080" y="2928960"/>
            <a:ext cx="4286160" cy="34480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Этапы сра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– 30 сентября 1941г. –наступление немецких вой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– 15-16 ноября – второе наступление немецких вой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– 5-6 декабря 1941г. – контрнаступление Красной Ар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Апрель  1942г.  - завершение сра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1"/>
          <p:cNvSpPr/>
          <p:nvPr/>
        </p:nvSpPr>
        <p:spPr>
          <a:xfrm>
            <a:off x="2357280" y="357120"/>
            <a:ext cx="4572000" cy="520560"/>
          </a:xfrm>
          <a:prstGeom prst="rect">
            <a:avLst/>
          </a:prstGeom>
          <a:solidFill>
            <a:srgbClr val="a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mbria"/>
              </a:rPr>
              <a:t>Ход битвы за Моск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TextBox 2"/>
          <p:cNvGrpSpPr/>
          <p:nvPr/>
        </p:nvGrpSpPr>
        <p:grpSpPr>
          <a:xfrm>
            <a:off x="414360" y="1200240"/>
            <a:ext cx="2170080" cy="1225440"/>
            <a:chOff x="414360" y="1200240"/>
            <a:chExt cx="2170080" cy="1225440"/>
          </a:xfrm>
        </p:grpSpPr>
        <p:pic>
          <p:nvPicPr>
            <p:cNvPr id="454" name="TextBox 2" descr=""/>
            <p:cNvPicPr/>
            <p:nvPr/>
          </p:nvPicPr>
          <p:blipFill>
            <a:blip r:embed="rId2"/>
            <a:stretch/>
          </p:blipFill>
          <p:spPr>
            <a:xfrm>
              <a:off x="414360" y="1200240"/>
              <a:ext cx="21700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428760" y="1214280"/>
              <a:ext cx="214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Cambria"/>
                </a:rPr>
                <a:t>Начало – 30 сентября 1941г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Стрелка вправо 3"/>
          <p:cNvSpPr/>
          <p:nvPr/>
        </p:nvSpPr>
        <p:spPr>
          <a:xfrm>
            <a:off x="2714760" y="164304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3714840" y="1143000"/>
            <a:ext cx="3643200" cy="1313640"/>
          </a:xfrm>
          <a:prstGeom prst="rect">
            <a:avLst/>
          </a:prstGeom>
          <a:solidFill>
            <a:srgbClr val="a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ambria"/>
              </a:rPr>
              <a:t>Попытка взять столицу при помощи лобовой атаки в центральной части фро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"/>
          <p:cNvSpPr/>
          <p:nvPr/>
        </p:nvSpPr>
        <p:spPr>
          <a:xfrm>
            <a:off x="785880" y="2428920"/>
            <a:ext cx="5715000" cy="2014200"/>
          </a:xfrm>
          <a:prstGeom prst="rect">
            <a:avLst/>
          </a:prstGeom>
          <a:solidFill>
            <a:srgbClr val="a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ambria"/>
              </a:rPr>
              <a:t>Окружение советских войск в районе Вязь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ambria"/>
              </a:rPr>
              <a:t>Назначение Жукова Г.К. командующим Западным фронтом, оборонявшим Москву (10 октября 1941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ambria"/>
              </a:rPr>
              <a:t>Захват противником г. Можайска  (18.10.1941г.) и Волоколамска (27.10.1941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857160" y="4500720"/>
            <a:ext cx="6858000" cy="642600"/>
          </a:xfrm>
          <a:prstGeom prst="rect">
            <a:avLst/>
          </a:prstGeom>
          <a:solidFill>
            <a:srgbClr val="aac8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ambria"/>
              </a:rPr>
              <a:t>19 октября 1941г. – введение осадного положения в Моск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7"/>
          <p:cNvSpPr/>
          <p:nvPr/>
        </p:nvSpPr>
        <p:spPr>
          <a:xfrm>
            <a:off x="857160" y="5072040"/>
            <a:ext cx="6858000" cy="642600"/>
          </a:xfrm>
          <a:prstGeom prst="rect">
            <a:avLst/>
          </a:prstGeom>
          <a:solidFill>
            <a:srgbClr val="aac8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ambria"/>
              </a:rPr>
              <a:t>Подтягивание резервов к Москве из глубины страны (58 стрелковых  и 15 кавалеристских дивиз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8"/>
          <p:cNvSpPr/>
          <p:nvPr/>
        </p:nvSpPr>
        <p:spPr>
          <a:xfrm>
            <a:off x="928800" y="6000840"/>
            <a:ext cx="6858000" cy="642600"/>
          </a:xfrm>
          <a:prstGeom prst="rect">
            <a:avLst/>
          </a:prstGeom>
          <a:solidFill>
            <a:srgbClr val="aac8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ambria"/>
              </a:rPr>
              <a:t>30 октября 1941г. – остановлено первое наступление врага на Моск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2" descr="C:\Users\Лидия\Desktop\вторая мировая война\жуков.jpeg"/>
          <p:cNvPicPr/>
          <p:nvPr/>
        </p:nvPicPr>
        <p:blipFill>
          <a:blip r:embed="rId3"/>
          <a:stretch/>
        </p:blipFill>
        <p:spPr>
          <a:xfrm>
            <a:off x="7643880" y="357120"/>
            <a:ext cx="1177920" cy="130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3" name="TextBox 10"/>
          <p:cNvSpPr/>
          <p:nvPr/>
        </p:nvSpPr>
        <p:spPr>
          <a:xfrm>
            <a:off x="7786800" y="1785960"/>
            <a:ext cx="107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Жуков Г.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3" descr="C:\Users\Лидия\Desktop\вторая мировая война\31.jpg"/>
          <p:cNvPicPr/>
          <p:nvPr/>
        </p:nvPicPr>
        <p:blipFill>
          <a:blip r:embed="rId4"/>
          <a:stretch/>
        </p:blipFill>
        <p:spPr>
          <a:xfrm>
            <a:off x="6786720" y="2428920"/>
            <a:ext cx="20793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1"/>
          <p:cNvSpPr/>
          <p:nvPr/>
        </p:nvSpPr>
        <p:spPr>
          <a:xfrm>
            <a:off x="2214720" y="428760"/>
            <a:ext cx="4643280" cy="520560"/>
          </a:xfrm>
          <a:prstGeom prst="rect">
            <a:avLst/>
          </a:prstGeom>
          <a:solidFill>
            <a:srgbClr val="a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mbria"/>
              </a:rPr>
              <a:t>Ход битвы за Моск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2"/>
          <p:cNvSpPr/>
          <p:nvPr/>
        </p:nvSpPr>
        <p:spPr>
          <a:xfrm>
            <a:off x="571680" y="1357200"/>
            <a:ext cx="3000240" cy="1008720"/>
          </a:xfrm>
          <a:prstGeom prst="rect">
            <a:avLst/>
          </a:prstGeom>
          <a:solidFill>
            <a:srgbClr val="aac8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ambria"/>
              </a:rPr>
              <a:t>Новое наступление немцев с 15 ноября 1941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трелка вправо 3"/>
          <p:cNvSpPr/>
          <p:nvPr/>
        </p:nvSpPr>
        <p:spPr>
          <a:xfrm>
            <a:off x="3714840" y="171468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4"/>
          <p:cNvSpPr/>
          <p:nvPr/>
        </p:nvSpPr>
        <p:spPr>
          <a:xfrm>
            <a:off x="4786200" y="1428840"/>
            <a:ext cx="3643560" cy="1313640"/>
          </a:xfrm>
          <a:prstGeom prst="rect">
            <a:avLst/>
          </a:prstGeom>
          <a:solidFill>
            <a:srgbClr val="a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ambria"/>
              </a:rPr>
              <a:t>Попытка взять столицу при помощи фланговых  ударов с севера  (из Клина) и с юга (с Тул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Box 5"/>
          <p:cNvSpPr/>
          <p:nvPr/>
        </p:nvSpPr>
        <p:spPr>
          <a:xfrm>
            <a:off x="5000760" y="3214800"/>
            <a:ext cx="3571920" cy="22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ambria"/>
              </a:rPr>
              <a:t>Захват противником г. Солнечногорска (24.11.1941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ambria"/>
              </a:rPr>
              <a:t>Тулу фашистам взять не удалось, и их наступление стало выдых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2" descr="C:\Users\Лидия\Desktop\вторая мировая война\25.jpg"/>
          <p:cNvPicPr/>
          <p:nvPr/>
        </p:nvPicPr>
        <p:blipFill>
          <a:blip r:embed="rId2"/>
          <a:stretch/>
        </p:blipFill>
        <p:spPr>
          <a:xfrm>
            <a:off x="714240" y="2714760"/>
            <a:ext cx="3737160" cy="367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1" name="TextBox 7"/>
          <p:cNvSpPr/>
          <p:nvPr/>
        </p:nvSpPr>
        <p:spPr>
          <a:xfrm>
            <a:off x="4286160" y="5857920"/>
            <a:ext cx="4071960" cy="580680"/>
          </a:xfrm>
          <a:prstGeom prst="rect">
            <a:avLst/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Парад  на Красной площади 7 ноября 1941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2143080" y="285840"/>
            <a:ext cx="5357880" cy="1373760"/>
          </a:xfrm>
          <a:prstGeom prst="rect">
            <a:avLst/>
          </a:prstGeom>
          <a:solidFill>
            <a:srgbClr val="a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«Велика Россия, а отступать некуда: позади Москв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2" descr="C:\Users\Лидия\Desktop\вторая мировая война\клочков вас.георг..png"/>
          <p:cNvPicPr/>
          <p:nvPr/>
        </p:nvPicPr>
        <p:blipFill>
          <a:blip r:embed="rId2"/>
          <a:stretch/>
        </p:blipFill>
        <p:spPr>
          <a:xfrm>
            <a:off x="7429680" y="428760"/>
            <a:ext cx="1199880" cy="147636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474" name="Picture 3" descr="C:\Users\Лидия\Desktop\вторая мировая война\памфиловцы.jpg"/>
          <p:cNvPicPr/>
          <p:nvPr/>
        </p:nvPicPr>
        <p:blipFill>
          <a:blip r:embed="rId3"/>
          <a:stretch/>
        </p:blipFill>
        <p:spPr>
          <a:xfrm>
            <a:off x="357120" y="1214280"/>
            <a:ext cx="3200400" cy="171144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475" name="Picture 4" descr="C:\Users\Лидия\Desktop\вторая мировая война\панфиловцы 1.jpg"/>
          <p:cNvPicPr/>
          <p:nvPr/>
        </p:nvPicPr>
        <p:blipFill>
          <a:blip r:embed="rId4"/>
          <a:stretch/>
        </p:blipFill>
        <p:spPr>
          <a:xfrm>
            <a:off x="2143080" y="2643120"/>
            <a:ext cx="1738440" cy="115560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sp>
        <p:nvSpPr>
          <p:cNvPr id="476" name="TextBox 5"/>
          <p:cNvSpPr/>
          <p:nvPr/>
        </p:nvSpPr>
        <p:spPr>
          <a:xfrm>
            <a:off x="7429680" y="200016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Клочков В.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3857760" y="1571760"/>
            <a:ext cx="3429000" cy="173988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ессмертный подвиг совершили 28 солдат – панфиловцев, не пропустив в районе Дубосеково фашистские та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6" descr="C:\Users\Лидия\Desktop\вторая мировая война\зоя1.jpg"/>
          <p:cNvPicPr/>
          <p:nvPr/>
        </p:nvPicPr>
        <p:blipFill>
          <a:blip r:embed="rId5"/>
          <a:stretch/>
        </p:blipFill>
        <p:spPr>
          <a:xfrm>
            <a:off x="6215040" y="3643200"/>
            <a:ext cx="1252440" cy="164304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479" name="Picture 5" descr="C:\Users\Лидия\Desktop\вторая мировая война\зоя2.jpg"/>
          <p:cNvPicPr/>
          <p:nvPr/>
        </p:nvPicPr>
        <p:blipFill>
          <a:blip r:embed="rId6"/>
          <a:stretch/>
        </p:blipFill>
        <p:spPr>
          <a:xfrm>
            <a:off x="7358040" y="3500280"/>
            <a:ext cx="1295280" cy="97164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sp>
        <p:nvSpPr>
          <p:cNvPr id="480" name="TextBox 9"/>
          <p:cNvSpPr/>
          <p:nvPr/>
        </p:nvSpPr>
        <p:spPr>
          <a:xfrm>
            <a:off x="5857920" y="5357880"/>
            <a:ext cx="2857320" cy="106740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mbria"/>
              </a:rPr>
              <a:t>Зоя Космодемьянская, партизанка, защищала Москву. Погибла от рук фашис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7" descr="C:\Users\Лидия\Desktop\вторая мировая война\памятник подольским курсантам.jpg"/>
          <p:cNvPicPr/>
          <p:nvPr/>
        </p:nvPicPr>
        <p:blipFill>
          <a:blip r:embed="rId7"/>
          <a:stretch/>
        </p:blipFill>
        <p:spPr>
          <a:xfrm>
            <a:off x="2714760" y="4143240"/>
            <a:ext cx="2928960" cy="195264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1"/>
          <p:cNvSpPr/>
          <p:nvPr/>
        </p:nvSpPr>
        <p:spPr>
          <a:xfrm>
            <a:off x="428760" y="4214880"/>
            <a:ext cx="2143080" cy="252756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mbria"/>
              </a:rPr>
              <a:t>В октябре 1941г. Курсанты Подольского военного училища три недели защищали г. Малоярославец на подступах к Моск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5-конечная звезда 13"/>
          <p:cNvSpPr/>
          <p:nvPr/>
        </p:nvSpPr>
        <p:spPr>
          <a:xfrm>
            <a:off x="4357800" y="3357720"/>
            <a:ext cx="714240" cy="642960"/>
          </a:xfrm>
          <a:prstGeom prst="pie">
            <a:avLst/>
          </a:prstGeom>
          <a:solidFill>
            <a:srgbClr val="ff0000"/>
          </a:solidFill>
          <a:ln w="38160">
            <a:solidFill>
              <a:srgbClr val="343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8" descr="C:\Users\Лидия\Desktop\вторая мировая война\21.gif"/>
          <p:cNvPicPr/>
          <p:nvPr/>
        </p:nvPicPr>
        <p:blipFill>
          <a:blip r:embed="rId8"/>
          <a:stretch/>
        </p:blipFill>
        <p:spPr>
          <a:xfrm>
            <a:off x="4572000" y="2928960"/>
            <a:ext cx="35244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1"/>
          <p:cNvSpPr/>
          <p:nvPr/>
        </p:nvSpPr>
        <p:spPr>
          <a:xfrm>
            <a:off x="1357200" y="428760"/>
            <a:ext cx="6643800" cy="947160"/>
          </a:xfrm>
          <a:prstGeom prst="rect">
            <a:avLst/>
          </a:prstGeom>
          <a:solidFill>
            <a:srgbClr val="a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Контрнаступление Красной Армии под Моск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5-конечная звезда 2"/>
          <p:cNvSpPr/>
          <p:nvPr/>
        </p:nvSpPr>
        <p:spPr>
          <a:xfrm>
            <a:off x="7715160" y="714240"/>
            <a:ext cx="785880" cy="857520"/>
          </a:xfrm>
          <a:prstGeom prst="pie">
            <a:avLst/>
          </a:prstGeom>
          <a:solidFill>
            <a:srgbClr val="9d323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Прямоугольник 4" descr=""/>
          <p:cNvPicPr/>
          <p:nvPr/>
        </p:nvPicPr>
        <p:blipFill>
          <a:blip r:embed="rId2"/>
          <a:stretch/>
        </p:blipFill>
        <p:spPr>
          <a:xfrm>
            <a:off x="781200" y="1573200"/>
            <a:ext cx="2412720" cy="1461960"/>
          </a:xfrm>
          <a:prstGeom prst="rect">
            <a:avLst/>
          </a:prstGeom>
          <a:ln w="0">
            <a:noFill/>
          </a:ln>
        </p:spPr>
      </p:pic>
      <p:sp>
        <p:nvSpPr>
          <p:cNvPr id="488" name="Стрелка вправо 5"/>
          <p:cNvSpPr/>
          <p:nvPr/>
        </p:nvSpPr>
        <p:spPr>
          <a:xfrm>
            <a:off x="3143160" y="2357280"/>
            <a:ext cx="100008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4572000" y="2143080"/>
            <a:ext cx="3214800" cy="825480"/>
          </a:xfrm>
          <a:prstGeom prst="rect">
            <a:avLst/>
          </a:prstGeom>
          <a:solidFill>
            <a:srgbClr val="a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Контрнаступление  Красной Ар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0" name="Прямая со стрелкой 10"/>
          <p:cNvCxnSpPr/>
          <p:nvPr/>
        </p:nvCxnSpPr>
        <p:spPr>
          <a:xfrm flipH="1">
            <a:off x="2285640" y="2857680"/>
            <a:ext cx="2215440" cy="786240"/>
          </a:xfrm>
          <a:prstGeom prst="straightConnector1">
            <a:avLst/>
          </a:prstGeom>
          <a:ln w="38160">
            <a:solidFill>
              <a:srgbClr val="e3ede4"/>
            </a:solidFill>
            <a:miter/>
            <a:tailEnd len="med" type="arrow" w="med"/>
          </a:ln>
        </p:spPr>
      </p:cxnSp>
      <p:sp>
        <p:nvSpPr>
          <p:cNvPr id="491" name="TextBox 11"/>
          <p:cNvSpPr/>
          <p:nvPr/>
        </p:nvSpPr>
        <p:spPr>
          <a:xfrm>
            <a:off x="1071720" y="3857760"/>
            <a:ext cx="2643120" cy="2288520"/>
          </a:xfrm>
          <a:prstGeom prst="rect">
            <a:avLst/>
          </a:prstGeom>
          <a:solidFill>
            <a:srgbClr val="c4c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ступление шло до января 1942г. Враг отошел от Москвы на 100-250 км, освобождены города Калинин (Тверь), Калуга, Клин, Волокаламс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2" descr="C:\Users\Лидия\Desktop\вторая мировая война\парад.jpg"/>
          <p:cNvPicPr/>
          <p:nvPr/>
        </p:nvPicPr>
        <p:blipFill>
          <a:blip r:embed="rId3"/>
          <a:stretch/>
        </p:blipFill>
        <p:spPr>
          <a:xfrm>
            <a:off x="357120" y="785880"/>
            <a:ext cx="1214640" cy="91116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493" name="Picture 3" descr="C:\Users\Лидия\Desktop\вторая мировая война\34.jpg"/>
          <p:cNvPicPr/>
          <p:nvPr/>
        </p:nvPicPr>
        <p:blipFill>
          <a:blip r:embed="rId4"/>
          <a:stretch/>
        </p:blipFill>
        <p:spPr>
          <a:xfrm>
            <a:off x="6929280" y="3214800"/>
            <a:ext cx="1578240" cy="104760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494" name="Picture 4" descr="C:\Users\Лидия\Desktop\вторая мировая война\33.jpg"/>
          <p:cNvPicPr/>
          <p:nvPr/>
        </p:nvPicPr>
        <p:blipFill>
          <a:blip r:embed="rId5"/>
          <a:stretch/>
        </p:blipFill>
        <p:spPr>
          <a:xfrm>
            <a:off x="4211640" y="3645000"/>
            <a:ext cx="2809800" cy="178596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495" name="Picture 5" descr="C:\Users\Лидия\Desktop\вторая мировая война\32.jpg"/>
          <p:cNvPicPr/>
          <p:nvPr/>
        </p:nvPicPr>
        <p:blipFill>
          <a:blip r:embed="rId6"/>
          <a:stretch/>
        </p:blipFill>
        <p:spPr>
          <a:xfrm>
            <a:off x="6572160" y="5072040"/>
            <a:ext cx="1938600" cy="128736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43040" y="571680"/>
            <a:ext cx="5929200" cy="947160"/>
          </a:xfrm>
          <a:prstGeom prst="rect">
            <a:avLst/>
          </a:prstGeom>
          <a:solidFill>
            <a:srgbClr val="c4c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Значение победы под Моск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2"/>
          <p:cNvSpPr/>
          <p:nvPr/>
        </p:nvSpPr>
        <p:spPr>
          <a:xfrm>
            <a:off x="428760" y="1428840"/>
            <a:ext cx="5429160" cy="5213160"/>
          </a:xfrm>
          <a:prstGeom prst="rect">
            <a:avLst/>
          </a:prstGeom>
          <a:solidFill>
            <a:srgbClr val="3754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Срыв блицкри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Первое крупное поражение Германии во Второй мировой войне, развеян миф о непобедимости германской ар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Имело колоссальное морально-психологическое значение для ССС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C:\Users\Лидия\Desktop\вторая мировая война\жуков.jpeg"/>
          <p:cNvPicPr/>
          <p:nvPr/>
        </p:nvPicPr>
        <p:blipFill>
          <a:blip r:embed="rId2"/>
          <a:stretch/>
        </p:blipFill>
        <p:spPr>
          <a:xfrm>
            <a:off x="6113520" y="1357200"/>
            <a:ext cx="2316240" cy="2571840"/>
          </a:xfrm>
          <a:prstGeom prst="rect">
            <a:avLst/>
          </a:prstGeom>
          <a:ln w="0">
            <a:noFill/>
          </a:ln>
        </p:spPr>
      </p:pic>
      <p:sp>
        <p:nvSpPr>
          <p:cNvPr id="499" name="TextBox 4"/>
          <p:cNvSpPr/>
          <p:nvPr/>
        </p:nvSpPr>
        <p:spPr>
          <a:xfrm>
            <a:off x="6572160" y="40006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Жуков Г.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1"/>
          <p:cNvSpPr/>
          <p:nvPr/>
        </p:nvSpPr>
        <p:spPr>
          <a:xfrm>
            <a:off x="1000080" y="285840"/>
            <a:ext cx="7500960" cy="94716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Военные действия весной и летом 1942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2"/>
          <p:cNvSpPr/>
          <p:nvPr/>
        </p:nvSpPr>
        <p:spPr>
          <a:xfrm>
            <a:off x="714240" y="1071720"/>
            <a:ext cx="3000600" cy="2228400"/>
          </a:xfrm>
          <a:prstGeom prst="rect">
            <a:avLst/>
          </a:prstGeom>
          <a:solidFill>
            <a:srgbClr val="67645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Генеральный штаб Красной Армии предложил на лето 1942г. план глубокой обороны (Жуков, Рокоссовский, Василевский, Коне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Стрелка вправо 3"/>
          <p:cNvSpPr/>
          <p:nvPr/>
        </p:nvSpPr>
        <p:spPr>
          <a:xfrm>
            <a:off x="3786120" y="2071800"/>
            <a:ext cx="100008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67645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5000760" y="1071720"/>
            <a:ext cx="3857400" cy="2533320"/>
          </a:xfrm>
          <a:prstGeom prst="rect">
            <a:avLst/>
          </a:prstGeom>
          <a:solidFill>
            <a:srgbClr val="67645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Цель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Измотать противника оборонительными бо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Сорвать наступление немецких войск летом 1942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Подготовить наступление Красной Ар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4286160" y="4000680"/>
            <a:ext cx="4357800" cy="1923480"/>
          </a:xfrm>
          <a:prstGeom prst="rect">
            <a:avLst/>
          </a:prstGeom>
          <a:solidFill>
            <a:srgbClr val="67645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Сталин, совершив ошибку в оценке ситуации, потребовал проведения новых, крупных наступательных операций (его поддержали Тимошенко, Ворошил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C:\Users\Лидия\Documents\11 класс\ВОВ\коренной перелом\жуков.jpg"/>
          <p:cNvPicPr/>
          <p:nvPr/>
        </p:nvPicPr>
        <p:blipFill>
          <a:blip r:embed="rId2"/>
          <a:stretch/>
        </p:blipFill>
        <p:spPr>
          <a:xfrm>
            <a:off x="214200" y="3214800"/>
            <a:ext cx="992160" cy="128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6" name="Picture 3" descr="C:\Users\Лидия\Documents\11 класс\ВОВ\коренной перелом\василевский а.м..jpg"/>
          <p:cNvPicPr/>
          <p:nvPr/>
        </p:nvPicPr>
        <p:blipFill>
          <a:blip r:embed="rId3"/>
          <a:stretch/>
        </p:blipFill>
        <p:spPr>
          <a:xfrm>
            <a:off x="1071720" y="3714840"/>
            <a:ext cx="880920" cy="112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7" name="Picture 4" descr="C:\Users\Лидия\Documents\11 класс\ВОВ\коренной перелом\конев ис.jpg"/>
          <p:cNvPicPr/>
          <p:nvPr/>
        </p:nvPicPr>
        <p:blipFill>
          <a:blip r:embed="rId4"/>
          <a:stretch/>
        </p:blipFill>
        <p:spPr>
          <a:xfrm>
            <a:off x="1857240" y="4071960"/>
            <a:ext cx="1090800" cy="119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8" name="Picture 5" descr="C:\Users\Лидия\Documents\11 класс\ВОВ\коренной перелом\рокоссовский кк.jpg"/>
          <p:cNvPicPr/>
          <p:nvPr/>
        </p:nvPicPr>
        <p:blipFill>
          <a:blip r:embed="rId5"/>
          <a:stretch/>
        </p:blipFill>
        <p:spPr>
          <a:xfrm>
            <a:off x="2786040" y="4500720"/>
            <a:ext cx="819000" cy="1174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9" name="TextBox 10"/>
          <p:cNvSpPr/>
          <p:nvPr/>
        </p:nvSpPr>
        <p:spPr>
          <a:xfrm>
            <a:off x="142920" y="4500720"/>
            <a:ext cx="9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mbria"/>
              </a:rPr>
              <a:t>Жуков Г.К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11"/>
          <p:cNvSpPr/>
          <p:nvPr/>
        </p:nvSpPr>
        <p:spPr>
          <a:xfrm>
            <a:off x="214200" y="485784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mbria"/>
              </a:rPr>
              <a:t>Василевский  А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12"/>
          <p:cNvSpPr/>
          <p:nvPr/>
        </p:nvSpPr>
        <p:spPr>
          <a:xfrm>
            <a:off x="1571760" y="52149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mbria"/>
              </a:rPr>
              <a:t>Конев И.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13"/>
          <p:cNvSpPr/>
          <p:nvPr/>
        </p:nvSpPr>
        <p:spPr>
          <a:xfrm>
            <a:off x="1928880" y="5715000"/>
            <a:ext cx="157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mbria"/>
              </a:rPr>
              <a:t>Рокоссовский К.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6" descr="C:\Users\Лидия\Documents\11 класс\ВОВ\коренной перелом\тимошенко ск.jpg"/>
          <p:cNvPicPr/>
          <p:nvPr/>
        </p:nvPicPr>
        <p:blipFill>
          <a:blip r:embed="rId6"/>
          <a:stretch/>
        </p:blipFill>
        <p:spPr>
          <a:xfrm>
            <a:off x="3571920" y="5286240"/>
            <a:ext cx="733320" cy="10479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5"/>
          <p:cNvSpPr/>
          <p:nvPr/>
        </p:nvSpPr>
        <p:spPr>
          <a:xfrm>
            <a:off x="2143080" y="614376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mbria"/>
              </a:rPr>
              <a:t>Тимошенко С.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7" descr="C:\Users\Лидия\Documents\11 класс\ВОВ\первый период\23.jpg"/>
          <p:cNvPicPr/>
          <p:nvPr/>
        </p:nvPicPr>
        <p:blipFill>
          <a:blip r:embed="rId7"/>
          <a:stretch/>
        </p:blipFill>
        <p:spPr>
          <a:xfrm>
            <a:off x="7572240" y="5357880"/>
            <a:ext cx="126216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"/>
          <p:cNvSpPr/>
          <p:nvPr/>
        </p:nvSpPr>
        <p:spPr>
          <a:xfrm>
            <a:off x="642960" y="428760"/>
            <a:ext cx="7858080" cy="5929200"/>
          </a:xfrm>
          <a:prstGeom prst="rect">
            <a:avLst/>
          </a:prstGeom>
          <a:solidFill>
            <a:srgbClr val="d0e0d0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Периодизация Великой Отечественной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ериод: 22 июня 1941г. – 18 ноября 1942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ериод: 19 ноября 1942г. – конец 1943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ериод: начало 1944г. – 9 мая 1945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ериод: 8 августа 1945г. – 2 сентября 1945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7143840" y="285840"/>
            <a:ext cx="169524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9" name="Picture 3" descr=""/>
          <p:cNvPicPr/>
          <p:nvPr/>
        </p:nvPicPr>
        <p:blipFill>
          <a:blip r:embed="rId3"/>
          <a:stretch/>
        </p:blipFill>
        <p:spPr>
          <a:xfrm>
            <a:off x="0" y="5143680"/>
            <a:ext cx="1000080" cy="134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0" name="Picture 4" descr=""/>
          <p:cNvPicPr/>
          <p:nvPr/>
        </p:nvPicPr>
        <p:blipFill>
          <a:blip r:embed="rId4"/>
          <a:stretch/>
        </p:blipFill>
        <p:spPr>
          <a:xfrm>
            <a:off x="928800" y="5643720"/>
            <a:ext cx="126180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1" name="Picture 5" descr=""/>
          <p:cNvPicPr/>
          <p:nvPr/>
        </p:nvPicPr>
        <p:blipFill>
          <a:blip r:embed="rId5"/>
          <a:stretch/>
        </p:blipFill>
        <p:spPr>
          <a:xfrm>
            <a:off x="2143080" y="5786280"/>
            <a:ext cx="1071720" cy="9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"/>
          <p:cNvSpPr/>
          <p:nvPr/>
        </p:nvSpPr>
        <p:spPr>
          <a:xfrm>
            <a:off x="857160" y="357120"/>
            <a:ext cx="7572600" cy="947160"/>
          </a:xfrm>
          <a:prstGeom prst="rect">
            <a:avLst/>
          </a:prstGeom>
          <a:solidFill>
            <a:srgbClr val="67645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Военные действия весной и летом 1942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2"/>
          <p:cNvSpPr/>
          <p:nvPr/>
        </p:nvSpPr>
        <p:spPr>
          <a:xfrm>
            <a:off x="642960" y="1214280"/>
            <a:ext cx="5214960" cy="4362840"/>
          </a:xfrm>
          <a:prstGeom prst="rect">
            <a:avLst/>
          </a:prstGeom>
          <a:solidFill>
            <a:srgbClr val="4d5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ступательные операции Красной Армии весной-летом 1942г. провалилис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перация по прорыву блокады Ленинграда не удала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ступление в Крыму закончилось катастрофой (падение Севастополя и ликвидация Крымского фронта Красной Ар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ступление в районе Харькова позволило немцам провести контроперацию и окружить 240тыс. красноармейцев. 24 июля фашисты захватили Ростов-на-Д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3"/>
          <p:cNvSpPr/>
          <p:nvPr/>
        </p:nvSpPr>
        <p:spPr>
          <a:xfrm>
            <a:off x="1000080" y="5929200"/>
            <a:ext cx="6500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a"/>
                </a:solidFill>
                <a:latin typeface="Cambria"/>
              </a:rPr>
              <a:t>27 июля 1942г. – приказ № 227 «Ни шагу назад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2" descr="C:\Users\Лидия\Documents\11 класс\ВОВ\коренной перелом\плен. красноармейцы район Харькова.jpg"/>
          <p:cNvPicPr/>
          <p:nvPr/>
        </p:nvPicPr>
        <p:blipFill>
          <a:blip r:embed="rId2"/>
          <a:stretch/>
        </p:blipFill>
        <p:spPr>
          <a:xfrm>
            <a:off x="6215040" y="1071720"/>
            <a:ext cx="2367000" cy="12855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520" name="TextBox 5"/>
          <p:cNvSpPr/>
          <p:nvPr/>
        </p:nvSpPr>
        <p:spPr>
          <a:xfrm>
            <a:off x="6072120" y="2500200"/>
            <a:ext cx="2571840" cy="733320"/>
          </a:xfrm>
          <a:prstGeom prst="rect">
            <a:avLst/>
          </a:prstGeom>
          <a:solidFill>
            <a:srgbClr val="4547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Пленные красноармейцы. Район Харькова. 1942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3" descr="C:\Users\Лидия\Documents\11 класс\ВОВ\коренной перелом\бои в Ростове.jpg"/>
          <p:cNvPicPr/>
          <p:nvPr/>
        </p:nvPicPr>
        <p:blipFill>
          <a:blip r:embed="rId3"/>
          <a:stretch/>
        </p:blipFill>
        <p:spPr>
          <a:xfrm>
            <a:off x="7334280" y="3071880"/>
            <a:ext cx="1619280" cy="12142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522" name="TextBox 7"/>
          <p:cNvSpPr/>
          <p:nvPr/>
        </p:nvSpPr>
        <p:spPr>
          <a:xfrm>
            <a:off x="6072120" y="3286080"/>
            <a:ext cx="1143000" cy="733320"/>
          </a:xfrm>
          <a:prstGeom prst="rect">
            <a:avLst/>
          </a:prstGeom>
          <a:solidFill>
            <a:srgbClr val="4547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Бои в Ростове-на-Дон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4" descr="C:\Users\Лидия\Documents\11 класс\ВОВ\коренной перелом\оборона ленинграда.jpg"/>
          <p:cNvPicPr/>
          <p:nvPr/>
        </p:nvPicPr>
        <p:blipFill>
          <a:blip r:embed="rId4"/>
          <a:stretch/>
        </p:blipFill>
        <p:spPr>
          <a:xfrm>
            <a:off x="6000840" y="4143240"/>
            <a:ext cx="1697040" cy="1233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524" name="TextBox 9"/>
          <p:cNvSpPr/>
          <p:nvPr/>
        </p:nvSpPr>
        <p:spPr>
          <a:xfrm>
            <a:off x="6000840" y="5429160"/>
            <a:ext cx="2357280" cy="307080"/>
          </a:xfrm>
          <a:prstGeom prst="rect">
            <a:avLst/>
          </a:prstGeom>
          <a:solidFill>
            <a:srgbClr val="4547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Оборона Ленингра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C:\Users\Лидия\Desktop\вторая мировая война\13.jpg"/>
          <p:cNvPicPr/>
          <p:nvPr/>
        </p:nvPicPr>
        <p:blipFill>
          <a:blip r:embed="rId2"/>
          <a:stretch/>
        </p:blipFill>
        <p:spPr>
          <a:xfrm>
            <a:off x="3071880" y="2068560"/>
            <a:ext cx="5286240" cy="4306680"/>
          </a:xfrm>
          <a:prstGeom prst="rect">
            <a:avLst/>
          </a:prstGeom>
          <a:ln w="0">
            <a:noFill/>
          </a:ln>
        </p:spPr>
      </p:pic>
      <p:sp>
        <p:nvSpPr>
          <p:cNvPr id="403" name="TextBox 2"/>
          <p:cNvSpPr/>
          <p:nvPr/>
        </p:nvSpPr>
        <p:spPr>
          <a:xfrm>
            <a:off x="1143000" y="214200"/>
            <a:ext cx="7143840" cy="173952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План «Барбаросса» -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план захвата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Блицкриг –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молниеносная вой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План «Ост»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– план уничтожения населения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3" descr="C:\Users\Лидия\Desktop\вторая мировая война\14.jpg"/>
          <p:cNvPicPr/>
          <p:nvPr/>
        </p:nvPicPr>
        <p:blipFill>
          <a:blip r:embed="rId3"/>
          <a:stretch/>
        </p:blipFill>
        <p:spPr>
          <a:xfrm>
            <a:off x="7286760" y="5429160"/>
            <a:ext cx="1674720" cy="12096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642960" y="2357280"/>
            <a:ext cx="1714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Против СССР вместе с Германией воевал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Итал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Румы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Венг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Финлянд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" descr="C:\Users\Лидия\Desktop\вторая мировая война\21.gif"/>
          <p:cNvPicPr/>
          <p:nvPr/>
        </p:nvPicPr>
        <p:blipFill>
          <a:blip r:embed="rId4"/>
          <a:stretch/>
        </p:blipFill>
        <p:spPr>
          <a:xfrm>
            <a:off x="5286240" y="4473720"/>
            <a:ext cx="163800" cy="379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Лидия\Desktop\вторая мировая война\21.gif"/>
          <p:cNvPicPr/>
          <p:nvPr/>
        </p:nvPicPr>
        <p:blipFill>
          <a:blip r:embed="rId5"/>
          <a:stretch/>
        </p:blipFill>
        <p:spPr>
          <a:xfrm>
            <a:off x="5072040" y="1967040"/>
            <a:ext cx="214200" cy="495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Users\Лидия\Desktop\вторая мировая война\21.gif"/>
          <p:cNvPicPr/>
          <p:nvPr/>
        </p:nvPicPr>
        <p:blipFill>
          <a:blip r:embed="rId6"/>
          <a:stretch/>
        </p:blipFill>
        <p:spPr>
          <a:xfrm>
            <a:off x="6072120" y="3000240"/>
            <a:ext cx="1843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2000160" y="357120"/>
            <a:ext cx="4643640" cy="94716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Готовность СССР к вой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2"/>
          <p:cNvSpPr/>
          <p:nvPr/>
        </p:nvSpPr>
        <p:spPr>
          <a:xfrm>
            <a:off x="785880" y="1428840"/>
            <a:ext cx="4071960" cy="16185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В основу планов ведения войны СССР была положена доктрина «Красного пакета» – «Бить врага на его территории малой кровью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642960" y="3786120"/>
            <a:ext cx="7858080" cy="283824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ойна с Финляндией выявила  недостаточную подготовленность СССР к войне. Руководство СССР ускорило работу по увеличению обороноспособности страны. Численность  вооруженных сил была увеличена втрое,  достигла 5,3 млн человек. Увеличились сроки службы., военные расходы.  Шла модернизация военной техники (созданы танки: Т-34, КВ; самолеты: Як, МиГ, Ил, автоматы, станковый пулемет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2" descr="C:\Users\Лидия\Desktop\вторая мировая война\23.jpg"/>
          <p:cNvPicPr/>
          <p:nvPr/>
        </p:nvPicPr>
        <p:blipFill>
          <a:blip r:embed="rId2"/>
          <a:stretch/>
        </p:blipFill>
        <p:spPr>
          <a:xfrm>
            <a:off x="5643720" y="1071720"/>
            <a:ext cx="2749320" cy="18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TextBox 5"/>
          <p:cNvSpPr/>
          <p:nvPr/>
        </p:nvSpPr>
        <p:spPr>
          <a:xfrm>
            <a:off x="5286240" y="292896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Cambria"/>
              </a:rPr>
              <a:t>Сталин И.В. и Ворошилов К.Е. в Крем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1"/>
          <p:cNvSpPr/>
          <p:nvPr/>
        </p:nvSpPr>
        <p:spPr>
          <a:xfrm>
            <a:off x="714240" y="428760"/>
            <a:ext cx="7858440" cy="5929200"/>
          </a:xfrm>
          <a:prstGeom prst="rect">
            <a:avLst/>
          </a:prstGeom>
          <a:solidFill>
            <a:srgbClr val="d0e0d0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1428840" y="50004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Начальный период Великой Отечественной во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1143000" y="164304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22 июня 1941г.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– нападение фашистской Германии на ССС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5072040" y="2357280"/>
            <a:ext cx="3357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«Наступление наших войск явилось для противника полной неожиданностью. Части были захвачены  в казарменном положении, самолеты стояли на аэродромах, покрытые брезентом, а передовые части, внезапно атакованные нашими войсками, запрашивали командование о том, что им делать»  Франц Галь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3" descr="C:\Users\Лидия\Desktop\вторая мировая война\9.jpg"/>
          <p:cNvPicPr/>
          <p:nvPr/>
        </p:nvPicPr>
        <p:blipFill>
          <a:blip r:embed="rId2"/>
          <a:stretch/>
        </p:blipFill>
        <p:spPr>
          <a:xfrm>
            <a:off x="1071720" y="3000240"/>
            <a:ext cx="382896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Picture 4" descr="C:\Users\Лидия\Desktop\вторая мировая война\11.jpg"/>
          <p:cNvPicPr/>
          <p:nvPr/>
        </p:nvPicPr>
        <p:blipFill>
          <a:blip r:embed="rId3"/>
          <a:stretch/>
        </p:blipFill>
        <p:spPr>
          <a:xfrm>
            <a:off x="6286680" y="1071720"/>
            <a:ext cx="1744560" cy="12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285840" y="161640"/>
            <a:ext cx="5786280" cy="667764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ВЫСТУПЛЕНИЕ ПО РАДИО ЗАМЕСТИТЕЛЯ ПРЕДСЕДАТЕЛЯ СОВЕТА НАРОДНЫХ КОМИССАРОВ СОЮЗА ССР И НАРОДНОГО КОМИССАРА ИНОСТРАННЫХ ДЕЛ ТОВ. В. М. МОЛО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22 июня 1941 год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…Сегодня, в 4 часа утра, без предъявления каких-либо претензий к Советскому Союзу, без объявления войны, германские войска напали на нашу страну, атаковали наши границы во многих местах и подвергли бомбежке своих самолетов наши города — Житомир, Киев, Севастополь, Каунас и некоторые другие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Красная Армия и весь наш народ вновь поведут победоносную отечественную войну за родину, за честь, за свободу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ше дело правое. Враг будет разбит. Победа будет за н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УКАЗ ПРЕЗИДИУМА ВЕРХОВНОГО СОВЕТА СССР О МОБИЛИЗАЦИИ ВОЕННООБЯЗА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билизации подлежат военнообязанные, родившиеся с 1905 по 1918 год включительно. Первым днем мобилизации считать 23 июня 1941 год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сква, Кремл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22 июня 1941 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2" descr="C:\Users\Лидия\Desktop\вторая мировая война\война.jpg"/>
          <p:cNvPicPr/>
          <p:nvPr/>
        </p:nvPicPr>
        <p:blipFill>
          <a:blip r:embed="rId2"/>
          <a:stretch/>
        </p:blipFill>
        <p:spPr>
          <a:xfrm>
            <a:off x="6072120" y="35712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3"/>
          <p:cNvSpPr/>
          <p:nvPr/>
        </p:nvSpPr>
        <p:spPr>
          <a:xfrm>
            <a:off x="6143760" y="45720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</a:rPr>
              <a:t>Москва. 22 июня 1941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"/>
          <p:cNvSpPr/>
          <p:nvPr/>
        </p:nvSpPr>
        <p:spPr>
          <a:xfrm>
            <a:off x="2571840" y="428760"/>
            <a:ext cx="4286160" cy="94716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Все на борьбу с враго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3" descr="C:\Users\Лидия\Desktop\вторая мировая война\12.jpg"/>
          <p:cNvPicPr/>
          <p:nvPr/>
        </p:nvPicPr>
        <p:blipFill>
          <a:blip r:embed="rId2"/>
          <a:stretch/>
        </p:blipFill>
        <p:spPr>
          <a:xfrm>
            <a:off x="428760" y="285840"/>
            <a:ext cx="1214280" cy="195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5" name="TextBox 3"/>
          <p:cNvSpPr/>
          <p:nvPr/>
        </p:nvSpPr>
        <p:spPr>
          <a:xfrm>
            <a:off x="2786040" y="1214280"/>
            <a:ext cx="5643720" cy="192348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трану охватил патриотический подъем. Героическое сопротивление противнику приобрело массовый характ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1919"/>
                </a:solidFill>
                <a:latin typeface="Cambria"/>
              </a:rPr>
              <a:t>«Русские повсюду сражаются до последнего человека»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: генерал Гальд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2" descr="C:\Users\Лидия\Desktop\вторая мировая война\16.jpg"/>
          <p:cNvPicPr/>
          <p:nvPr/>
        </p:nvPicPr>
        <p:blipFill>
          <a:blip r:embed="rId3"/>
          <a:stretch/>
        </p:blipFill>
        <p:spPr>
          <a:xfrm>
            <a:off x="500040" y="2571840"/>
            <a:ext cx="2286000" cy="21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7" name="Picture 3" descr="C:\Users\Лидия\Desktop\вторая мировая война\18.jpg"/>
          <p:cNvPicPr/>
          <p:nvPr/>
        </p:nvPicPr>
        <p:blipFill>
          <a:blip r:embed="rId4"/>
          <a:stretch/>
        </p:blipFill>
        <p:spPr>
          <a:xfrm>
            <a:off x="2000160" y="4572000"/>
            <a:ext cx="2813040" cy="15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8" name="TextBox 6"/>
          <p:cNvSpPr/>
          <p:nvPr/>
        </p:nvSpPr>
        <p:spPr>
          <a:xfrm>
            <a:off x="428760" y="5000760"/>
            <a:ext cx="1428480" cy="64260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1919"/>
                </a:solidFill>
                <a:latin typeface="Cambria"/>
              </a:rPr>
              <a:t>Брестская креп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4" descr="C:\Users\Лидия\Desktop\вторая мировая война\добровольцы.jpg"/>
          <p:cNvPicPr/>
          <p:nvPr/>
        </p:nvPicPr>
        <p:blipFill>
          <a:blip r:embed="rId5"/>
          <a:stretch/>
        </p:blipFill>
        <p:spPr>
          <a:xfrm>
            <a:off x="5214960" y="3143160"/>
            <a:ext cx="3387600" cy="215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0" name="TextBox 8"/>
          <p:cNvSpPr/>
          <p:nvPr/>
        </p:nvSpPr>
        <p:spPr>
          <a:xfrm>
            <a:off x="6215040" y="5500800"/>
            <a:ext cx="1785960" cy="64260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1919"/>
                </a:solidFill>
                <a:latin typeface="Cambria"/>
              </a:rPr>
              <a:t>Добровольц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2"/>
          <p:cNvSpPr/>
          <p:nvPr/>
        </p:nvSpPr>
        <p:spPr>
          <a:xfrm>
            <a:off x="1042920" y="404640"/>
            <a:ext cx="7777080" cy="6143760"/>
          </a:xfrm>
          <a:prstGeom prst="rect">
            <a:avLst/>
          </a:prstGeom>
          <a:solidFill>
            <a:srgbClr val="d0e0d0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3"/>
          <p:cNvSpPr/>
          <p:nvPr/>
        </p:nvSpPr>
        <p:spPr>
          <a:xfrm>
            <a:off x="714240" y="42876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Меры по организации отпора фашистской агре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900000" y="2133720"/>
            <a:ext cx="75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Директива Совнаркома СССР и ЦК ВКП(б) от 29.06.1941г. – программа превращения страны в единый военный лаге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Образование  Государственного Комитета Обороны (ГКО), как чрезвычайного органа, сосредоточившего всю полноту власти в стране в период войны – во главе Сталин И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Создание Ставки Главного Командования (переименованной в Ставку Верховного Главнокомандования) – во главе Сталин И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Проведение всеобщей мобилизации. Введение военного 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Осуществление эвакуации. Перестройка экономики на  военный л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Организация подпольного и партизанского сопротивления в оккупированных район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3" descr="C:\Users\Лидия\Desktop\вторая мировая война\12.jpg"/>
          <p:cNvPicPr/>
          <p:nvPr/>
        </p:nvPicPr>
        <p:blipFill>
          <a:blip r:embed="rId2"/>
          <a:stretch/>
        </p:blipFill>
        <p:spPr>
          <a:xfrm>
            <a:off x="1476360" y="981000"/>
            <a:ext cx="934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1"/>
          <p:cNvSpPr/>
          <p:nvPr/>
        </p:nvSpPr>
        <p:spPr>
          <a:xfrm>
            <a:off x="785880" y="357120"/>
            <a:ext cx="7858080" cy="94716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Меры по организации отпора фашистской агре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3"/>
          <p:cNvSpPr/>
          <p:nvPr/>
        </p:nvSpPr>
        <p:spPr>
          <a:xfrm>
            <a:off x="1000080" y="1571760"/>
            <a:ext cx="7429680" cy="552132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Восстановление политических отделов в колхозах для усиления трудовой дисцип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Восстановление в армии института военных комиссаров с целью предотвращения отступлений воинских частей и дезерти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Создание минометного, танкового, авиационного нарком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Увеличение рабочего дня до 11 часов, введение обязательных сверхурочных зад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Все рабочие военных предприятий объявлены мобилизованными и прикреплены к своим предприят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Создание Совета по эвакуации (за полгода эвакуировано на восток 1523 предприятия и более 10млн челове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1:35:12Z</dcterms:created>
  <dc:creator>Лидия</dc:creator>
  <dc:description/>
  <dc:language>en-US</dc:language>
  <cp:lastModifiedBy>Admin</cp:lastModifiedBy>
  <dcterms:modified xsi:type="dcterms:W3CDTF">2012-01-14T18:20:46Z</dcterms:modified>
  <cp:revision>72</cp:revision>
  <dc:subject/>
  <dc:title>Слайд 1</dc:title>
</cp:coreProperties>
</file>