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C4A-13C1-424E-AF72-C2EB784A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83C-1F1B-480F-803F-08B01A83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F72-0883-458D-9B1D-216F4240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C16-6034-4082-9540-5E8E5DF4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48E-F8E2-496D-A98A-410ABC8E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EF3-80DC-4942-82E3-BFE3A623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5D3-65E0-469E-B247-196DB190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4DB-9D94-40BA-BAC8-1B408C10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A86-1621-48BB-9A05-5E3E6449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965-7216-45AF-A429-A06DC17E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A1C-2D65-4495-99E3-5F1FAFF0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9BB-2EDC-4202-AB71-2FFB6912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D4B1-CD61-466E-BFE6-7002FA668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Формирование коммуникативных навыков детей дошкольного возраста в игр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495288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Подготовила воспитатель: Лысогорская Ирина Алексе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Рекомендации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ff"/>
                </a:solidFill>
                <a:latin typeface="Arial"/>
              </a:rPr>
              <a:t>Научить детей входить в положение собеседника или партнера по совместной деятельности, думать о том влиянии, какое их поведение, словесные высказывания могут оказать на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337_0105"/>
          <p:cNvPicPr/>
          <p:nvPr/>
        </p:nvPicPr>
        <p:blipFill>
          <a:blip r:embed="rId1"/>
          <a:stretch/>
        </p:blipFill>
        <p:spPr>
          <a:xfrm>
            <a:off x="4952880" y="1219320"/>
            <a:ext cx="388620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Объяснять детям, что неосторожно сказанное слово ранит, не менее больно, чем 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318_0207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46418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Научить детей владеть соб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0948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аучить умению анализировать ситу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3386_0135"/>
          <p:cNvPicPr/>
          <p:nvPr/>
        </p:nvPicPr>
        <p:blipFill>
          <a:blip r:embed="rId1"/>
          <a:stretch/>
        </p:blipFill>
        <p:spPr>
          <a:xfrm>
            <a:off x="4495680" y="533520"/>
            <a:ext cx="4254480" cy="5816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4724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Объяснить, что не следует обижать детей, отличающихся от большинства, не желающих согласиться с высказываемым мнением, желанием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Общайтесь с деть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2375_0087"/>
          <p:cNvPicPr/>
          <p:nvPr/>
        </p:nvPicPr>
        <p:blipFill>
          <a:blip r:embed="rId1"/>
          <a:stretch/>
        </p:blipFill>
        <p:spPr>
          <a:xfrm rot="213600">
            <a:off x="4495680" y="2666520"/>
            <a:ext cx="4343400" cy="362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slide0013_image100"/>
          <p:cNvPicPr/>
          <p:nvPr/>
        </p:nvPicPr>
        <p:blipFill>
          <a:blip r:embed="rId2"/>
          <a:stretch/>
        </p:blipFill>
        <p:spPr>
          <a:xfrm rot="187800">
            <a:off x="1218960" y="4495680"/>
            <a:ext cx="2857320" cy="2152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DSC02327.JPG"/>
          <p:cNvPicPr/>
          <p:nvPr/>
        </p:nvPicPr>
        <p:blipFill>
          <a:blip r:embed="rId3"/>
          <a:stretch/>
        </p:blipFill>
        <p:spPr>
          <a:xfrm>
            <a:off x="533520" y="1523880"/>
            <a:ext cx="4038480" cy="28958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ff"/>
                </a:solidFill>
                <a:latin typeface="Arial"/>
              </a:rPr>
              <a:t>Играйте с деть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er_7230"/>
          <p:cNvPicPr/>
          <p:nvPr/>
        </p:nvPicPr>
        <p:blipFill>
          <a:blip r:embed="rId1"/>
          <a:stretch/>
        </p:blipFill>
        <p:spPr>
          <a:xfrm rot="21307200">
            <a:off x="456840" y="1447560"/>
            <a:ext cx="3962520" cy="2798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08"/>
          <p:cNvPicPr/>
          <p:nvPr/>
        </p:nvPicPr>
        <p:blipFill>
          <a:blip r:embed="rId2"/>
          <a:stretch/>
        </p:blipFill>
        <p:spPr>
          <a:xfrm>
            <a:off x="2743200" y="3581280"/>
            <a:ext cx="4076640" cy="271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game_1"/>
          <p:cNvPicPr/>
          <p:nvPr/>
        </p:nvPicPr>
        <p:blipFill>
          <a:blip r:embed="rId3"/>
          <a:stretch/>
        </p:blipFill>
        <p:spPr>
          <a:xfrm rot="430200">
            <a:off x="5714640" y="1447920"/>
            <a:ext cx="2819520" cy="21841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37"/>
          <p:cNvPicPr/>
          <p:nvPr/>
        </p:nvPicPr>
        <p:blipFill>
          <a:blip r:embed="rId1"/>
          <a:stretch/>
        </p:blipFill>
        <p:spPr>
          <a:xfrm rot="21388800">
            <a:off x="608040" y="3238560"/>
            <a:ext cx="3809880" cy="253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3430745251f7a1f204"/>
          <p:cNvPicPr/>
          <p:nvPr/>
        </p:nvPicPr>
        <p:blipFill>
          <a:blip r:embed="rId2"/>
          <a:stretch/>
        </p:blipFill>
        <p:spPr>
          <a:xfrm rot="21465000">
            <a:off x="5313240" y="2790720"/>
            <a:ext cx="2465640" cy="2895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Совместная со взрослым деятельность по формированию навыков общения, не только обогатит опыт детей, но и способна смягчить и даже полностью устранить проблемы в общении у детей в дальнейшем.</a:t>
            </a: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99ff"/>
                </a:solidFill>
                <a:latin typeface="Arial"/>
              </a:rPr>
              <a:t>Актуа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419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Содержание воспитательного процесса в детском саду определяется коммуникативными целями и задачами на всех этапах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60484"/>
          <p:cNvPicPr/>
          <p:nvPr/>
        </p:nvPicPr>
        <p:blipFill>
          <a:blip r:embed="rId1"/>
          <a:stretch/>
        </p:blipFill>
        <p:spPr>
          <a:xfrm>
            <a:off x="5029200" y="304920"/>
            <a:ext cx="364176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view"/>
          <p:cNvPicPr/>
          <p:nvPr/>
        </p:nvPicPr>
        <p:blipFill>
          <a:blip r:embed="rId2"/>
          <a:stretch/>
        </p:blipFill>
        <p:spPr>
          <a:xfrm>
            <a:off x="5029200" y="41148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990720" y="533520"/>
            <a:ext cx="5486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изучить особенности формирования коммуникативных навыков детей дошкольного возраста в игровой деятельности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3430745251f7a1f204"/>
          <p:cNvPicPr/>
          <p:nvPr/>
        </p:nvPicPr>
        <p:blipFill>
          <a:blip r:embed="rId1"/>
          <a:stretch/>
        </p:blipFill>
        <p:spPr>
          <a:xfrm>
            <a:off x="4419720" y="609480"/>
            <a:ext cx="4538520" cy="53341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ределить       особенности  формирования    коммуникативных умений      детей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анализировать и обобщить влияние игровой деятельности на коммуникативное развитие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Изучить способы исследования коммуникативных навыков детей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редложить рекомендации для родителей по формированию коммуникативных навыков детей дошкольного возраст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44197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Зад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6" descr="C:\Users\Катёна\Desktop\п\х15.JPG"/>
          <p:cNvPicPr/>
          <p:nvPr/>
        </p:nvPicPr>
        <p:blipFill>
          <a:blip r:embed="rId2"/>
          <a:srcRect l="9116" t="3760" r="60053" b="77824"/>
          <a:stretch/>
        </p:blipFill>
        <p:spPr>
          <a:xfrm>
            <a:off x="3048120" y="228600"/>
            <a:ext cx="5867280" cy="640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Балльная характер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5562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цен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 балла - ребенок правильно выбрал все 3 карти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балла - ребенок правильно выбрал 2 карти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балл - ребенок правильно выбрал 1 карти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прет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ценку 3 балла получают дети, которые четко распознают различны ситуации взаимодействия, вычленяют задачи и требования, предъявляемые взрослыми в этих ситуациях, и выстраивают свое поведение в соответствии с н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ценку 2 балла получают дети, которые распознают не все ситуации взаимодействия и, соответственно, вычленяют не все задачи, предъявляемые взрослыми. Поведение таких детей не всегда соответствует правилам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ценку 1 балл получают дети, которые почти не распознают ситуации взаимодействия и не вычленяют задачи, предъявляемые взрослыми в этих ситуациях. Такие дети, как правило, испытывают серьезные затруднения при взаимодействии и общении с другими 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388_0088"/>
          <p:cNvPicPr/>
          <p:nvPr/>
        </p:nvPicPr>
        <p:blipFill>
          <a:blip r:embed="rId2"/>
          <a:stretch/>
        </p:blipFill>
        <p:spPr>
          <a:xfrm>
            <a:off x="5486400" y="1219320"/>
            <a:ext cx="3352680" cy="25905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Протоко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ызвался ли выполнить поручение сам ребенок или его попросили; как он отреагировал на просьбу. Важно учитывать следующее: а) ребенок должен знать, куда и к кому он идет; 6) тот, к кому его направляют, в этот момент находится на своем рабочем 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Как ведет себя второй экспериментатор? Поздоровавшись с ребенком, выслушав его, спросив, как зовут, из какой он группы, как зовут педагога, отвечает на поставленный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 возвращении ребенка в группу воспитатель спрашивает, как прошла встре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9" descr="DSC00789.JPG"/>
          <p:cNvPicPr/>
          <p:nvPr/>
        </p:nvPicPr>
        <p:blipFill>
          <a:blip r:embed="rId2"/>
          <a:stretch/>
        </p:blipFill>
        <p:spPr>
          <a:xfrm>
            <a:off x="4648320" y="2725560"/>
            <a:ext cx="4038480" cy="2275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318_0251"/>
          <p:cNvPicPr/>
          <p:nvPr/>
        </p:nvPicPr>
        <p:blipFill>
          <a:blip r:embed="rId1"/>
          <a:stretch/>
        </p:blipFill>
        <p:spPr>
          <a:xfrm>
            <a:off x="4343400" y="2057400"/>
            <a:ext cx="434340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Характеристика уровней эмоциональной окраш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кий уровен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ребе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ктивен, эмоционален, высказыв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числе перв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едний уровен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активе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моционален в меньшей степе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ысказывается о поступк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сонажей вместе со все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Отметим: если в ситу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асности, грозящей уточ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 втором или третьем случа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бенок включается в числе перв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ожно считать: уровень высокий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зкий уровен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в ситуац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ключается всегда последним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все не реагирует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исходящее дей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294920"/>
            <a:ext cx="4800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«Им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«Проигрывание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«Жмур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«Зеркал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310_0047"/>
          <p:cNvPicPr/>
          <p:nvPr/>
        </p:nvPicPr>
        <p:blipFill>
          <a:blip r:embed="rId1"/>
          <a:stretch/>
        </p:blipFill>
        <p:spPr>
          <a:xfrm>
            <a:off x="4267080" y="2438280"/>
            <a:ext cx="4432320" cy="39625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4-11-02T09:28:58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