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317-97A6-4146-BB14-19B8934C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C9F-F1D9-4039-BD34-38A10857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540-5C4A-47E7-AF0D-46A98485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A20-745A-4EDB-852F-52F67475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AF3-6548-4876-A88D-D53D033D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46D-EC9F-4EBA-AD47-B28CBB00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F20-431E-481F-86A4-6D0D53E5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B27-4141-40E9-AF6D-10A0C4CB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B12-9E1C-4E5A-B456-5B06E3DC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5F5-1309-4896-B382-2A81517F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B40-70F9-4BCB-9094-E31C8972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2EA-2439-4975-9A56-D142B8EF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B68B-19EC-4A68-983F-CBEFCABA08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ы взаимодействия школы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71600" y="3500280"/>
            <a:ext cx="507204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гачева Д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БОУ СОШ №28 г.о.Сам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я игр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разновидность массовых, групповых игр, представляющая собой информационно-деятельностную модель проблемной ситуации, в процессе работы над которой участникам игры необходимо выявить противоречие и на основе принятия решений найти оптимальный выход из проблемной сит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я игр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тропе сотрудничест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– оптимизация взаимодействия    взаимоотношений между педагогами и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очение родителей и педагогов, развитие сотрудни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общих задач, стоящих перед школой и семь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творческих способ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я игра педагогов и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D:\Desktop\57442475.jpg"/>
          <p:cNvPicPr/>
          <p:nvPr/>
        </p:nvPicPr>
        <p:blipFill>
          <a:blip r:embed="rId1"/>
          <a:stretch/>
        </p:blipFill>
        <p:spPr>
          <a:xfrm>
            <a:off x="785880" y="1630440"/>
            <a:ext cx="7715160" cy="44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уемых источ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ранкин А. Ю., Е. А. Аркин о семейном воспитании/А. Ю. Гранкин//   Педагогика. 2004. №6. С. 80 – 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реклеева Н.И. Справочник классного руководителя 5-11 кл. + новые собрания. - М.: ВАКО, 2005. – 254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лисеева Т. П. Особенности взаимодействия школы и семьи в современных условиях/Т. П. Елисеева// Класс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. 2005. №5. С. 65 – 7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кон  Российской Федерации «Об образовании»//Федеральные законы и кодексы РФ. М.: Права человека, 2011. - 43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лейдоскоп родительских собраний: метод. разработки. Вып. 1/ под ред. Е.Н.Степанова. - М.: Сфера. 2005. – 13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раковский В.А. Управление воспитательной системой школы: проблемы и решения. - М.: Сфера, 1999. - 24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етодика воспитательной работы/Под ред. В.А. Сластенина. - М.: Издательский центр «Академия», 2004. – 14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Москвина Н.И. Взаимодействие семьи и школы/Н. И. Москвина//Классный руководитель. 2005. №5. С.102 – 1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бразование родителей и школа: Учеб.- метод. пособие/Под ред. С.И. Петреевской. - М.: гуманит. изд. Цент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ЛАДОС», 1999. – 120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Степаненков Н.К. Педагогика: Учебн. пособие. - М.: изд. Скакун В.М., 1998. – 448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Стефановская Т.А. Классный руководитель: Функции и основные направления деятельности. - М.: Издательский цент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кадемия», 2006. – 192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Фридман Л.М. Психология воспитания. Книга для всех, кто любит детей. - М.: Литкон, 2000. – 109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Харламов  И.Ф. Педагогика: учеб. пособие. 3-е изд. - М.: Юристъ, 1997. – 51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Цабыбин С.А. Взаимодействие школы и семьи.- Волгоград: Учитель, 2004. – 9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Черноусова Ф.П. Направления, содержание, формы и методы воспитательной работы классного руководителя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ой основе. – М.: Издательский центр «Педагогический поиск», 2004 - 16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Щуркова Н.Е. Классное руководство.-  М.: Педагогическое общество России, 2000. – 256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Якунин В.А. Педагогическая психология. - СПб.: Полиус, 1998. – 170 с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ы взаимодействия школы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191200" y="4220640"/>
            <a:ext cx="3952800" cy="20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гачева Д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оцесс взаимодействия школы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м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форма и методы взаимодействия школы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выявление и изучение наиболее продуктивных форм и методов взаимодействия школы с родителями, способствующих сотрудничеству семьи и школы в современных социальны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проанализировать научную литературу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бл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дать представление о формах взаимо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колы с родител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рассмотреть возможность новых методов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ному вовлечению родителей в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ния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школы с родителями буд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ым, ес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формы взаимодействия школы с родител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возможность применения новых методов к активному вовлечению родителей в процесс воспитания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основы проблемы взаимодействия школы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Organization Chart 19"/>
          <p:cNvGrpSpPr/>
          <p:nvPr/>
        </p:nvGrpSpPr>
        <p:grpSpPr>
          <a:xfrm>
            <a:off x="1042920" y="2205000"/>
            <a:ext cx="7055280" cy="3572280"/>
            <a:chOff x="1042920" y="2205000"/>
            <a:chExt cx="7055280" cy="3572280"/>
          </a:xfrm>
        </p:grpSpPr>
        <p:cxnSp>
          <p:nvCxnSpPr>
            <p:cNvPr id="51" name="_s1028"/>
            <p:cNvCxnSpPr>
              <a:stCxn id="52" idx="0"/>
              <a:endCxn id="53" idx="2"/>
            </p:cNvCxnSpPr>
            <p:nvPr/>
          </p:nvCxnSpPr>
          <p:spPr>
            <a:xfrm flipV="1" rot="16200000">
              <a:off x="5163120" y="3040920"/>
              <a:ext cx="714960" cy="1899720"/>
            </a:xfrm>
            <a:prstGeom prst="bentConnector3">
              <a:avLst>
                <a:gd name="adj1" fmla="val 169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029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3263400" y="3040560"/>
              <a:ext cx="714960" cy="1900800"/>
            </a:xfrm>
            <a:prstGeom prst="bentConnector3">
              <a:avLst>
                <a:gd name="adj1" fmla="val 169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030"/>
            <p:cNvSpPr/>
            <p:nvPr/>
          </p:nvSpPr>
          <p:spPr>
            <a:xfrm>
              <a:off x="2943000" y="2205000"/>
              <a:ext cx="3256200" cy="1428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1"/>
            <p:cNvSpPr/>
            <p:nvPr/>
          </p:nvSpPr>
          <p:spPr>
            <a:xfrm>
              <a:off x="1042920" y="4348440"/>
              <a:ext cx="3256200" cy="1428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емь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2"/>
            <p:cNvSpPr/>
            <p:nvPr/>
          </p:nvSpPr>
          <p:spPr>
            <a:xfrm>
              <a:off x="4842000" y="4348440"/>
              <a:ext cx="3256200" cy="1428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Обществен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30"/>
          <p:cNvSpPr/>
          <p:nvPr/>
        </p:nvSpPr>
        <p:spPr>
          <a:xfrm>
            <a:off x="6156360" y="1628640"/>
            <a:ext cx="252576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ы взаимодействия школы и родител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способы организации их совместной деятельности и 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5" descr="0001-001-Roditelskoe-sobranie"/>
          <p:cNvPicPr/>
          <p:nvPr/>
        </p:nvPicPr>
        <p:blipFill>
          <a:blip r:embed="rId1"/>
          <a:stretch/>
        </p:blipFill>
        <p:spPr>
          <a:xfrm>
            <a:off x="500040" y="2214720"/>
            <a:ext cx="4038480" cy="3238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6"/>
          <p:cNvSpPr/>
          <p:nvPr/>
        </p:nvSpPr>
        <p:spPr>
          <a:xfrm>
            <a:off x="4643280" y="1628640"/>
            <a:ext cx="403884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7"/>
          <p:cNvSpPr/>
          <p:nvPr/>
        </p:nvSpPr>
        <p:spPr>
          <a:xfrm>
            <a:off x="4643280" y="1628640"/>
            <a:ext cx="403884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 rot="10800000">
            <a:off x="5500800" y="4929120"/>
            <a:ext cx="1428480" cy="12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D:\Desktop\586554.jpg"/>
          <p:cNvPicPr/>
          <p:nvPr/>
        </p:nvPicPr>
        <p:blipFill>
          <a:blip r:embed="rId2"/>
          <a:stretch/>
        </p:blipFill>
        <p:spPr>
          <a:xfrm>
            <a:off x="5357880" y="4386240"/>
            <a:ext cx="1714320" cy="247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D:\Desktop\98172.jpg"/>
          <p:cNvPicPr/>
          <p:nvPr/>
        </p:nvPicPr>
        <p:blipFill>
          <a:blip r:embed="rId3"/>
          <a:stretch/>
        </p:blipFill>
        <p:spPr>
          <a:xfrm>
            <a:off x="4786200" y="2143080"/>
            <a:ext cx="1714680" cy="242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D:\Desktop\big.jpg"/>
          <p:cNvPicPr/>
          <p:nvPr/>
        </p:nvPicPr>
        <p:blipFill>
          <a:blip r:embed="rId4"/>
          <a:stretch/>
        </p:blipFill>
        <p:spPr>
          <a:xfrm>
            <a:off x="6572160" y="2214720"/>
            <a:ext cx="164304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взаимодействия школы с родителя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341360"/>
          <a:ext cx="8229600" cy="5006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дицион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радицион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ьские собрани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классные и общешкольные конференции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 консультации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ещение на дом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ьские тренинги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куссии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логические разминки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глые столы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ные журналы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кумы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ьские вечера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ьские чтени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ьские ринг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90680"/>
            <a:ext cx="814716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взаимодействия педагогов и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1844640"/>
          <a:ext cx="8785440" cy="4319640"/>
        </p:xfrm>
        <a:graphic>
          <a:graphicData uri="http://schemas.openxmlformats.org/drawingml/2006/table">
            <a:tbl>
              <a:tblPr/>
              <a:tblGrid>
                <a:gridCol w="2952720"/>
                <a:gridCol w="3168720"/>
                <a:gridCol w="266400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ективн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овы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ы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одительское собр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одительский лекто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онференция п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ену опы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Вечер вопросов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Диспут-размышл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роблемам восп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Встреча родителей 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цией школы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ми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«Дни открытых дверей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Взаимодействие 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ьским комитет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заимодействие 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ими групп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Групповые консуль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актические занят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одителей 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м специалис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Клу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Бесе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 Посещение на до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 Консультация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ыш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 Выполн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ых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уче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Переп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Телефонный разгово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пособы усовершенствования сотрудничества школы с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ые методы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англ. 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гд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«взаимный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«действова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значает способность взаимодействовать или находится в режиме беседы, диалога с чем-либо или с кем-ли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ые методы  воспитания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спитание через участие и взаимодейст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ставить родителей в активную пози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6:47:17Z</dcterms:created>
  <dc:creator>Администратор</dc:creator>
  <dc:description/>
  <dc:language>en-US</dc:language>
  <cp:lastModifiedBy>Дарья</cp:lastModifiedBy>
  <dcterms:modified xsi:type="dcterms:W3CDTF">2013-10-24T14:45:18Z</dcterms:modified>
  <cp:revision>71</cp:revision>
  <dc:subject/>
  <dc:title>Формы взаимодействия школы с родителями</dc:title>
</cp:coreProperties>
</file>