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5E3-52AB-4DA3-856C-1331666A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248-2556-4A90-8978-E407169E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C9A-A5D5-4F03-9983-B3D4BB6B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BF2-0A31-4E2C-860A-A87DE882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80DF-C251-4991-894C-1387C853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E5F0-FF6C-4E3C-9920-D0846F3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7B3D-6A4A-43EF-934F-931E75FC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6A0D-C804-42DA-942C-95B4CB7C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F05A-9A22-4557-A4C1-AA9CD824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A842-A493-4D71-BD20-DEBD7AEE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35EC-26E6-44C6-9B06-DE41ED2F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176-61CF-4789-B981-C7B5EFAC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4885-E259-44B0-92F7-48DFA2D0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4B42-5D83-4C39-A9AD-28992922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0A7E-26DA-44FB-AE1C-31A0BD10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F746-73D9-4C1D-ABED-23B7B3A7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E8CA-DBAA-442D-93BA-30EFA8A8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186-07A2-4252-99DE-473E7E6F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5AB-B24D-49F3-BCA6-98C4D10E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72A-BEEE-48E9-B1CF-B4E7B4E9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B1B-C923-47E6-839D-E418ED2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AFD-3E25-4F1F-B8C8-0F74D24C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43A-0E8D-49A5-B265-C4022F8E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F74-C349-47C8-B2E9-E77CB25D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88073"/>
                </a:gs>
                <a:gs pos="100000">
                  <a:srgbClr val="48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6B60-A1F2-4C90-88B6-856C736C5C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871"/>
                </a:gs>
                <a:gs pos="50000">
                  <a:srgbClr val="00cc99"/>
                </a:gs>
                <a:gs pos="100000">
                  <a:srgbClr val="0088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88073"/>
                </a:gs>
                <a:gs pos="100000">
                  <a:srgbClr val="008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871"/>
                </a:gs>
                <a:gs pos="100000">
                  <a:srgbClr val="5880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3E2E-E74A-401E-9D95-173481907C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Презентация на тему:</a:t>
            </a:r>
            <a:br>
              <a:rPr sz="4400"/>
            </a:br>
            <a:r>
              <a:rPr b="1" lang="en-US" sz="4800" spc="-1" strike="noStrike">
                <a:solidFill>
                  <a:srgbClr val="dddddd"/>
                </a:solidFill>
                <a:latin typeface="Tahoma"/>
              </a:rPr>
              <a:t>«Александр Сергеевич Пушкин»</a:t>
            </a:r>
            <a:endParaRPr b="1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809520" y="4800600"/>
            <a:ext cx="4953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и ученицы 3 «А»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вейко Анна и Ли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5029200" cy="3733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152280"/>
            <a:ext cx="5562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ahoma"/>
              </a:rPr>
              <a:t>Александр Серге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ahoma"/>
              </a:rPr>
              <a:t>Пушк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dddddd"/>
                </a:solidFill>
                <a:latin typeface="Tahoma"/>
              </a:rPr>
              <a:t>Годы жиз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Tahoma"/>
              </a:rPr>
              <a:t>      </a:t>
            </a:r>
            <a:r>
              <a:rPr b="1" i="1" lang="en-US" sz="2800" spc="-1" strike="noStrike">
                <a:solidFill>
                  <a:srgbClr val="dddddd"/>
                </a:solidFill>
                <a:latin typeface="Tahoma"/>
              </a:rPr>
              <a:t>(1799 – 183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dddddd"/>
                </a:solidFill>
                <a:latin typeface="Tahoma"/>
              </a:rPr>
              <a:t>Пушкин родился в Москве, в немецкой слободе. Отец, Сергей Львович,  принадлежал к старинному дворянскому роду; мать Надежда Осиповна, была внучкой « арапа Петра Великого».</a:t>
            </a:r>
            <a:br>
              <a:rPr sz="2800"/>
            </a:br>
            <a:r>
              <a:rPr b="1" i="1" lang="en-US" sz="28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dddddd"/>
                </a:solidFill>
                <a:latin typeface="Tahoma"/>
              </a:rPr>
              <a:t>Любовь к родному языку ему привили бабушка, Мария Алексеевна, превосходно говорившая и писавшая по-русски (явление редкое в дворянских семьях того времени), и няня Арина Родионовна.</a:t>
            </a:r>
            <a:br>
              <a:rPr sz="2800"/>
            </a:br>
            <a:endParaRPr b="1" lang="en-US" sz="28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124080" cy="4505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794040" y="152280"/>
            <a:ext cx="504504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Арина Родионовна (нян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тихотвор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священное Нян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друга дней моих суровы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олубка дряхлая мо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дна в глуши лесов соснов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Давно, давно ты ждешь ме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Ты под окном своей светл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орюешь, будто на час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медлят поминутно сп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твоих наморщенных ру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лядишь в забытые вор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 черный отдаленный пу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Тоска, предчувствия, з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Теснят твою всечасно гру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То чудится теб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838080"/>
            <a:ext cx="5722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аннему развит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литературных скло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ушкина способствов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литературные вечера в до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ушкиных, где собира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идные писа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59520" y="3048120"/>
            <a:ext cx="293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48006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1811 году Пушкин поступил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Царскосельский лицей. Здесь он впервые почувствовал себя Поэтом: талант его был признан товарищами по лице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7391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33920" y="2133720"/>
            <a:ext cx="541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конце 1835 года Пушкин получи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азрешение на издание своего журна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азванного им «Современник». В 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журнале печатались известные писате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Жуковский, Гоголь, Тютчев, Кольцов и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300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152280"/>
            <a:ext cx="792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Зимой в 1837 году Пушкин бы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мертельно ранен на дуэли, котор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остоялась на Черной речке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хоронен Пушкин на кладбище Святогорского монастыря, недалеко от села Михайловс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2844720"/>
            <a:ext cx="58006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191280" cy="4638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380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 всему миру, в разных уголках нашей земли стоят памятники этому великому русскому Поэт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5:49:30Z</dcterms:created>
  <dc:creator>Лавейко Аня и Лиза</dc:creator>
  <dc:description/>
  <dc:language>en-US</dc:language>
  <cp:lastModifiedBy>Вадим</cp:lastModifiedBy>
  <dcterms:modified xsi:type="dcterms:W3CDTF">2014-10-23T07:59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