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7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636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7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636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827892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67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6636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67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6636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827892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5640" y="1530000"/>
            <a:ext cx="86770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c00000"/>
              </a:solidFill>
              <a:latin typeface="Matreshka"/>
              <a:ea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26920" y="3528720"/>
            <a:ext cx="74534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pic>
        <p:nvPicPr>
          <p:cNvPr id="78" name="Picture 2" descr="D:\Лена\презентация реализации проекта о русском танце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31640" y="1881360"/>
            <a:ext cx="8280720" cy="431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D:\Лена\презентация реализации проекта о русском танце\Слайд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31640" y="1881360"/>
            <a:ext cx="8280720" cy="431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D:\Лена\презентация реализации проекта о русском танце\Слайд1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31640" y="1881360"/>
            <a:ext cx="8280720" cy="431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D:\Лена\презентация реализации проекта о русском танце\Слайд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31640" y="1881360"/>
            <a:ext cx="8280720" cy="43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D:\Лена\презентация реализации проекта о русском танце\Слайд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31640" y="1881360"/>
            <a:ext cx="8280720" cy="431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D:\Лена\презентация реализации проекта о русском танце\Слайд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31640" y="1881360"/>
            <a:ext cx="8280720" cy="431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D:\Лена\презентация реализации проекта о русском танце\Слайд1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31640" y="1881360"/>
            <a:ext cx="8280720" cy="431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D:\Лена\презентация реализации проекта о русском танце\Слайд1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31640" y="1881360"/>
            <a:ext cx="8280720" cy="4319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D:\Лена\презентация реализации проекта о русском танце\Слайд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31640" y="1881360"/>
            <a:ext cx="8280720" cy="4319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D:\Лена\презентация реализации проекта о русском танце\Слайд1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31640" y="1881360"/>
            <a:ext cx="8280720" cy="4319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D:\Лена\презентация реализации проекта о русском танце\Слайд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31640" y="1881360"/>
            <a:ext cx="8280720" cy="431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D:\Лена\презентация реализации проекта о русском танце\Слайд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6" name="Picture 2" descr="D:\Лена\презентация реализации проекта о русском танце\Слайд4.JPG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31640" y="1881360"/>
            <a:ext cx="8280720" cy="431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Лена\презентация реализации проекта о русском танце\Слайд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31640" y="1881360"/>
            <a:ext cx="8280720" cy="4319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D:\Лена\презентация реализации проекта о русском танце\Слайд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31640" y="1881360"/>
            <a:ext cx="8280720" cy="431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D:\Лена\презентация реализации проекта о русском танце\Слайд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31640" y="1881360"/>
            <a:ext cx="8280720" cy="4319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D:\Лена\презентация реализации проекта о русском танце\Слайд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1881360"/>
            <a:ext cx="8280720" cy="431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D:\Лена\презентация реализации проекта о русском танце\Слайд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Мища</cp:lastModifiedBy>
  <dcterms:modified xsi:type="dcterms:W3CDTF">2014-11-02T14:19:55Z</dcterms:modified>
  <cp:revision>78</cp:revision>
  <dc:subject/>
  <dc:title>Слайд 1</dc:title>
</cp:coreProperties>
</file>