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B51-B4DE-446B-85CC-AB81CDA5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E89-4C77-4A90-9AAE-A2C773E9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68D-D4AC-422A-80FE-9AB656E9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6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3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44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6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3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8AA-E3B7-4F02-A5EE-B2A88D93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9440" y="577440"/>
            <a:ext cx="85978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568-E548-4C4B-B575-A803357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6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3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44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6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3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D8A-B9DC-44C1-9E9B-F0163169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39440" y="577440"/>
            <a:ext cx="85978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46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53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944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46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53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D6F-63B1-4FA7-BD3E-2E043C85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9440" y="577440"/>
            <a:ext cx="85978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46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53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3944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46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53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80F-3A3A-4052-99C9-9E187669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577440"/>
            <a:ext cx="85978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06C-E9C7-42A2-96C2-30BBE397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5CA-DCE9-4CB1-9A19-056629F8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6C2-22EC-47B0-908F-8283DF74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8E4-D6F1-4B07-980D-D03884E2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DBC10-4DA5-4025-AC27-8B5341B29FF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ЕЗЕНТАЦИЯ К УРОКУ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О ОКРУЖАЮЩЕМУ МИРУ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В 1 КЛАС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0" y="2881080"/>
            <a:ext cx="10080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ЕМА: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«КТО ТАКИЕ ПТИЦЫ?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816520"/>
            <a:ext cx="10080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msmincho"/>
              </a:rPr>
              <a:t>Учитель ГБОУ СОШ № 34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msmincho"/>
              </a:rPr>
              <a:t>Невского района Санкт-Петербур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msmincho"/>
              </a:rPr>
              <a:t>Гостюхина Л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00000" y="1440000"/>
            <a:ext cx="8460000" cy="575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9640" y="6479640"/>
            <a:ext cx="953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ло птиц покрыто перьям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739440" y="-360"/>
            <a:ext cx="860436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акой же главный отличительный признак птиц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539280" y="76320"/>
            <a:ext cx="53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9640" y="360360"/>
            <a:ext cx="9360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лан рассказ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- Назв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- Размеры (большая, средних размеров, маленькая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- Окраска опер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- Особенности частей тела (например: клюва, глаз, хвоста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80360" y="76320"/>
            <a:ext cx="90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4200" y="1800000"/>
            <a:ext cx="86058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80360" y="76320"/>
            <a:ext cx="90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9640" y="100080"/>
            <a:ext cx="4140360" cy="3859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811760" y="179280"/>
            <a:ext cx="5087880" cy="3759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14440" y="3959280"/>
            <a:ext cx="4165560" cy="306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4859280" y="3983040"/>
            <a:ext cx="5040360" cy="303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9280" y="17928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СТВО НАСЕКОМ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6840360"/>
            <a:ext cx="61200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Кто же лишний? 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60000" y="76320"/>
            <a:ext cx="53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9440" y="711000"/>
            <a:ext cx="86043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19640" y="3780000"/>
            <a:ext cx="5759280" cy="306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39640" y="4319640"/>
            <a:ext cx="3780000" cy="2519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203800" y="122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539280" y="76320"/>
            <a:ext cx="53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6716880"/>
            <a:ext cx="97203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а какие группы можно разделить данных ры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539640" y="108000"/>
            <a:ext cx="4859280" cy="4211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40000" y="-7776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ЦАРСТВО РЫ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60360" y="0"/>
            <a:ext cx="9720360" cy="7551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34560" y="-1116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ЦАРСТВО ПТИ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39280" y="76320"/>
            <a:ext cx="53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msmincho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9440" y="75528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843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84120" y="0"/>
            <a:ext cx="6095880" cy="3780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859280" y="3419640"/>
            <a:ext cx="5219640" cy="4140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60360" y="3780000"/>
            <a:ext cx="4567320" cy="3779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480000" y="0"/>
            <a:ext cx="3600720" cy="3419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539280" y="76320"/>
            <a:ext cx="53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msmincho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9440" y="711000"/>
            <a:ext cx="86043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87360" y="0"/>
            <a:ext cx="969156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539280" y="76320"/>
            <a:ext cx="53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96720" y="4319640"/>
            <a:ext cx="356256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9440" y="75528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843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91960" y="209520"/>
            <a:ext cx="9525240" cy="7143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180360" y="255600"/>
            <a:ext cx="5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msmincho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9440" y="75528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843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1440" y="0"/>
            <a:ext cx="9539280" cy="7559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539280" y="76320"/>
            <a:ext cx="53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msmincho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6356520"/>
            <a:ext cx="9539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Самая крупная птица в мире - страу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9440" y="75528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843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9640" y="1440"/>
            <a:ext cx="9539280" cy="7560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539280" y="76320"/>
            <a:ext cx="53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6716880"/>
            <a:ext cx="9539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Пингвин использует крылья как лас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12:58:32Z</dcterms:created>
  <dc:creator/>
  <dc:description/>
  <dc:language>en-US</dc:language>
  <cp:lastModifiedBy/>
  <cp:revision>1</cp:revision>
  <dc:subject/>
  <dc:title/>
</cp:coreProperties>
</file>