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767-AB14-4277-A066-2C249903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903-4896-4F6C-9C94-705DF568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CF6-2294-4F6C-8FB5-72FC8300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4FB-1C39-4C64-85AB-C5EC6642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DF54-720E-4EE6-8DF7-8CD69B2D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3414-4962-429D-870E-12547B94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0859-7486-4641-832A-4ED14AED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23B2-77D1-4778-A26A-F889AE30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7B14-89FA-4218-AB1C-9EC89F50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538E-A818-40BB-8B44-889C364B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F431-50B3-4F00-A26A-8211DF3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13A-AA4C-454B-A7DE-996A9F2B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FE0F-6F9A-462A-B460-ADD35C8A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5AF8-C179-4F84-9700-F2EFACF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49DD-F13A-483E-A38B-2DA207A5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B6E3-9030-48DA-8741-C9C0EB2E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40B1-34C4-4412-915B-CF6CD415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45CB-86CD-4543-AEFB-DCA9AB04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386A-9FD4-46C5-BC0A-585AA6EF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17A0-105D-4631-87DE-6DDB72F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6CA4-11E0-4C0F-89C8-ED074776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AD09-98A5-479F-8297-8A7107B0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F4A-CF2B-45F5-AAC4-4E9C16C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051D-9E3E-4C25-ABF7-E907BE4E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0781-E6BE-4003-A150-97458AB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3267-F1DE-40BC-BD8B-7B625B4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3638-BF86-46A4-AD21-EF4175B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A589-6339-4F07-A7A5-BAD28A75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2319-4701-45B6-BA18-B0435665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2124-ED57-438C-BB1F-A73C32B7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B588-22A5-4FE3-B7F0-BD230312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F49E-21F7-4FF4-A3F1-A0BA1869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F3442-5FD2-4B6F-9E0F-10C6D7A9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29C-B6F4-45D1-BFF1-BBCA822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045C9-694D-4CF8-8656-85CCA81D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04E1-4697-447B-A5A7-AED9257D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06706-DD40-43BB-9652-37F88EAD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86560-59D4-4499-85AD-6E3CD1E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928F2-0CEA-4CB8-A931-1ACD5F05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8D0D9-F68B-4E25-8F91-E4BFEDE8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0ACE-99F5-4DDD-8990-2567C5AD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1A70-8883-4B77-87C6-02066B9A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0C9F-739D-4A70-8FEA-0B941105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C82E-5517-4BE8-A221-D33ECAD6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A99-68C6-4F51-B301-4C483F93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4123D-61AF-4414-88E7-8616FF2E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572ED-35EA-4BE0-837F-28B1E1D7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FB067-F471-44B3-AB73-23185BC5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BB73-5A58-4313-8844-D8989E5F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DCFF7-5BF5-4F49-B02D-51FD11ED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DBB74-FE00-4E44-8651-F0AD9B8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35B7-AB4C-4BF0-9F07-B77F2D2F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99027-CC92-4B11-B674-D975410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DA701-BD36-453C-82CB-AF833AE6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0061-A2D1-4BE9-810A-0FBBFA1D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D94-60A9-4118-B705-B9263981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FCF4-67DF-4D9E-B801-E67F97D9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E7B-73A2-4091-8C8D-30C281C7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D2E-D96C-4B6B-B028-216CA1E6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15B-1248-46E0-8E33-0D695F6D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AFB5-C3ED-4D72-B5B4-AEF61175547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3B7C-749C-482E-AF6D-157AA19E9E9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B3F4-9927-4085-A345-25263C2E7EA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8C29-E757-4046-AE45-D6C851D7185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E908-0441-4DD2-B641-6C4F9C48BAF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4"/>
          <p:cNvSpPr/>
          <p:nvPr/>
        </p:nvSpPr>
        <p:spPr>
          <a:xfrm>
            <a:off x="1187280" y="907920"/>
            <a:ext cx="70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филактика  суицидального поведения  у подрост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298440" y="-493560"/>
            <a:ext cx="8699400" cy="1487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-360" y="1600200"/>
            <a:ext cx="5219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азговоры о смерти: “Я собираюсь покончить с собой”; “Я не могу так дальше жить”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амёки  о своем намерении: “Я больше не буду ни для кого проблемой”; “Тебе больше не придется обо мне волноваться”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ного шутят на тему самоубийств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интересованность вопросами смер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4" descr="69ca3f2fd1180c9c6083799ea9c5a008"/>
          <p:cNvPicPr/>
          <p:nvPr/>
        </p:nvPicPr>
        <p:blipFill>
          <a:blip r:embed="rId2"/>
          <a:stretch/>
        </p:blipFill>
        <p:spPr>
          <a:xfrm>
            <a:off x="5219640" y="2492280"/>
            <a:ext cx="3667320" cy="27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73454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6840" y="1052640"/>
            <a:ext cx="4691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 Раздают другим вещи, имеющие большую личную значимость, приводят в порядок дела, мирятся с давними врагами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 Демонстрируют радикальные перемены в поведении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. Проявляют признаки беспомощности, безнадежности и отчая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_14990"/>
          <p:cNvPicPr/>
          <p:nvPr/>
        </p:nvPicPr>
        <p:blipFill>
          <a:blip r:embed="rId2"/>
          <a:stretch/>
        </p:blipFill>
        <p:spPr>
          <a:xfrm>
            <a:off x="5003640" y="2205000"/>
            <a:ext cx="3849840" cy="28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73454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6840" y="1196640"/>
            <a:ext cx="5194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 Социально изолирован (не имеет друзей или имеет только одного друга), чувствует себя отверженны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 Живет в нестабильном окружени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 Ощущает себя жертвой насил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 Предпринимал раньше попытки суицид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5. Имеет склонность к самоубийству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6. Перенес тяжелую потерю (смерть кого-то из близких, развод родителей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7. Слишком критически настроен по отношению к себ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1210079445_4003791_2237554"/>
          <p:cNvPicPr/>
          <p:nvPr/>
        </p:nvPicPr>
        <p:blipFill>
          <a:blip r:embed="rId2"/>
          <a:stretch/>
        </p:blipFill>
        <p:spPr>
          <a:xfrm>
            <a:off x="5867280" y="1557360"/>
            <a:ext cx="30196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334800" y="493560"/>
            <a:ext cx="7894800" cy="565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357120" y="142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142920" y="21420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 препятствующие возникновению суицидаль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214200" y="1143000"/>
            <a:ext cx="8715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моциональная привязанность к значимым родным и близк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раженное чувство долга, обяз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нцентрация внимания на состоянии собственного здоровья, боязнь причинения себе физического ущерб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ет общественного мнения, представления о позорности          самоубийства и неприятие (осуждение) суицидальных моделей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личие жизненных, творческих, семейных и других планов, замыс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личие духовных, нравственных и эстетических критериев в мышл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сихологическая гибкость и адаптированности, умение компенсировать негативные личные переживания, использовать методы снятия психической напряж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личие актуальных жизненных ценностей, ц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явление интереса к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ивязанность к родственникам, близким людям, степень значимости отношений с н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анирование своего ближайшего будущего и перспекти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drawingml/2006/table">
            <a:tbl>
              <a:tblPr/>
              <a:tblGrid>
                <a:gridCol w="554040"/>
                <a:gridCol w="858960"/>
                <a:gridCol w="4143240"/>
                <a:gridCol w="3587760"/>
              </a:tblGrid>
              <a:tr h="363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сновные виды деятельности с учащими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 что обратить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1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–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тановление и развитие самооценки учащих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 9 лет, как правило, проявляется интерес к смер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стественно, если в этом возрасте самооценка слегка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вышена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искованные поступки могут совершаться из-за интереса к смер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9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даптация к среднему звену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ктивизация интереса к коллектив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оррекция детской застенчивости; развитие эмоциональной сферы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ктивизация интереса к эмоционально-волевой сфере человеческой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звитие и коррекция эмоционально-волевой сферы;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флексия понятий «герой, героизм, патрио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54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зкое падение самооценки; повышение агрессивности, тревожности, ранимости, неадекватности реагирования в общ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звитие навыков общения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ормирование навыков саморегуляции, реализация потребности в эмоциональной поддержке со стороны взрослых (семьи, педагог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3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езначительно снижение тревожности и агрессивности сочетается с нестабильной самооценкой;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ктивизация сферы профессиональных интере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звитие навыков общения; формирование навыков саморегуляции; первичное исследование сферы профессиональных интере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1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ктивизация сферы профессиональных интересов; рост потребностей в психологических знаниях о себе; поиск целей и смысла жизни; просыпается конфликт «отцов и дете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сихологическая, педагогическая подготовка учащихся к профильному выбору;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учение построению жизненных перспектив и планов с учетом психологических знаний о себ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фессиональное самоопределение. Раздумья о любви, о семейных отношениях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Юношеский максимализм, идеализм, высокий уровень критики жизненного устройства, радикальность мнений и поступков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явление собственной внутренней философии, отношения к жизни и ее смыс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етрадиционные педагогические и психологические приемы обучения, общения, воспитани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товность педагога помочь найти ответ на вопросы, которые ставят перед ним учащие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wallpapers_ru_020907_luana_alien_sun_moon_flow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66348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Rectangle 4" descr=""/>
          <p:cNvPicPr/>
          <p:nvPr/>
        </p:nvPicPr>
        <p:blipFill>
          <a:blip r:embed="rId2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rebuchet MS"/>
              </a:rPr>
              <a:t>Внимательно выслушайте решившегося на самоубийство подростка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rebuchet MS"/>
              </a:rPr>
              <a:t>Оцените серьезность намерений и чувств решившегося на самоубийство человека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rebuchet MS"/>
              </a:rPr>
              <a:t>Оцените глубину эмоционального кризиса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rebuchet MS"/>
              </a:rPr>
              <a:t>Внимательно отнеситесь ко всем, даже самым незначительным обидам и жалобам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rebuchet MS"/>
              </a:rPr>
              <a:t>Не бойтесь прямо спросить, не думают ли он или она о самоубийств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C:\Users\User\Documents\картинки\оформлен\0_b08ee_acef360_XL.png"/>
          <p:cNvPicPr/>
          <p:nvPr/>
        </p:nvPicPr>
        <p:blipFill>
          <a:blip r:embed="rId1"/>
          <a:stretch/>
        </p:blipFill>
        <p:spPr>
          <a:xfrm rot="13482600">
            <a:off x="653400" y="361800"/>
            <a:ext cx="2160360" cy="274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User\Documents\картинки\оформлен\0_841b6_da683c9e_XL.png"/>
          <p:cNvPicPr/>
          <p:nvPr/>
        </p:nvPicPr>
        <p:blipFill>
          <a:blip r:embed="rId2"/>
          <a:stretch/>
        </p:blipFill>
        <p:spPr>
          <a:xfrm rot="1365000">
            <a:off x="2126880" y="2577960"/>
            <a:ext cx="5904000" cy="4930920"/>
          </a:xfrm>
          <a:prstGeom prst="rect">
            <a:avLst/>
          </a:prstGeom>
          <a:ln w="0">
            <a:noFill/>
          </a:ln>
        </p:spPr>
      </p:pic>
      <p:pic>
        <p:nvPicPr>
          <p:cNvPr id="254" name="Заголовок 3" descr=""/>
          <p:cNvPicPr/>
          <p:nvPr/>
        </p:nvPicPr>
        <p:blipFill>
          <a:blip r:embed="rId3"/>
          <a:srcRect l="0" t="0" r="18141" b="45084"/>
          <a:stretch/>
        </p:blipFill>
        <p:spPr>
          <a:xfrm>
            <a:off x="395280" y="2492280"/>
            <a:ext cx="695628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3170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lbertus Extra Bold"/>
              </a:rPr>
              <a:t>Мир, вероятно, спасти уже не удастся, но отдельного человека всегда можно</a:t>
            </a: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lbertus Extra Bold"/>
              </a:rPr>
              <a:t>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lbertus Extra Bold"/>
              </a:rPr>
              <a:t>Иосиф Бродск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2"/>
          <p:cNvSpPr/>
          <p:nvPr/>
        </p:nvSpPr>
        <p:spPr>
          <a:xfrm>
            <a:off x="214200" y="357120"/>
            <a:ext cx="85726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a2e4e"/>
                </a:solidFill>
                <a:latin typeface="Times New Roman"/>
              </a:rPr>
              <a:t>Суицид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знанный акт устранения из жизни под воздействием острых психотравмирующих ситуаций, при котором собственная жизнь теряет для человека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a2e4e"/>
                </a:solidFill>
                <a:latin typeface="Times New Roman"/>
              </a:rPr>
              <a:t>Суицидальное повед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это проявление суицидальной активности – мысли, намерения, высказывания, угрозы, попытки, поку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a2e4e"/>
                </a:solidFill>
                <a:latin typeface="Times New Roman"/>
              </a:rPr>
              <a:t>Суициден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человек, совершивший попытку суицида, либо демонстрирующий суицидальные накло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84009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a2e4e"/>
                </a:solidFill>
                <a:latin typeface="Times New Roman"/>
                <a:ea typeface="Arial"/>
              </a:rPr>
              <a:t>Статистика суицида в России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России самоубийство, как причина смерти, находится на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ятом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сте в ряду других причи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оссия занимает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торо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место, после Литвы, по уровню завершенных самоубийст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ждый двенадцатый подросток в возрасте 13-17 лет пытается совершить попытку самоубийств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исло законченных суицидов среди юношей в среднем в 3 раза больше, чем среди девуше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вушки пытаются покончить с собой в 4 раза чаще, чем юнош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иболее частой причиной попытки самоубийств среди подростков - семейные конфликты с родителями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 втором месте – угроза потери близкого человека (неразделенная любовь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 третьем месте – несправедливое отношение, обвинени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5% суицидов предпринимали повторные попытки самоубийст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7255080" cy="1182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рые психотравмирующие, стрессовые ситуации и обстоятельства, которые подталкивают человека к роковому решению (горе, разлука, вина, несчастная любовь, соматические заболевания и уродства и т.д.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утренние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е особенности личности, способствующие развитию суицидальных мыслей и намерений (эмоциональная нестабильность, астеничность, аффективность, конформизм, душевная боль, инфантильность, дефекты целеполагания и целедостижения, низкий самоконтроль и низкая стрессовая толерантность, трудность волевых усилий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Схема 1" descr=""/>
          <p:cNvPicPr/>
          <p:nvPr/>
        </p:nvPicPr>
        <p:blipFill>
          <a:blip r:embed="rId1"/>
          <a:stretch/>
        </p:blipFill>
        <p:spPr>
          <a:xfrm>
            <a:off x="633240" y="244440"/>
            <a:ext cx="7645680" cy="42609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428760" y="4071960"/>
            <a:ext cx="835812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a2e4e"/>
                </a:solidFill>
                <a:uFillTx/>
                <a:latin typeface="Arial"/>
              </a:rPr>
              <a:t>Самоубийство </a:t>
            </a:r>
            <a:r>
              <a:rPr b="1" i="1" lang="ru-RU" sz="2400" spc="-1" strike="noStrike">
                <a:solidFill>
                  <a:srgbClr val="8a2e4e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8a2e4e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ишком  противоестественный  и кардинальный шаг, поэтому решение на его совершение вызревает  не  мгновенно.  Ему,  как правило, предшествует более или менее продолжительный период переживаний, борьбы мотивов и поиска выхода из создавшейся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98440" y="311040"/>
            <a:ext cx="7639200" cy="1157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 Давление в школ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Давление со стороны сверстников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 Давление родителей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 Физическая непривлекательность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 Сексуальность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298440" y="311040"/>
            <a:ext cx="7639200" cy="1157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6. Одежда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7. Недостаток общ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8. Ощущение «второсортности»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9. Физическое бессилие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10. Неуспешность в учеб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11. Бесперспективность и безнадежнос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7:15:52Z</dcterms:created>
  <dc:creator>Windows 7</dc:creator>
  <dc:description/>
  <dc:language>en-US</dc:language>
  <cp:lastModifiedBy>-</cp:lastModifiedBy>
  <dcterms:modified xsi:type="dcterms:W3CDTF">2014-11-02T12:50:12Z</dcterms:modified>
  <cp:revision>25</cp:revision>
  <dc:subject/>
  <dc:title>Слайд 1</dc:title>
</cp:coreProperties>
</file>