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780A-9640-463F-BF89-C00202EB68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FF97-809C-4F68-9BBD-86204CA76A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D3B-0273-43D3-8733-51E55759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F20-D5C5-4800-B857-2287F2AD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6CB-2FB3-4DA6-969D-E8CEBA8A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BB81-9532-42AC-A8D6-B6BD1CC1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C68-A8BA-444E-9685-3D579644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B41-E339-4894-BACD-BD621017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D2D-FBB1-4062-940B-0DB0F8C3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B4A-7003-441B-AA7F-0B788302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4E3-934E-4DB5-978D-C4B7DCD6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A8D-4BD6-4EDB-9DAD-27499F8C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ED0-1542-4FA1-B1AC-91302A87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E46-F417-4762-B7F5-EC6D698A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2C7D-C0F1-44AB-A5D6-1C38A92C2F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hyperlink" Target="file:///&#1056;&#1072;&#1076;&#1091;&#1075;&#1072;.ppt" TargetMode="External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Царёва\Pictures\компот.gif"/>
          <p:cNvPicPr/>
          <p:nvPr/>
        </p:nvPicPr>
        <p:blipFill>
          <a:blip r:embed="rId1"/>
          <a:stretch/>
        </p:blipFill>
        <p:spPr>
          <a:xfrm>
            <a:off x="1214280" y="1857240"/>
            <a:ext cx="1365480" cy="1657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Царёва\Pictures\сено.gif"/>
          <p:cNvPicPr/>
          <p:nvPr/>
        </p:nvPicPr>
        <p:blipFill>
          <a:blip r:embed="rId2"/>
          <a:stretch/>
        </p:blipFill>
        <p:spPr>
          <a:xfrm>
            <a:off x="2857680" y="2000160"/>
            <a:ext cx="2469960" cy="158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Царёва\Desktop\Царева Е.А.Улыбка.Видеоклип\акация.jpg"/>
          <p:cNvPicPr/>
          <p:nvPr/>
        </p:nvPicPr>
        <p:blipFill>
          <a:blip r:embed="rId3"/>
          <a:stretch/>
        </p:blipFill>
        <p:spPr>
          <a:xfrm>
            <a:off x="5500800" y="1785960"/>
            <a:ext cx="2746440" cy="1809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4"/>
          <a:stretch/>
        </p:blipFill>
        <p:spPr>
          <a:xfrm>
            <a:off x="865080" y="853920"/>
            <a:ext cx="2067120" cy="11462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5"/>
          <a:stretch/>
        </p:blipFill>
        <p:spPr>
          <a:xfrm>
            <a:off x="4413240" y="1285920"/>
            <a:ext cx="110340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7" descr=""/>
          <p:cNvPicPr/>
          <p:nvPr/>
        </p:nvPicPr>
        <p:blipFill>
          <a:blip r:embed="rId6"/>
          <a:stretch/>
        </p:blipFill>
        <p:spPr>
          <a:xfrm>
            <a:off x="2706840" y="1352520"/>
            <a:ext cx="1103040" cy="114624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8" descr=""/>
          <p:cNvPicPr/>
          <p:nvPr/>
        </p:nvPicPr>
        <p:blipFill>
          <a:blip r:embed="rId7"/>
          <a:stretch/>
        </p:blipFill>
        <p:spPr>
          <a:xfrm>
            <a:off x="5559480" y="639720"/>
            <a:ext cx="1103400" cy="11462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9" descr=""/>
          <p:cNvPicPr/>
          <p:nvPr/>
        </p:nvPicPr>
        <p:blipFill>
          <a:blip r:embed="rId8"/>
          <a:stretch/>
        </p:blipFill>
        <p:spPr>
          <a:xfrm>
            <a:off x="5353200" y="639720"/>
            <a:ext cx="1103040" cy="1146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0" descr=""/>
          <p:cNvPicPr/>
          <p:nvPr/>
        </p:nvPicPr>
        <p:blipFill>
          <a:blip r:embed="rId9"/>
          <a:stretch/>
        </p:blipFill>
        <p:spPr>
          <a:xfrm>
            <a:off x="5132520" y="639720"/>
            <a:ext cx="1103040" cy="11462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1" descr=""/>
          <p:cNvPicPr/>
          <p:nvPr/>
        </p:nvPicPr>
        <p:blipFill>
          <a:blip r:embed="rId10"/>
          <a:stretch/>
        </p:blipFill>
        <p:spPr>
          <a:xfrm>
            <a:off x="3041640" y="3865680"/>
            <a:ext cx="5054760" cy="1187280"/>
          </a:xfrm>
          <a:prstGeom prst="rect">
            <a:avLst/>
          </a:prstGeom>
          <a:ln w="0">
            <a:noFill/>
          </a:ln>
        </p:spPr>
      </p:pic>
      <p:sp>
        <p:nvSpPr>
          <p:cNvPr id="58" name="Стрелка вправо с вырезом 12">
            <a:hlinkClick r:id="rId11"/>
          </p:cNvPr>
          <p:cNvSpPr/>
          <p:nvPr/>
        </p:nvSpPr>
        <p:spPr>
          <a:xfrm rot="10800000">
            <a:off x="7215120" y="5571720"/>
            <a:ext cx="1214640" cy="785880"/>
          </a:xfrm>
          <a:custGeom>
            <a:avLst/>
            <a:gdLst>
              <a:gd name="textAreaLeft" fmla="*/ 196200 w 1214640"/>
              <a:gd name="textAreaRight" fmla="*/ 1018440 w 1214640"/>
              <a:gd name="textAreaTop" fmla="*/ 196560 h 785880"/>
              <a:gd name="textAreaBottom" fmla="*/ 5896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612" y="5400"/>
                </a:lnTo>
                <a:lnTo>
                  <a:pt x="14612" y="0"/>
                </a:lnTo>
                <a:lnTo>
                  <a:pt x="21600" y="10800"/>
                </a:lnTo>
                <a:lnTo>
                  <a:pt x="14612" y="21600"/>
                </a:lnTo>
                <a:lnTo>
                  <a:pt x="14612" y="16200"/>
                </a:lnTo>
                <a:lnTo>
                  <a:pt x="0" y="16200"/>
                </a:lnTo>
                <a:lnTo>
                  <a:pt x="349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uchitel\Local Settings\Temporary Internet Files\Content.IE5\EWLNKHN5\MM900283477[1].gif"/>
          <p:cNvPicPr/>
          <p:nvPr/>
        </p:nvPicPr>
        <p:blipFill>
          <a:blip r:embed="rId12"/>
          <a:stretch/>
        </p:blipFill>
        <p:spPr>
          <a:xfrm>
            <a:off x="857160" y="3857760"/>
            <a:ext cx="857520" cy="992160"/>
          </a:xfrm>
          <a:prstGeom prst="rect">
            <a:avLst/>
          </a:prstGeom>
          <a:ln w="0">
            <a:noFill/>
          </a:ln>
        </p:spPr>
      </p:pic>
      <p:pic>
        <p:nvPicPr>
          <p:cNvPr id="60" name="отсчет времени 25с.wma" descr=""/>
          <p:cNvPicPr/>
          <p:nvPr/>
        </p:nvPicPr>
        <p:blipFill>
          <a:blip r:embed="rId13"/>
          <a:stretch/>
        </p:blipFill>
        <p:spPr>
          <a:xfrm>
            <a:off x="883908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753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2:31:12Z</dcterms:created>
  <dc:creator>Царёва</dc:creator>
  <dc:description/>
  <dc:language>en-US</dc:language>
  <cp:lastModifiedBy>Zver</cp:lastModifiedBy>
  <dcterms:modified xsi:type="dcterms:W3CDTF">2012-12-17T06:49:57Z</dcterms:modified>
  <cp:revision>28</cp:revision>
  <dc:subject/>
  <dc:title>Слайд 1</dc:title>
</cp:coreProperties>
</file>